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4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39.xml.rels" ContentType="application/vnd.openxmlformats-package.relationships+xml"/>
  <Override PartName="/ppt/notesSlides/_rels/notesSlide133.xml.rels" ContentType="application/vnd.openxmlformats-package.relationships+xml"/>
  <Override PartName="/ppt/notesSlides/_rels/notesSlide1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120.xml.rels" ContentType="application/vnd.openxmlformats-package.relationships+xml"/>
  <Override PartName="/ppt/notesSlides/_rels/notesSlide135.xml.rels" ContentType="application/vnd.openxmlformats-package.relationships+xml"/>
  <Override PartName="/ppt/notesSlides/_rels/notesSlide111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4.xml.rels" ContentType="application/vnd.openxmlformats-package.relationships+xml"/>
  <Override PartName="/ppt/notesSlides/_rels/notesSlide125.xml.rels" ContentType="application/vnd.openxmlformats-package.relationships+xml"/>
  <Override PartName="/ppt/notesSlides/_rels/notesSlide112.xml.rels" ContentType="application/vnd.openxmlformats-package.relationships+xml"/>
  <Override PartName="/ppt/notesSlides/_rels/notesSlide94.xml.rels" ContentType="application/vnd.openxmlformats-package.relationships+xml"/>
  <Override PartName="/ppt/notesSlides/_rels/notesSlide113.xml.rels" ContentType="application/vnd.openxmlformats-package.relationships+xml"/>
  <Override PartName="/ppt/notesSlides/_rels/notesSlide123.xml.rels" ContentType="application/vnd.openxmlformats-package.relationships+xml"/>
  <Override PartName="/ppt/notesSlides/_rels/notesSlide13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137.xml.rels" ContentType="application/vnd.openxmlformats-package.relationships+xml"/>
  <Override PartName="/ppt/notesSlides/_rels/notesSlide146.xml.rels" ContentType="application/vnd.openxmlformats-package.relationships+xml"/>
  <Override PartName="/ppt/notesSlides/_rels/notesSlide145.xml.rels" ContentType="application/vnd.openxmlformats-package.relationships+xml"/>
  <Override PartName="/ppt/notesSlides/_rels/notesSlide152.xml.rels" ContentType="application/vnd.openxmlformats-package.relationships+xml"/>
  <Override PartName="/ppt/notesSlides/_rels/notesSlide149.xml.rels" ContentType="application/vnd.openxmlformats-package.relationships+xml"/>
  <Override PartName="/ppt/notesSlides/_rels/notesSlide150.xml.rels" ContentType="application/vnd.openxmlformats-package.relationships+xml"/>
  <Override PartName="/ppt/notesSlides/_rels/notesSlide115.xml.rels" ContentType="application/vnd.openxmlformats-package.relationships+xml"/>
  <Override PartName="/ppt/notesSlides/_rels/notesSlide108.xml.rels" ContentType="application/vnd.openxmlformats-package.relationships+xml"/>
  <Override PartName="/ppt/notesSlides/_rels/notesSlide109.xml.rels" ContentType="application/vnd.openxmlformats-package.relationships+xml"/>
  <Override PartName="/ppt/notesSlides/_rels/notesSlide110.xml.rels" ContentType="application/vnd.openxmlformats-package.relationships+xml"/>
  <Override PartName="/ppt/notesSlides/notesSlide123.xml" ContentType="application/vnd.openxmlformats-officedocument.presentationml.notesSlide+xml"/>
  <Override PartName="/ppt/notesSlides/notesSlide120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117.xml" ContentType="application/vnd.openxmlformats-officedocument.presentationml.notesSlide+xml"/>
  <Override PartName="/ppt/notesSlides/notesSlide115.xml" ContentType="application/vnd.openxmlformats-officedocument.presentationml.notesSlide+xml"/>
  <Override PartName="/ppt/notesSlides/notesSlide113.xml" ContentType="application/vnd.openxmlformats-officedocument.presentationml.notesSlide+xml"/>
  <Override PartName="/ppt/notesSlides/notesSlide94.xml" ContentType="application/vnd.openxmlformats-officedocument.presentationml.notesSlide+xml"/>
  <Override PartName="/ppt/notesSlides/notesSlide112.xml" ContentType="application/vnd.openxmlformats-officedocument.presentationml.notesSlide+xml"/>
  <Override PartName="/ppt/notesSlides/notesSlide1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135.xml" ContentType="application/vnd.openxmlformats-officedocument.presentationml.notesSlide+xml"/>
  <Override PartName="/ppt/notesSlides/notesSlide137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138.xml" ContentType="application/vnd.openxmlformats-officedocument.presentationml.notesSlide+xml"/>
  <Override PartName="/ppt/notesSlides/notesSlide14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34.xml" ContentType="application/vnd.openxmlformats-officedocument.presentationml.notesSlide+xml"/>
  <Override PartName="/ppt/notesSlides/notesSlide111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46.xml" ContentType="application/vnd.openxmlformats-officedocument.presentationml.notesSlide+xml"/>
  <Override PartName="/ppt/notesSlides/notesSlide109.xml" ContentType="application/vnd.openxmlformats-officedocument.presentationml.notesSlide+xml"/>
  <Override PartName="/ppt/notesSlides/notesSlide152.xml" ContentType="application/vnd.openxmlformats-officedocument.presentationml.notesSlide+xml"/>
  <Override PartName="/ppt/notesSlides/notesSlide108.xml" ContentType="application/vnd.openxmlformats-officedocument.presentationml.notesSlide+xml"/>
  <Override PartName="/ppt/notesSlides/notesSlide150.xml" ContentType="application/vnd.openxmlformats-officedocument.presentationml.notesSlide+xml"/>
  <Override PartName="/ppt/notesSlides/notesSlide110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13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39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25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1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55.pct" ContentType="image/x-pict"/>
  <Override PartName="/ppt/media/image19.png" ContentType="image/png"/>
  <Override PartName="/ppt/media/image28.jpeg" ContentType="image/jpeg"/>
  <Override PartName="/ppt/media/image51.jpeg" ContentType="image/jpeg"/>
  <Override PartName="/ppt/media/image20.png" ContentType="image/png"/>
  <Override PartName="/ppt/media/image36.jpeg" ContentType="image/jpeg"/>
  <Override PartName="/ppt/media/image57.png" ContentType="image/png"/>
  <Override PartName="/ppt/media/image18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15.png" ContentType="image/png"/>
  <Override PartName="/ppt/media/image49.pct" ContentType="image/x-pict"/>
  <Override PartName="/ppt/media/image14.png" ContentType="image/png"/>
  <Override PartName="/ppt/media/image48.pct" ContentType="image/x-pict"/>
  <Override PartName="/ppt/media/image1.pct" ContentType="image/x-pict"/>
  <Override PartName="/ppt/media/image4.png" ContentType="image/png"/>
  <Override PartName="/ppt/media/image31.pct" ContentType="image/x-pict"/>
  <Override PartName="/ppt/media/image27.png" ContentType="image/png"/>
  <Override PartName="/ppt/media/image25.png" ContentType="image/png"/>
  <Override PartName="/ppt/media/image2.png" ContentType="image/png"/>
  <Override PartName="/ppt/media/image26.png" ContentType="image/png"/>
  <Override PartName="/ppt/media/image34.jpeg" ContentType="image/jpeg"/>
  <Override PartName="/ppt/media/image38.jpeg" ContentType="image/jpeg"/>
  <Override PartName="/ppt/media/image40.jpeg" ContentType="image/jpeg"/>
  <Override PartName="/ppt/media/image44.jpeg" ContentType="image/jpeg"/>
  <Override PartName="/ppt/media/image42.png" ContentType="image/png"/>
  <Override PartName="/ppt/media/image43.png" ContentType="image/png"/>
  <Override PartName="/ppt/media/image12.png" ContentType="image/png"/>
  <Override PartName="/ppt/media/image46.pct" ContentType="image/x-pict"/>
  <Override PartName="/ppt/media/image11.png" ContentType="image/png"/>
  <Override PartName="/ppt/media/image45.jpeg" ContentType="image/jpeg"/>
  <Override PartName="/ppt/media/image41.jpeg" ContentType="image/jpeg"/>
  <Override PartName="/ppt/media/image50.jpeg" ContentType="image/jpeg"/>
  <Override PartName="/ppt/media/image56.png" ContentType="image/png"/>
  <Override PartName="/ppt/media/image13.png" ContentType="image/png"/>
  <Override PartName="/ppt/media/image54.jpeg" ContentType="image/jpeg"/>
  <Override PartName="/ppt/media/image47.pct" ContentType="image/x-pict"/>
  <Override PartName="/ppt/media/image8.png" ContentType="image/png"/>
  <Override PartName="/ppt/media/image3.png" ContentType="image/png"/>
  <Override PartName="/ppt/media/image30.pct" ContentType="image/x-pict"/>
  <Override PartName="/ppt/media/image33.png" ContentType="image/png"/>
  <Override PartName="/ppt/media/image53.jpeg" ContentType="image/jpeg"/>
  <Override PartName="/ppt/media/image7.pct" ContentType="image/x-pict"/>
  <Override PartName="/ppt/media/image37.pct" ContentType="image/x-pict"/>
  <Override PartName="/ppt/media/image9.png" ContentType="image/png"/>
  <Override PartName="/ppt/media/image6.pct" ContentType="image/x-pict"/>
  <Override PartName="/ppt/media/image39.png" ContentType="image/png"/>
  <Override PartName="/ppt/media/image5.png" ContentType="image/png"/>
  <Override PartName="/ppt/media/image52.jpeg" ContentType="image/jpeg"/>
  <Override PartName="/ppt/media/image29.jpeg" ContentType="image/jpeg"/>
  <Override PartName="/ppt/media/image35.jpeg" ContentType="image/jpeg"/>
  <Override PartName="/ppt/media/image10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06.xml.rels" ContentType="application/vnd.openxmlformats-package.relationships+xml"/>
  <Override PartName="/ppt/slides/_rels/slide73.xml.rels" ContentType="application/vnd.openxmlformats-package.relationships+xml"/>
  <Override PartName="/ppt/slides/_rels/slide150.xml.rels" ContentType="application/vnd.openxmlformats-package.relationships+xml"/>
  <Override PartName="/ppt/slides/_rels/slide76.xml.rels" ContentType="application/vnd.openxmlformats-package.relationships+xml"/>
  <Override PartName="/ppt/slides/_rels/slide109.xml.rels" ContentType="application/vnd.openxmlformats-package.relationships+xml"/>
  <Override PartName="/ppt/slides/_rels/slide103.xml.rels" ContentType="application/vnd.openxmlformats-package.relationships+xml"/>
  <Override PartName="/ppt/slides/_rels/slide26.xml.rels" ContentType="application/vnd.openxmlformats-package.relationships+xml"/>
  <Override PartName="/ppt/slides/_rels/slide70.xml.rels" ContentType="application/vnd.openxmlformats-package.relationships+xml"/>
  <Override PartName="/ppt/slides/_rels/slide105.xml.rels" ContentType="application/vnd.openxmlformats-package.relationships+xml"/>
  <Override PartName="/ppt/slides/_rels/slide72.xml.rels" ContentType="application/vnd.openxmlformats-package.relationships+xml"/>
  <Override PartName="/ppt/slides/_rels/slide75.xml.rels" ContentType="application/vnd.openxmlformats-package.relationships+xml"/>
  <Override PartName="/ppt/slides/_rels/slide108.xml.rels" ContentType="application/vnd.openxmlformats-package.relationships+xml"/>
  <Override PartName="/ppt/slides/_rels/slide152.xml.rels" ContentType="application/vnd.openxmlformats-package.relationships+xml"/>
  <Override PartName="/ppt/slides/_rels/slide107.xml.rels" ContentType="application/vnd.openxmlformats-package.relationships+xml"/>
  <Override PartName="/ppt/slides/_rels/slide74.xml.rels" ContentType="application/vnd.openxmlformats-package.relationships+xml"/>
  <Override PartName="/ppt/slides/_rels/slide151.xml.rels" ContentType="application/vnd.openxmlformats-package.relationships+xml"/>
  <Override PartName="/ppt/slides/_rels/slide104.xml.rels" ContentType="application/vnd.openxmlformats-package.relationships+xml"/>
  <Override PartName="/ppt/slides/_rels/slide71.xml.rels" ContentType="application/vnd.openxmlformats-package.relationships+xml"/>
  <Override PartName="/ppt/slides/_rels/slide102.xml.rels" ContentType="application/vnd.openxmlformats-package.relationships+xml"/>
  <Override PartName="/ppt/slides/_rels/slide25.xml.rels" ContentType="application/vnd.openxmlformats-package.relationships+xml"/>
  <Override PartName="/ppt/slides/_rels/slide101.xml.rels" ContentType="application/vnd.openxmlformats-package.relationships+xml"/>
  <Override PartName="/ppt/slides/_rels/slide24.xml.rels" ContentType="application/vnd.openxmlformats-package.relationships+xml"/>
  <Override PartName="/ppt/slides/_rels/slide94.xml.rels" ContentType="application/vnd.openxmlformats-package.relationships+xml"/>
  <Override PartName="/ppt/slides/_rels/slide127.xml.rels" ContentType="application/vnd.openxmlformats-package.relationships+xml"/>
  <Override PartName="/ppt/slides/_rels/slide69.xml.rels" ContentType="application/vnd.openxmlformats-package.relationships+xml"/>
  <Override PartName="/ppt/slides/_rels/slide53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46.xml.rels" ContentType="application/vnd.openxmlformats-package.relationships+xml"/>
  <Override PartName="/ppt/slides/_rels/slide137.xml.rels" ContentType="application/vnd.openxmlformats-package.relationships+xml"/>
  <Override PartName="/ppt/slides/_rels/slide131.xml.rels" ContentType="application/vnd.openxmlformats-package.relationships+xml"/>
  <Override PartName="/ppt/slides/_rels/slide149.xml.rels" ContentType="application/vnd.openxmlformats-package.relationships+xml"/>
  <Override PartName="/ppt/slides/_rels/slide143.xml.rels" ContentType="application/vnd.openxmlformats-package.relationships+xml"/>
  <Override PartName="/ppt/slides/_rels/slide139.xml.rels" ContentType="application/vnd.openxmlformats-package.relationships+xml"/>
  <Override PartName="/ppt/slides/_rels/slide54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14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132.xml.rels" ContentType="application/vnd.openxmlformats-package.relationships+xml"/>
  <Override PartName="/ppt/slides/_rels/slide52.xml.rels" ContentType="application/vnd.openxmlformats-package.relationships+xml"/>
  <Override PartName="/ppt/slides/_rels/slide40.xml.rels" ContentType="application/vnd.openxmlformats-package.relationships+xml"/>
  <Override PartName="/ppt/slides/_rels/slide145.xml.rels" ContentType="application/vnd.openxmlformats-package.relationships+xml"/>
  <Override PartName="/ppt/slides/_rels/slide55.xml.rels" ContentType="application/vnd.openxmlformats-package.relationships+xml"/>
  <Override PartName="/ppt/slides/_rels/slide29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97.xml.rels" ContentType="application/vnd.openxmlformats-package.relationships+xml"/>
  <Override PartName="/ppt/slides/_rels/slide44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2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100.xml.rels" ContentType="application/vnd.openxmlformats-package.relationships+xml"/>
  <Override PartName="/ppt/slides/_rels/slide23.xml.rels" ContentType="application/vnd.openxmlformats-package.relationships+xml"/>
  <Override PartName="/ppt/slides/_rels/slide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1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43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113.xml.rels" ContentType="application/vnd.openxmlformats-package.relationships+xml"/>
  <Override PartName="/ppt/slides/_rels/slide80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81.xml.rels" ContentType="application/vnd.openxmlformats-package.relationships+xml"/>
  <Override PartName="/ppt/slides/_rels/slide114.xml.rels" ContentType="application/vnd.openxmlformats-package.relationships+xml"/>
  <Override PartName="/ppt/slides/_rels/slide37.xml.rels" ContentType="application/vnd.openxmlformats-package.relationships+xml"/>
  <Override PartName="/ppt/slides/_rels/slide144.xml.rels" ContentType="application/vnd.openxmlformats-package.relationships+xml"/>
  <Override PartName="/ppt/slides/_rels/slide130.xml.rels" ContentType="application/vnd.openxmlformats-package.relationships+xml"/>
  <Override PartName="/ppt/slides/_rels/slide5.xml.rels" ContentType="application/vnd.openxmlformats-package.relationships+xml"/>
  <Override PartName="/ppt/slides/_rels/slide135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78.xml.rels" ContentType="application/vnd.openxmlformats-package.relationships+xml"/>
  <Override PartName="/ppt/slides/_rels/slide31.xml.rels" ContentType="application/vnd.openxmlformats-package.relationships+xml"/>
  <Override PartName="/ppt/slides/_rels/slide117.xml.rels" ContentType="application/vnd.openxmlformats-package.relationships+xml"/>
  <Override PartName="/ppt/slides/_rels/slide84.xml.rels" ContentType="application/vnd.openxmlformats-package.relationships+xml"/>
  <Override PartName="/ppt/slides/_rels/slide120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39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2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15.xml.rels" ContentType="application/vnd.openxmlformats-package.relationships+xml"/>
  <Override PartName="/ppt/slides/_rels/slide38.xml.rels" ContentType="application/vnd.openxmlformats-package.relationships+xml"/>
  <Override PartName="/ppt/slides/_rels/slide8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148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8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62.xml.rels" ContentType="application/vnd.openxmlformats-package.relationships+xml"/>
  <Override PartName="/ppt/slides/_rels/slide140.xml.rels" ContentType="application/vnd.openxmlformats-package.relationships+xml"/>
  <Override PartName="/ppt/slides/_rels/slide63.xml.rels" ContentType="application/vnd.openxmlformats-package.relationships+xml"/>
  <Override PartName="/ppt/slides/_rels/slide141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_rels/slide68.xml.rels" ContentType="application/vnd.openxmlformats-package.relationships+xml"/>
  <Override PartName="/ppt/slides/_rels/slide126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18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43.xml" ContentType="application/vnd.openxmlformats-officedocument.presentationml.slide+xml"/>
  <Override PartName="/ppt/slides/slide34.xml" ContentType="application/vnd.openxmlformats-officedocument.presentationml.slide+xml"/>
  <Override PartName="/ppt/slides/slide130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35.xml" ContentType="application/vnd.openxmlformats-officedocument.presentationml.slide+xml"/>
  <Override PartName="/ppt/slides/slide131.xml" ContentType="application/vnd.openxmlformats-officedocument.presentationml.slide+xml"/>
  <Override PartName="/ppt/slides/slide149.xml" ContentType="application/vnd.openxmlformats-officedocument.presentationml.slide+xml"/>
  <Override PartName="/ppt/slides/slide50.xml" ContentType="application/vnd.openxmlformats-officedocument.presentationml.slide+xml"/>
  <Override PartName="/ppt/slides/slide128.xml" ContentType="application/vnd.openxmlformats-officedocument.presentationml.slide+xml"/>
  <Override PartName="/ppt/slides/slide56.xml" ContentType="application/vnd.openxmlformats-officedocument.presentationml.slide+xml"/>
  <Override PartName="/ppt/slides/slide152.xml" ContentType="application/vnd.openxmlformats-officedocument.presentationml.slide+xml"/>
  <Override PartName="/ppt/slides/slide138.xml" ContentType="application/vnd.openxmlformats-officedocument.presentationml.slide+xml"/>
  <Override PartName="/ppt/slides/slide139.xml" ContentType="application/vnd.openxmlformats-officedocument.presentationml.slide+xml"/>
  <Override PartName="/ppt/slides/slide40.xml" ContentType="application/vnd.openxmlformats-officedocument.presentationml.slide+xml"/>
  <Override PartName="/ppt/slides/slide146.xml" ContentType="application/vnd.openxmlformats-officedocument.presentationml.slide+xml"/>
  <Override PartName="/ppt/slides/slide51.xml" ContentType="application/vnd.openxmlformats-officedocument.presentationml.slide+xml"/>
  <Override PartName="/ppt/slides/slide147.xml" ContentType="application/vnd.openxmlformats-officedocument.presentationml.slide+xml"/>
  <Override PartName="/ppt/slides/slide52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48.xml" ContentType="application/vnd.openxmlformats-officedocument.presentationml.slide+xml"/>
  <Override PartName="/ppt/slides/slide54.xml" ContentType="application/vnd.openxmlformats-officedocument.presentationml.slide+xml"/>
  <Override PartName="/ppt/slides/slide150.xml" ContentType="application/vnd.openxmlformats-officedocument.presentationml.slide+xml"/>
  <Override PartName="/ppt/slides/slide44.xml" ContentType="application/vnd.openxmlformats-officedocument.presentationml.slide+xml"/>
  <Override PartName="/ppt/slides/slide140.xml" ContentType="application/vnd.openxmlformats-officedocument.presentationml.slide+xml"/>
  <Override PartName="/ppt/slides/slide53.xml" ContentType="application/vnd.openxmlformats-officedocument.presentationml.slide+xml"/>
  <Override PartName="/ppt/slides/slide137.xml" ContentType="application/vnd.openxmlformats-officedocument.presentationml.slide+xml"/>
  <Override PartName="/ppt/slides/slide151.xml" ContentType="application/vnd.openxmlformats-officedocument.presentationml.slide+xml"/>
  <Override PartName="/ppt/slides/slide5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41.xml" ContentType="application/vnd.openxmlformats-officedocument.presentationml.slide+xml"/>
  <Override PartName="/ppt/slides/slide45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142.xml" ContentType="application/vnd.openxmlformats-officedocument.presentationml.slide+xml"/>
  <Override PartName="/ppt/slides/slide46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78.xml" ContentType="application/vnd.openxmlformats-officedocument.presentationml.slide+xml"/>
  <Override PartName="/ppt/slides/slide106.xml" ContentType="application/vnd.openxmlformats-officedocument.presentationml.slide+xml"/>
  <Override PartName="/ppt/slides/slide113.xml" ContentType="application/vnd.openxmlformats-officedocument.presentationml.slide+xml"/>
  <Override PartName="/ppt/slides/slide17.xml" ContentType="application/vnd.openxmlformats-officedocument.presentationml.slide+xml"/>
  <Override PartName="/ppt/slides/slide8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  <p:sldId id="348" r:id="rId97"/>
    <p:sldId id="349" r:id="rId98"/>
    <p:sldId id="350" r:id="rId99"/>
    <p:sldId id="351" r:id="rId100"/>
    <p:sldId id="352" r:id="rId101"/>
    <p:sldId id="353" r:id="rId102"/>
    <p:sldId id="354" r:id="rId103"/>
    <p:sldId id="355" r:id="rId104"/>
    <p:sldId id="356" r:id="rId105"/>
    <p:sldId id="357" r:id="rId106"/>
    <p:sldId id="358" r:id="rId107"/>
    <p:sldId id="359" r:id="rId108"/>
    <p:sldId id="360" r:id="rId109"/>
    <p:sldId id="361" r:id="rId110"/>
    <p:sldId id="362" r:id="rId111"/>
    <p:sldId id="363" r:id="rId112"/>
    <p:sldId id="364" r:id="rId113"/>
    <p:sldId id="365" r:id="rId114"/>
    <p:sldId id="366" r:id="rId115"/>
    <p:sldId id="367" r:id="rId116"/>
    <p:sldId id="368" r:id="rId117"/>
    <p:sldId id="369" r:id="rId118"/>
    <p:sldId id="370" r:id="rId119"/>
    <p:sldId id="371" r:id="rId120"/>
    <p:sldId id="372" r:id="rId121"/>
    <p:sldId id="373" r:id="rId122"/>
    <p:sldId id="374" r:id="rId123"/>
    <p:sldId id="375" r:id="rId124"/>
    <p:sldId id="376" r:id="rId125"/>
    <p:sldId id="377" r:id="rId126"/>
    <p:sldId id="378" r:id="rId127"/>
    <p:sldId id="379" r:id="rId128"/>
    <p:sldId id="380" r:id="rId129"/>
    <p:sldId id="381" r:id="rId130"/>
    <p:sldId id="382" r:id="rId131"/>
    <p:sldId id="383" r:id="rId132"/>
    <p:sldId id="384" r:id="rId133"/>
    <p:sldId id="385" r:id="rId134"/>
    <p:sldId id="386" r:id="rId135"/>
    <p:sldId id="387" r:id="rId136"/>
    <p:sldId id="388" r:id="rId137"/>
    <p:sldId id="389" r:id="rId138"/>
    <p:sldId id="390" r:id="rId139"/>
    <p:sldId id="391" r:id="rId140"/>
    <p:sldId id="392" r:id="rId141"/>
    <p:sldId id="393" r:id="rId142"/>
    <p:sldId id="394" r:id="rId143"/>
    <p:sldId id="395" r:id="rId144"/>
    <p:sldId id="396" r:id="rId145"/>
    <p:sldId id="397" r:id="rId146"/>
    <p:sldId id="398" r:id="rId147"/>
    <p:sldId id="399" r:id="rId148"/>
    <p:sldId id="400" r:id="rId149"/>
    <p:sldId id="401" r:id="rId150"/>
    <p:sldId id="402" r:id="rId151"/>
    <p:sldId id="403" r:id="rId152"/>
    <p:sldId id="404" r:id="rId153"/>
    <p:sldId id="405" r:id="rId154"/>
    <p:sldId id="406" r:id="rId155"/>
    <p:sldId id="407" r:id="rId1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slide" Target="slides/slide93.xml"/><Relationship Id="rId98" Type="http://schemas.openxmlformats.org/officeDocument/2006/relationships/slide" Target="slides/slide94.xml"/><Relationship Id="rId99" Type="http://schemas.openxmlformats.org/officeDocument/2006/relationships/slide" Target="slides/slide95.xml"/><Relationship Id="rId100" Type="http://schemas.openxmlformats.org/officeDocument/2006/relationships/slide" Target="slides/slide96.xml"/><Relationship Id="rId101" Type="http://schemas.openxmlformats.org/officeDocument/2006/relationships/slide" Target="slides/slide97.xml"/><Relationship Id="rId102" Type="http://schemas.openxmlformats.org/officeDocument/2006/relationships/slide" Target="slides/slide98.xml"/><Relationship Id="rId103" Type="http://schemas.openxmlformats.org/officeDocument/2006/relationships/slide" Target="slides/slide99.xml"/><Relationship Id="rId104" Type="http://schemas.openxmlformats.org/officeDocument/2006/relationships/slide" Target="slides/slide100.xml"/><Relationship Id="rId105" Type="http://schemas.openxmlformats.org/officeDocument/2006/relationships/slide" Target="slides/slide101.xml"/><Relationship Id="rId106" Type="http://schemas.openxmlformats.org/officeDocument/2006/relationships/slide" Target="slides/slide102.xml"/><Relationship Id="rId107" Type="http://schemas.openxmlformats.org/officeDocument/2006/relationships/slide" Target="slides/slide103.xml"/><Relationship Id="rId108" Type="http://schemas.openxmlformats.org/officeDocument/2006/relationships/slide" Target="slides/slide104.xml"/><Relationship Id="rId109" Type="http://schemas.openxmlformats.org/officeDocument/2006/relationships/slide" Target="slides/slide105.xml"/><Relationship Id="rId110" Type="http://schemas.openxmlformats.org/officeDocument/2006/relationships/slide" Target="slides/slide106.xml"/><Relationship Id="rId111" Type="http://schemas.openxmlformats.org/officeDocument/2006/relationships/slide" Target="slides/slide107.xml"/><Relationship Id="rId112" Type="http://schemas.openxmlformats.org/officeDocument/2006/relationships/slide" Target="slides/slide108.xml"/><Relationship Id="rId113" Type="http://schemas.openxmlformats.org/officeDocument/2006/relationships/slide" Target="slides/slide109.xml"/><Relationship Id="rId114" Type="http://schemas.openxmlformats.org/officeDocument/2006/relationships/slide" Target="slides/slide110.xml"/><Relationship Id="rId115" Type="http://schemas.openxmlformats.org/officeDocument/2006/relationships/slide" Target="slides/slide111.xml"/><Relationship Id="rId116" Type="http://schemas.openxmlformats.org/officeDocument/2006/relationships/slide" Target="slides/slide112.xml"/><Relationship Id="rId117" Type="http://schemas.openxmlformats.org/officeDocument/2006/relationships/slide" Target="slides/slide113.xml"/><Relationship Id="rId118" Type="http://schemas.openxmlformats.org/officeDocument/2006/relationships/slide" Target="slides/slide114.xml"/><Relationship Id="rId119" Type="http://schemas.openxmlformats.org/officeDocument/2006/relationships/slide" Target="slides/slide115.xml"/><Relationship Id="rId120" Type="http://schemas.openxmlformats.org/officeDocument/2006/relationships/slide" Target="slides/slide116.xml"/><Relationship Id="rId121" Type="http://schemas.openxmlformats.org/officeDocument/2006/relationships/slide" Target="slides/slide117.xml"/><Relationship Id="rId122" Type="http://schemas.openxmlformats.org/officeDocument/2006/relationships/slide" Target="slides/slide118.xml"/><Relationship Id="rId123" Type="http://schemas.openxmlformats.org/officeDocument/2006/relationships/slide" Target="slides/slide119.xml"/><Relationship Id="rId124" Type="http://schemas.openxmlformats.org/officeDocument/2006/relationships/slide" Target="slides/slide120.xml"/><Relationship Id="rId125" Type="http://schemas.openxmlformats.org/officeDocument/2006/relationships/slide" Target="slides/slide121.xml"/><Relationship Id="rId126" Type="http://schemas.openxmlformats.org/officeDocument/2006/relationships/slide" Target="slides/slide122.xml"/><Relationship Id="rId127" Type="http://schemas.openxmlformats.org/officeDocument/2006/relationships/slide" Target="slides/slide123.xml"/><Relationship Id="rId128" Type="http://schemas.openxmlformats.org/officeDocument/2006/relationships/slide" Target="slides/slide124.xml"/><Relationship Id="rId129" Type="http://schemas.openxmlformats.org/officeDocument/2006/relationships/slide" Target="slides/slide125.xml"/><Relationship Id="rId130" Type="http://schemas.openxmlformats.org/officeDocument/2006/relationships/slide" Target="slides/slide126.xml"/><Relationship Id="rId131" Type="http://schemas.openxmlformats.org/officeDocument/2006/relationships/slide" Target="slides/slide127.xml"/><Relationship Id="rId132" Type="http://schemas.openxmlformats.org/officeDocument/2006/relationships/slide" Target="slides/slide128.xml"/><Relationship Id="rId133" Type="http://schemas.openxmlformats.org/officeDocument/2006/relationships/slide" Target="slides/slide129.xml"/><Relationship Id="rId134" Type="http://schemas.openxmlformats.org/officeDocument/2006/relationships/slide" Target="slides/slide130.xml"/><Relationship Id="rId135" Type="http://schemas.openxmlformats.org/officeDocument/2006/relationships/slide" Target="slides/slide131.xml"/><Relationship Id="rId136" Type="http://schemas.openxmlformats.org/officeDocument/2006/relationships/slide" Target="slides/slide132.xml"/><Relationship Id="rId137" Type="http://schemas.openxmlformats.org/officeDocument/2006/relationships/slide" Target="slides/slide133.xml"/><Relationship Id="rId138" Type="http://schemas.openxmlformats.org/officeDocument/2006/relationships/slide" Target="slides/slide134.xml"/><Relationship Id="rId139" Type="http://schemas.openxmlformats.org/officeDocument/2006/relationships/slide" Target="slides/slide135.xml"/><Relationship Id="rId140" Type="http://schemas.openxmlformats.org/officeDocument/2006/relationships/slide" Target="slides/slide136.xml"/><Relationship Id="rId141" Type="http://schemas.openxmlformats.org/officeDocument/2006/relationships/slide" Target="slides/slide137.xml"/><Relationship Id="rId142" Type="http://schemas.openxmlformats.org/officeDocument/2006/relationships/slide" Target="slides/slide138.xml"/><Relationship Id="rId143" Type="http://schemas.openxmlformats.org/officeDocument/2006/relationships/slide" Target="slides/slide139.xml"/><Relationship Id="rId144" Type="http://schemas.openxmlformats.org/officeDocument/2006/relationships/slide" Target="slides/slide140.xml"/><Relationship Id="rId145" Type="http://schemas.openxmlformats.org/officeDocument/2006/relationships/slide" Target="slides/slide141.xml"/><Relationship Id="rId146" Type="http://schemas.openxmlformats.org/officeDocument/2006/relationships/slide" Target="slides/slide142.xml"/><Relationship Id="rId147" Type="http://schemas.openxmlformats.org/officeDocument/2006/relationships/slide" Target="slides/slide143.xml"/><Relationship Id="rId148" Type="http://schemas.openxmlformats.org/officeDocument/2006/relationships/slide" Target="slides/slide144.xml"/><Relationship Id="rId149" Type="http://schemas.openxmlformats.org/officeDocument/2006/relationships/slide" Target="slides/slide145.xml"/><Relationship Id="rId150" Type="http://schemas.openxmlformats.org/officeDocument/2006/relationships/slide" Target="slides/slide146.xml"/><Relationship Id="rId151" Type="http://schemas.openxmlformats.org/officeDocument/2006/relationships/slide" Target="slides/slide147.xml"/><Relationship Id="rId152" Type="http://schemas.openxmlformats.org/officeDocument/2006/relationships/slide" Target="slides/slide148.xml"/><Relationship Id="rId153" Type="http://schemas.openxmlformats.org/officeDocument/2006/relationships/slide" Target="slides/slide149.xml"/><Relationship Id="rId154" Type="http://schemas.openxmlformats.org/officeDocument/2006/relationships/slide" Target="slides/slide150.xml"/><Relationship Id="rId155" Type="http://schemas.openxmlformats.org/officeDocument/2006/relationships/slide" Target="slides/slide151.xml"/><Relationship Id="rId156" Type="http://schemas.openxmlformats.org/officeDocument/2006/relationships/slide" Target="slides/slide152.xml"/><Relationship Id="rId1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entury Gothic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EB111-5A23-4EE3-9E76-C91118519A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8.xml.rels><?xml version="1.0" encoding="UTF-8"?>
<Relationships xmlns="http://schemas.openxmlformats.org/package/2006/relationships"><Relationship Id="rId1" Type="http://schemas.openxmlformats.org/officeDocument/2006/relationships/slide" Target="../slides/slide108.xml"/><Relationship Id="rId2" Type="http://schemas.openxmlformats.org/officeDocument/2006/relationships/notesMaster" Target="../notesMasters/notesMaster1.xml"/>
</Relationships>
</file>

<file path=ppt/notesSlides/_rels/notesSlide109.xml.rels><?xml version="1.0" encoding="UTF-8"?>
<Relationships xmlns="http://schemas.openxmlformats.org/package/2006/relationships"><Relationship Id="rId1" Type="http://schemas.openxmlformats.org/officeDocument/2006/relationships/slide" Target="../slides/slide109.xml"/><Relationship Id="rId2" Type="http://schemas.openxmlformats.org/officeDocument/2006/relationships/notesMaster" Target="../notesMasters/notesMaster1.xml"/>
</Relationships>
</file>

<file path=ppt/notesSlides/_rels/notesSlide110.xml.rels><?xml version="1.0" encoding="UTF-8"?>
<Relationships xmlns="http://schemas.openxmlformats.org/package/2006/relationships"><Relationship Id="rId1" Type="http://schemas.openxmlformats.org/officeDocument/2006/relationships/slide" Target="../slides/slide110.xml"/><Relationship Id="rId2" Type="http://schemas.openxmlformats.org/officeDocument/2006/relationships/notesMaster" Target="../notesMasters/notesMaster1.xml"/>
</Relationships>
</file>

<file path=ppt/notesSlides/_rels/notesSlide111.xml.rels><?xml version="1.0" encoding="UTF-8"?>
<Relationships xmlns="http://schemas.openxmlformats.org/package/2006/relationships"><Relationship Id="rId1" Type="http://schemas.openxmlformats.org/officeDocument/2006/relationships/slide" Target="../slides/slide111.xml"/><Relationship Id="rId2" Type="http://schemas.openxmlformats.org/officeDocument/2006/relationships/notesMaster" Target="../notesMasters/notesMaster1.xml"/>
</Relationships>
</file>

<file path=ppt/notesSlides/_rels/notesSlide112.xml.rels><?xml version="1.0" encoding="UTF-8"?>
<Relationships xmlns="http://schemas.openxmlformats.org/package/2006/relationships"><Relationship Id="rId1" Type="http://schemas.openxmlformats.org/officeDocument/2006/relationships/slide" Target="../slides/slide112.xml"/><Relationship Id="rId2" Type="http://schemas.openxmlformats.org/officeDocument/2006/relationships/notesMaster" Target="../notesMasters/notesMaster1.xml"/>
</Relationships>
</file>

<file path=ppt/notesSlides/_rels/notesSlide113.xml.rels><?xml version="1.0" encoding="UTF-8"?>
<Relationships xmlns="http://schemas.openxmlformats.org/package/2006/relationships"><Relationship Id="rId1" Type="http://schemas.openxmlformats.org/officeDocument/2006/relationships/slide" Target="../slides/slide113.xml"/><Relationship Id="rId2" Type="http://schemas.openxmlformats.org/officeDocument/2006/relationships/notesMaster" Target="../notesMasters/notesMaster1.xml"/>
</Relationships>
</file>

<file path=ppt/notesSlides/_rels/notesSlide114.xml.rels><?xml version="1.0" encoding="UTF-8"?>
<Relationships xmlns="http://schemas.openxmlformats.org/package/2006/relationships"><Relationship Id="rId1" Type="http://schemas.openxmlformats.org/officeDocument/2006/relationships/slide" Target="../slides/slide114.xml"/><Relationship Id="rId2" Type="http://schemas.openxmlformats.org/officeDocument/2006/relationships/notesMaster" Target="../notesMasters/notesMaster1.xml"/>
</Relationships>
</file>

<file path=ppt/notesSlides/_rels/notesSlide115.xml.rels><?xml version="1.0" encoding="UTF-8"?>
<Relationships xmlns="http://schemas.openxmlformats.org/package/2006/relationships"><Relationship Id="rId1" Type="http://schemas.openxmlformats.org/officeDocument/2006/relationships/slide" Target="../slides/slide115.xml"/><Relationship Id="rId2" Type="http://schemas.openxmlformats.org/officeDocument/2006/relationships/notesMaster" Target="../notesMasters/notesMaster1.xml"/>
</Relationships>
</file>

<file path=ppt/notesSlides/_rels/notesSlide117.xml.rels><?xml version="1.0" encoding="UTF-8"?>
<Relationships xmlns="http://schemas.openxmlformats.org/package/2006/relationships"><Relationship Id="rId1" Type="http://schemas.openxmlformats.org/officeDocument/2006/relationships/slide" Target="../slides/slide117.xml"/><Relationship Id="rId2" Type="http://schemas.openxmlformats.org/officeDocument/2006/relationships/notesMaster" Target="../notesMasters/notesMaster1.xml"/>
</Relationships>
</file>

<file path=ppt/notesSlides/_rels/notesSlide120.xml.rels><?xml version="1.0" encoding="UTF-8"?>
<Relationships xmlns="http://schemas.openxmlformats.org/package/2006/relationships"><Relationship Id="rId1" Type="http://schemas.openxmlformats.org/officeDocument/2006/relationships/slide" Target="../slides/slide120.xml"/><Relationship Id="rId2" Type="http://schemas.openxmlformats.org/officeDocument/2006/relationships/notesMaster" Target="../notesMasters/notesMaster1.xml"/>
</Relationships>
</file>

<file path=ppt/notesSlides/_rels/notesSlide123.xml.rels><?xml version="1.0" encoding="UTF-8"?>
<Relationships xmlns="http://schemas.openxmlformats.org/package/2006/relationships"><Relationship Id="rId1" Type="http://schemas.openxmlformats.org/officeDocument/2006/relationships/slide" Target="../slides/slide123.xml"/><Relationship Id="rId2" Type="http://schemas.openxmlformats.org/officeDocument/2006/relationships/notesMaster" Target="../notesMasters/notesMaster1.xml"/>
</Relationships>
</file>

<file path=ppt/notesSlides/_rels/notesSlide125.xml.rels><?xml version="1.0" encoding="UTF-8"?>
<Relationships xmlns="http://schemas.openxmlformats.org/package/2006/relationships"><Relationship Id="rId1" Type="http://schemas.openxmlformats.org/officeDocument/2006/relationships/slide" Target="../slides/slide125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33.xml.rels><?xml version="1.0" encoding="UTF-8"?>
<Relationships xmlns="http://schemas.openxmlformats.org/package/2006/relationships"><Relationship Id="rId1" Type="http://schemas.openxmlformats.org/officeDocument/2006/relationships/slide" Target="../slides/slide133.xml"/><Relationship Id="rId2" Type="http://schemas.openxmlformats.org/officeDocument/2006/relationships/notesMaster" Target="../notesMasters/notesMaster1.xml"/>
</Relationships>
</file>

<file path=ppt/notesSlides/_rels/notesSlide134.xml.rels><?xml version="1.0" encoding="UTF-8"?>
<Relationships xmlns="http://schemas.openxmlformats.org/package/2006/relationships"><Relationship Id="rId1" Type="http://schemas.openxmlformats.org/officeDocument/2006/relationships/slide" Target="../slides/slide134.xml"/><Relationship Id="rId2" Type="http://schemas.openxmlformats.org/officeDocument/2006/relationships/notesMaster" Target="../notesMasters/notesMaster1.xml"/>
</Relationships>
</file>

<file path=ppt/notesSlides/_rels/notesSlide135.xml.rels><?xml version="1.0" encoding="UTF-8"?>
<Relationships xmlns="http://schemas.openxmlformats.org/package/2006/relationships"><Relationship Id="rId1" Type="http://schemas.openxmlformats.org/officeDocument/2006/relationships/slide" Target="../slides/slide135.xml"/><Relationship Id="rId2" Type="http://schemas.openxmlformats.org/officeDocument/2006/relationships/notesMaster" Target="../notesMasters/notesMaster1.xml"/>
</Relationships>
</file>

<file path=ppt/notesSlides/_rels/notesSlide137.xml.rels><?xml version="1.0" encoding="UTF-8"?>
<Relationships xmlns="http://schemas.openxmlformats.org/package/2006/relationships"><Relationship Id="rId1" Type="http://schemas.openxmlformats.org/officeDocument/2006/relationships/slide" Target="../slides/slide137.xml"/><Relationship Id="rId2" Type="http://schemas.openxmlformats.org/officeDocument/2006/relationships/notesMaster" Target="../notesMasters/notesMaster1.xml"/>
</Relationships>
</file>

<file path=ppt/notesSlides/_rels/notesSlide138.xml.rels><?xml version="1.0" encoding="UTF-8"?>
<Relationships xmlns="http://schemas.openxmlformats.org/package/2006/relationships"><Relationship Id="rId1" Type="http://schemas.openxmlformats.org/officeDocument/2006/relationships/slide" Target="../slides/slide138.xml"/><Relationship Id="rId2" Type="http://schemas.openxmlformats.org/officeDocument/2006/relationships/notesMaster" Target="../notesMasters/notesMaster1.xml"/>
</Relationships>
</file>

<file path=ppt/notesSlides/_rels/notesSlide139.xml.rels><?xml version="1.0" encoding="UTF-8"?>
<Relationships xmlns="http://schemas.openxmlformats.org/package/2006/relationships"><Relationship Id="rId1" Type="http://schemas.openxmlformats.org/officeDocument/2006/relationships/slide" Target="../slides/slide139.xml"/><Relationship Id="rId2" Type="http://schemas.openxmlformats.org/officeDocument/2006/relationships/notesMaster" Target="../notesMasters/notesMaster1.xml"/>
</Relationships>
</file>

<file path=ppt/notesSlides/_rels/notesSlide145.xml.rels><?xml version="1.0" encoding="UTF-8"?>
<Relationships xmlns="http://schemas.openxmlformats.org/package/2006/relationships"><Relationship Id="rId1" Type="http://schemas.openxmlformats.org/officeDocument/2006/relationships/slide" Target="../slides/slide145.xml"/><Relationship Id="rId2" Type="http://schemas.openxmlformats.org/officeDocument/2006/relationships/notesMaster" Target="../notesMasters/notesMaster1.xml"/>
</Relationships>
</file>

<file path=ppt/notesSlides/_rels/notesSlide146.xml.rels><?xml version="1.0" encoding="UTF-8"?>
<Relationships xmlns="http://schemas.openxmlformats.org/package/2006/relationships"><Relationship Id="rId1" Type="http://schemas.openxmlformats.org/officeDocument/2006/relationships/slide" Target="../slides/slide146.xml"/><Relationship Id="rId2" Type="http://schemas.openxmlformats.org/officeDocument/2006/relationships/notesMaster" Target="../notesMasters/notesMaster1.xml"/>
</Relationships>
</file>

<file path=ppt/notesSlides/_rels/notesSlide149.xml.rels><?xml version="1.0" encoding="UTF-8"?>
<Relationships xmlns="http://schemas.openxmlformats.org/package/2006/relationships"><Relationship Id="rId1" Type="http://schemas.openxmlformats.org/officeDocument/2006/relationships/slide" Target="../slides/slide149.xml"/><Relationship Id="rId2" Type="http://schemas.openxmlformats.org/officeDocument/2006/relationships/notesMaster" Target="../notesMasters/notesMaster1.xml"/>
</Relationships>
</file>

<file path=ppt/notesSlides/_rels/notesSlide150.xml.rels><?xml version="1.0" encoding="UTF-8"?>
<Relationships xmlns="http://schemas.openxmlformats.org/package/2006/relationships"><Relationship Id="rId1" Type="http://schemas.openxmlformats.org/officeDocument/2006/relationships/slide" Target="../slides/slide150.xml"/><Relationship Id="rId2" Type="http://schemas.openxmlformats.org/officeDocument/2006/relationships/notesMaster" Target="../notesMasters/notesMaster1.xml"/>
</Relationships>
</file>

<file path=ppt/notesSlides/_rels/notesSlide152.xml.rels><?xml version="1.0" encoding="UTF-8"?>
<Relationships xmlns="http://schemas.openxmlformats.org/package/2006/relationships"><Relationship Id="rId1" Type="http://schemas.openxmlformats.org/officeDocument/2006/relationships/slide" Target="../slides/slide152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94.xml.rels><?xml version="1.0" encoding="UTF-8"?>
<Relationships xmlns="http://schemas.openxmlformats.org/package/2006/relationships"><Relationship Id="rId1" Type="http://schemas.openxmlformats.org/officeDocument/2006/relationships/slide" Target="../slides/slide94.xml"/><Relationship Id="rId2" Type="http://schemas.openxmlformats.org/officeDocument/2006/relationships/notesMaster" Target="../notesMasters/notesMaster1.xml"/>
</Relationships>
</file>

<file path=ppt/notesSlides/notesSlide10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EAV set defines a phenotypic character.  By combining PCs we can build up a description that defines a complex syndrome or disease. As more is learned about a disease, PCs can be easily added or upda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EAV set defines a phenotypic character.  By combining PCs we can build up a description that defines a complex syndrome or disease. As more is learned about a disease, PCs can be easily added or upda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EAV set defines a phenotypic character.  By combining PCs we can build up a description that defines a complex syndrome or disease. As more is learned about a disease, PCs can be easily added or upda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EAV set defines a phenotypic character.  By combining PCs we can build up a description that defines a complex syndrome or disease. As more is learned about a disease, PCs can be easily added or upda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EAV set defines a phenotypic character.  By combining PCs we can build up a description that defines a complex syndrome or disease. As more is learned about a disease, PCs can be easily added or updated. Change all to 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EAV set defines a phenotypic character.  By combining PCs we can build up a description that defines a complex syndrome or disease. As more is learned about a disease, PCs can be easily added or upda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EAV set defines a phenotypic character.  By combining PCs we can build up a description that defines a complex syndrome or disease. As more is learned about a disease, PCs can be easily added or upda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box = single EAV set.  Without reading the words, you can see a pattern emerge; shh has some but not all phenotypic characteristics of holoprosencephaly, oep is better match.  This type of analysis can be done on a large scale computational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that they can be tightly interwoven: somatic cell muta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he assay can be interwov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comparison is only possible insofar as we can have representations that are independent of assa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Lucida Grande"/>
              </a:rPr>
              <a:t>quality: </a:t>
            </a:r>
            <a:r>
              <a:rPr b="0" lang="en-US" sz="700" spc="-1" strike="noStrike">
                <a:solidFill>
                  <a:srgbClr val="000000"/>
                </a:solidFill>
                <a:latin typeface="Lucida Grande"/>
              </a:rPr>
              <a:t>Structure, relative size, pattern, structur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io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umabl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Lucida Grande"/>
              </a:rPr>
              <a:t>Quality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Lucida Grande"/>
              </a:rPr>
              <a:t>structu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Lucida Grande"/>
              </a:rPr>
              <a:t>relative siz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Lucida Grande"/>
              </a:rPr>
              <a:t>patter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Lucida Grande"/>
              </a:rPr>
              <a:t>structu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Lucida Grande"/>
              </a:rPr>
              <a:t>qualitativ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Lucida Grande"/>
              </a:rPr>
              <a:t>relative numb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Lucida Grande"/>
              </a:rPr>
              <a:t>proces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Lucida Grande"/>
              </a:rPr>
              <a:t>behavioral activ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return to the acidity example l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ntity is not an 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erence SQ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SAME EXAMP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isting values: nicotine, peanut butter, alcohol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tan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’s red and invisible? no tomato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possibility is to treat absent as “of negligible size” (accurate for wingless phenotype anywa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’s red and invisible? no tomato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possibility is to treat absent as “of negligible size” (accurate for wingless phenotype anywa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ssue vs population of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ssue vs population of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antity is not an attribute (higher order predicate?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ons don’t exist in s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 pylor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 between ontology and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eriodic table is a module structure, built on at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ontologies are often built afresh for each new task; commonly introducing not only idiosyncrasies of format or logic, but also simplifications or distortions of their subject-matte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solve this problem application ontology development  shoud take place always against the background of a formally robust reference ontology frame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menopause part-of aging, aging part-of dea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base searching is one of the important kinds of reasoning we want to en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ransport mechanis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Query languages and data director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compression and just in time retrieval, cach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re object definitions or mappings between th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on synta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ared descriptive langu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t is, they commit themselves to conceiving ontology as a science, not as a hobb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auth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an example of 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other dichotomy (and anima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re: ‘Observable’ [drysdale]. Observable introduces an extra layer of indirection and the unneccessary concept of observ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that a dependent continuant is an entity too, thou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D vs 4D. spatial regions; spatiotemporal reg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eria: do all the parts exist at the same tim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tter go-type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ke example or a real example from Chr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tology development is inherently collaborative, and so it is important to understand the differ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ase studies from GO in the session on use-cases will illustrate both types of chan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40726-B980-44E1-91F3-66596A04C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ECEE5-FCA8-46E2-B0DE-D4F4EEFD6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E77A7-0523-41A4-9092-6074412D1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ABF29-0760-408D-8017-B8AF98768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41217-A8A5-4829-9F1F-35FB90B72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4C85E-73BD-49A3-BEF7-33D84FB4B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15B62-8387-4196-9E03-1DFB03E83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9AEFB-CE72-4F72-8809-E43AE49F4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4599E-98FE-40E4-96DC-0D7D75509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0CC37-D46D-4A4B-8A31-18FA072B8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4362E-AD19-4CED-9F1A-B4BDB4219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95C2A-536C-4DEF-AC37-784002100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A1BAA-4F54-4152-A34A-4192958D2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6F942-BF40-4D99-AA7E-D2B045011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DE23B-A6FC-4245-BBFB-BD4DE5F01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E82B1-F293-44FE-9E56-12AB08EA3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011DB-65B2-414A-A5C9-8A04DF661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AD6B7-CE25-4B24-9D2A-B18AA0128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7DEA8-89FF-439B-8137-9AB982E1B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ECFA9-5CA6-438C-AAEE-BB28417CE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C1F18-79D1-49EC-B91C-CC4EA26B7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F48A1-36B1-49DC-80FF-BAC20BC3E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FA591-E614-44FC-AD42-70046E9AD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CEAD0-E62B-4D10-9058-A85D63C71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1" marL="660960" indent="-254160">
              <a:spcBef>
                <a:spcPts val="799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2" marL="1017000" indent="-203400">
              <a:spcBef>
                <a:spcPts val="799"/>
              </a:spcBef>
              <a:buClr>
                <a:srgbClr val="cc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3" marL="1424160" indent="-203400"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4" marL="1830960" indent="-203400"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5" marL="1830960" indent="-203400"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6" marL="1830960" indent="-203400"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entury Gothic"/>
                <a:ea typeface="Osak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entury Gothic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entury Gothic"/>
                <a:ea typeface="Osak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entury Gothic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9dcb9"/>
                </a:solidFill>
                <a:latin typeface="Century Gothic"/>
                <a:ea typeface="Osak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00826-2AEE-4B94-90DB-9AC44F6B7CB8}" type="slidenum">
              <a:rPr b="0" lang="en-US" sz="1400" spc="-1" strike="noStrike">
                <a:solidFill>
                  <a:srgbClr val="e9dcb9"/>
                </a:solidFill>
                <a:latin typeface="Century Gothic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entury Gothic"/>
                <a:ea typeface="Osak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entury Gothic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entury Gothic"/>
                <a:ea typeface="Osak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entury Gothic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entury Gothic"/>
                <a:ea typeface="Osak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FC287-6D34-4207-A793-DEDB532AC506}" type="slidenum">
              <a:rPr b="0" lang="en-US" sz="1400" spc="-1" strike="noStrike">
                <a:solidFill>
                  <a:srgbClr val="ffffff"/>
                </a:solidFill>
                <a:latin typeface="Century Gothic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1832040" y="3560760"/>
            <a:ext cx="5484600" cy="17316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2" marL="914400" algn="ctr">
              <a:spcBef>
                <a:spcPts val="601"/>
              </a:spcBef>
              <a:buClr>
                <a:srgbClr val="ccff66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47.pct"/><Relationship Id="rId2" Type="http://schemas.openxmlformats.org/officeDocument/2006/relationships/image" Target="../media/image48.pct"/><Relationship Id="rId3" Type="http://schemas.openxmlformats.org/officeDocument/2006/relationships/image" Target="../media/image49.pct"/><Relationship Id="rId4" Type="http://schemas.openxmlformats.org/officeDocument/2006/relationships/slideLayout" Target="../slideLayouts/slideLayout3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image" Target="../media/image52.jpeg"/><Relationship Id="rId4" Type="http://schemas.openxmlformats.org/officeDocument/2006/relationships/image" Target="../media/image53.jpeg"/><Relationship Id="rId5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8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8.png"/><Relationship Id="rId10" Type="http://schemas.openxmlformats.org/officeDocument/2006/relationships/image" Target="../media/image19.png"/><Relationship Id="rId11" Type="http://schemas.openxmlformats.org/officeDocument/2006/relationships/image" Target="../media/image20.png"/><Relationship Id="rId12" Type="http://schemas.openxmlformats.org/officeDocument/2006/relationships/image" Target="../media/image21.png"/><Relationship Id="rId13" Type="http://schemas.openxmlformats.org/officeDocument/2006/relationships/image" Target="../media/image22.png"/><Relationship Id="rId14" Type="http://schemas.openxmlformats.org/officeDocument/2006/relationships/image" Target="../media/image23.png"/><Relationship Id="rId15" Type="http://schemas.openxmlformats.org/officeDocument/2006/relationships/image" Target="../media/image24.png"/><Relationship Id="rId16" Type="http://schemas.openxmlformats.org/officeDocument/2006/relationships/image" Target="../media/image25.png"/><Relationship Id="rId17" Type="http://schemas.openxmlformats.org/officeDocument/2006/relationships/image" Target="../media/image26.png"/><Relationship Id="rId18" Type="http://schemas.openxmlformats.org/officeDocument/2006/relationships/image" Target="../media/image27.png"/><Relationship Id="rId19" Type="http://schemas.openxmlformats.org/officeDocument/2006/relationships/image" Target="../media/image28.jpeg"/><Relationship Id="rId20" Type="http://schemas.openxmlformats.org/officeDocument/2006/relationships/image" Target="../media/image29.jpeg"/><Relationship Id="rId21" Type="http://schemas.openxmlformats.org/officeDocument/2006/relationships/image" Target="../media/image30.pct"/><Relationship Id="rId22" Type="http://schemas.openxmlformats.org/officeDocument/2006/relationships/slideLayout" Target="../slideLayouts/slideLayout5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0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2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4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5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55.pct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7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1.pct"/><Relationship Id="rId2" Type="http://schemas.openxmlformats.org/officeDocument/2006/relationships/slideLayout" Target="../slideLayouts/slideLayout5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0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5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23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5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5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5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5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33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4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5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5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7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38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14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5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45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46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0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5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ct"/><Relationship Id="rId4" Type="http://schemas.openxmlformats.org/officeDocument/2006/relationships/image" Target="../media/image35.jpeg"/><Relationship Id="rId5" Type="http://schemas.openxmlformats.org/officeDocument/2006/relationships/image" Target="../media/image36.jpeg"/><Relationship Id="rId6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7.pct"/><Relationship Id="rId2" Type="http://schemas.openxmlformats.org/officeDocument/2006/relationships/image" Target="../media/image37.pct"/><Relationship Id="rId3" Type="http://schemas.openxmlformats.org/officeDocument/2006/relationships/image" Target="../media/image37.pct"/><Relationship Id="rId4" Type="http://schemas.openxmlformats.org/officeDocument/2006/relationships/image" Target="../media/image37.pct"/><Relationship Id="rId5" Type="http://schemas.openxmlformats.org/officeDocument/2006/relationships/image" Target="../media/image37.pct"/><Relationship Id="rId6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1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14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hyperlink" Target="http://obo.sourceforge.net/" TargetMode="External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ct"/><Relationship Id="rId4" Type="http://schemas.openxmlformats.org/officeDocument/2006/relationships/oleObject" Target="../embeddings/oleObject2.bin"/><Relationship Id="rId5" Type="http://schemas.openxmlformats.org/officeDocument/2006/relationships/image" Target="../media/image7.pct"/><Relationship Id="rId6" Type="http://schemas.openxmlformats.org/officeDocument/2006/relationships/slideLayout" Target="../slideLayouts/slideLayout5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4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46.pct"/><Relationship Id="rId2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entury Gothic"/>
              </a:rPr>
              <a:t>The Joy of Ontology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uzanna Lewis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MI Colloquium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April 2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entury Gothic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, 2006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6" name=""/>
          <p:cNvGraphicFramePr/>
          <p:nvPr/>
        </p:nvGraphicFramePr>
        <p:xfrm>
          <a:off x="2009880" y="27000"/>
          <a:ext cx="5129280" cy="3200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09880" y="27000"/>
                    <a:ext cx="5129280" cy="32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8" name=""/>
          <p:cNvGraphicFramePr/>
          <p:nvPr/>
        </p:nvGraphicFramePr>
        <p:xfrm>
          <a:off x="2009880" y="3706920"/>
          <a:ext cx="5129280" cy="3124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009880" y="3706920"/>
                    <a:ext cx="5129280" cy="31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0" name=""/>
          <p:cNvSpPr/>
          <p:nvPr/>
        </p:nvSpPr>
        <p:spPr>
          <a:xfrm>
            <a:off x="0" y="3255840"/>
            <a:ext cx="91440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Century Gothic"/>
              </a:rPr>
              <a:t>The Challenge of Communi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72" dur="1" fill="hold"/>
                                  <p:tgtEl>
                                    <p:spTgt spid="12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/>
          </p:nvPr>
        </p:nvSpPr>
        <p:spPr>
          <a:xfrm>
            <a:off x="267840" y="525600"/>
            <a:ext cx="8610840" cy="620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Stanford:  Tools for ontology alignment, indexing, and management (Cores 1, 4–7: Mark Musen)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Lawrence–Berkeley Labs: Tools to use ontologies for data annotation (Cores 2, 5–7: Suzanna Lewis)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Mayo Clinic:  Tools for access to large controlled terminologies (Core 1: Chris Chute)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Victoria: Tools for ontology and data visualization (Cores 1 and 2: Margaret-Anne Story)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University at Buffalo: Dissemination of best practices for ontology engineering (Core 6: Barry Smith)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Century Gothic"/>
              </a:rPr>
              <a:t>Driving Biological Projects</a:t>
            </a:r>
            <a:endParaRPr b="0" lang="en-US" sz="40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entury Gothic"/>
              </a:rPr>
              <a:t>Trial Bank</a:t>
            </a: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: UCSF, Ida Sim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entury Gothic"/>
              </a:rPr>
              <a:t>Flybase</a:t>
            </a: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: Cambridge, Michael Ashburner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entury Gothic"/>
              </a:rPr>
              <a:t>ZFIN</a:t>
            </a: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: Oregon, Monte Westerfield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589" name="" descr=""/>
          <p:cNvPicPr/>
          <p:nvPr/>
        </p:nvPicPr>
        <p:blipFill>
          <a:blip r:embed="rId1"/>
          <a:stretch/>
        </p:blipFill>
        <p:spPr>
          <a:xfrm>
            <a:off x="7832880" y="4546440"/>
            <a:ext cx="691920" cy="863640"/>
          </a:xfrm>
          <a:prstGeom prst="rect">
            <a:avLst/>
          </a:prstGeom>
          <a:ln w="0">
            <a:noFill/>
          </a:ln>
        </p:spPr>
      </p:pic>
      <p:pic>
        <p:nvPicPr>
          <p:cNvPr id="590" name="" descr=""/>
          <p:cNvPicPr/>
          <p:nvPr/>
        </p:nvPicPr>
        <p:blipFill>
          <a:blip r:embed="rId2"/>
          <a:stretch/>
        </p:blipFill>
        <p:spPr>
          <a:xfrm>
            <a:off x="7696080" y="2971800"/>
            <a:ext cx="828720" cy="1066680"/>
          </a:xfrm>
          <a:prstGeom prst="rect">
            <a:avLst/>
          </a:prstGeom>
          <a:ln w="0">
            <a:noFill/>
          </a:ln>
        </p:spPr>
      </p:pic>
      <p:pic>
        <p:nvPicPr>
          <p:cNvPr id="591" name="" descr=""/>
          <p:cNvPicPr/>
          <p:nvPr/>
        </p:nvPicPr>
        <p:blipFill>
          <a:blip r:embed="rId3"/>
          <a:stretch/>
        </p:blipFill>
        <p:spPr>
          <a:xfrm>
            <a:off x="7381800" y="1994040"/>
            <a:ext cx="1143000" cy="67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entury Gothic"/>
              </a:rPr>
              <a:t>Case study: Phenotypes, our current work on OBD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"/>
          <p:cNvSpPr/>
          <p:nvPr/>
        </p:nvSpPr>
        <p:spPr>
          <a:xfrm>
            <a:off x="5521680" y="1752480"/>
            <a:ext cx="25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Animal mode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4800600" y="2286000"/>
            <a:ext cx="3733920" cy="4343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  <a:ea typeface="Osaka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  <a:ea typeface="Osaka"/>
              </a:rPr>
              <a:t>Mutant Gene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Courier New"/>
                <a:ea typeface="Osaka"/>
              </a:rPr>
              <a:t> Mutant  or missing Protein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Courier New"/>
                <a:ea typeface="Osaka"/>
              </a:rPr>
              <a:t>Mutant Phenotype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6629400" y="2971800"/>
            <a:ext cx="0" cy="533520"/>
          </a:xfrm>
          <a:prstGeom prst="line">
            <a:avLst/>
          </a:prstGeom>
          <a:ln w="3816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6629400" y="4724280"/>
            <a:ext cx="0" cy="533520"/>
          </a:xfrm>
          <a:prstGeom prst="line">
            <a:avLst/>
          </a:prstGeom>
          <a:ln w="3816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entury Gothic"/>
              </a:rPr>
              <a:t>Animal disease models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"/>
          <p:cNvSpPr/>
          <p:nvPr/>
        </p:nvSpPr>
        <p:spPr>
          <a:xfrm>
            <a:off x="1685880" y="175248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Huma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5521680" y="1752480"/>
            <a:ext cx="25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Animal mode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entury Gothic"/>
              </a:rPr>
              <a:t>Animal disease models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602" name=""/>
          <p:cNvSpPr/>
          <p:nvPr/>
        </p:nvSpPr>
        <p:spPr>
          <a:xfrm>
            <a:off x="2362320" y="2971800"/>
            <a:ext cx="0" cy="533520"/>
          </a:xfrm>
          <a:prstGeom prst="line">
            <a:avLst/>
          </a:prstGeom>
          <a:ln w="3816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2362320" y="4724280"/>
            <a:ext cx="0" cy="533520"/>
          </a:xfrm>
          <a:prstGeom prst="line">
            <a:avLst/>
          </a:prstGeom>
          <a:ln w="3816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4800600" y="2286000"/>
            <a:ext cx="3733920" cy="4343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  <a:ea typeface="Osaka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  <a:ea typeface="Osaka"/>
              </a:rPr>
              <a:t>Mutant Gene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Courier New"/>
                <a:ea typeface="Osaka"/>
              </a:rPr>
              <a:t> Mutant  or missing Protein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Courier New"/>
                <a:ea typeface="Osaka"/>
              </a:rPr>
              <a:t>Mutant Phenotype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Courier New"/>
                <a:ea typeface="Osaka"/>
              </a:rPr>
              <a:t>(disease mode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6629400" y="2971800"/>
            <a:ext cx="0" cy="533520"/>
          </a:xfrm>
          <a:prstGeom prst="line">
            <a:avLst/>
          </a:prstGeom>
          <a:ln w="3816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6629400" y="4724280"/>
            <a:ext cx="0" cy="533520"/>
          </a:xfrm>
          <a:prstGeom prst="line">
            <a:avLst/>
          </a:prstGeom>
          <a:ln w="3816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533520" y="2286000"/>
            <a:ext cx="3733560" cy="4343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  <a:ea typeface="Osaka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  <a:ea typeface="Osaka"/>
              </a:rPr>
              <a:t>Mutant Gene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Courier New"/>
                <a:ea typeface="Osaka"/>
              </a:rPr>
              <a:t> Mutant  or missing Protein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Courier New"/>
                <a:ea typeface="Osaka"/>
              </a:rPr>
              <a:t>Mutant Phenotype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Courier New"/>
                <a:ea typeface="Osaka"/>
              </a:rPr>
              <a:t>(diseas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"/>
          <p:cNvSpPr/>
          <p:nvPr/>
        </p:nvSpPr>
        <p:spPr>
          <a:xfrm>
            <a:off x="1685880" y="175248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Huma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5521680" y="1752480"/>
            <a:ext cx="25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Animal mode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entury Gothic"/>
              </a:rPr>
              <a:t>Animal disease models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611" name=""/>
          <p:cNvSpPr/>
          <p:nvPr/>
        </p:nvSpPr>
        <p:spPr>
          <a:xfrm>
            <a:off x="2362320" y="2971800"/>
            <a:ext cx="0" cy="533520"/>
          </a:xfrm>
          <a:prstGeom prst="line">
            <a:avLst/>
          </a:prstGeom>
          <a:ln w="3816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2362320" y="4724280"/>
            <a:ext cx="0" cy="533520"/>
          </a:xfrm>
          <a:prstGeom prst="line">
            <a:avLst/>
          </a:prstGeom>
          <a:ln w="3816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4800600" y="2286000"/>
            <a:ext cx="3733920" cy="4343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  <a:ea typeface="Osaka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  <a:ea typeface="Osaka"/>
              </a:rPr>
              <a:t>Mutant Gene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Courier New"/>
                <a:ea typeface="Osaka"/>
              </a:rPr>
              <a:t> Mutant  or missing Protein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Courier New"/>
                <a:ea typeface="Osaka"/>
              </a:rPr>
              <a:t>Mutant Phenotype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Courier New"/>
                <a:ea typeface="Osaka"/>
              </a:rPr>
              <a:t>(disease mode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6629400" y="2971800"/>
            <a:ext cx="0" cy="533520"/>
          </a:xfrm>
          <a:prstGeom prst="line">
            <a:avLst/>
          </a:prstGeom>
          <a:ln w="3816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6629400" y="4724280"/>
            <a:ext cx="0" cy="533520"/>
          </a:xfrm>
          <a:prstGeom prst="line">
            <a:avLst/>
          </a:prstGeom>
          <a:ln w="3816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533520" y="2286000"/>
            <a:ext cx="3733560" cy="4343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  <a:ea typeface="Osaka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  <a:ea typeface="Osaka"/>
              </a:rPr>
              <a:t>Mutant Gene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Courier New"/>
                <a:ea typeface="Osaka"/>
              </a:rPr>
              <a:t> Mutant  or missing Protein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Courier New"/>
                <a:ea typeface="Osaka"/>
              </a:rPr>
              <a:t>Mutant Phenotype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Courier New"/>
                <a:ea typeface="Osaka"/>
              </a:rPr>
              <a:t>(diseas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3962520" y="2743200"/>
            <a:ext cx="1143000" cy="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3962520" y="4038480"/>
            <a:ext cx="1143000" cy="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"/>
          <p:cNvSpPr/>
          <p:nvPr/>
        </p:nvSpPr>
        <p:spPr>
          <a:xfrm>
            <a:off x="1685880" y="175248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Huma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5521680" y="1752480"/>
            <a:ext cx="25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Animal mode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entury Gothic"/>
              </a:rPr>
              <a:t>Animal disease models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622" name=""/>
          <p:cNvSpPr/>
          <p:nvPr/>
        </p:nvSpPr>
        <p:spPr>
          <a:xfrm>
            <a:off x="2362320" y="2971800"/>
            <a:ext cx="0" cy="533520"/>
          </a:xfrm>
          <a:prstGeom prst="line">
            <a:avLst/>
          </a:prstGeom>
          <a:ln w="3816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2362320" y="4724280"/>
            <a:ext cx="0" cy="533520"/>
          </a:xfrm>
          <a:prstGeom prst="line">
            <a:avLst/>
          </a:prstGeom>
          <a:ln w="3816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4800600" y="2286000"/>
            <a:ext cx="3733920" cy="4343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  <a:ea typeface="Osaka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  <a:ea typeface="Osaka"/>
              </a:rPr>
              <a:t>Mutant Gene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Courier New"/>
                <a:ea typeface="Osaka"/>
              </a:rPr>
              <a:t> Mutant  or missing Protein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Courier New"/>
                <a:ea typeface="Osaka"/>
              </a:rPr>
              <a:t>Mutant Phenotype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Courier New"/>
                <a:ea typeface="Osaka"/>
              </a:rPr>
              <a:t>(disease mode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6629400" y="2971800"/>
            <a:ext cx="0" cy="533520"/>
          </a:xfrm>
          <a:prstGeom prst="line">
            <a:avLst/>
          </a:prstGeom>
          <a:ln w="3816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6629400" y="4724280"/>
            <a:ext cx="0" cy="533520"/>
          </a:xfrm>
          <a:prstGeom prst="line">
            <a:avLst/>
          </a:prstGeom>
          <a:ln w="3816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533520" y="2286000"/>
            <a:ext cx="3733560" cy="4343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  <a:ea typeface="Osaka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  <a:ea typeface="Osaka"/>
              </a:rPr>
              <a:t>Mutant Gene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Courier New"/>
                <a:ea typeface="Osaka"/>
              </a:rPr>
              <a:t> Mutant  or missing Protein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Courier New"/>
                <a:ea typeface="Osaka"/>
              </a:rPr>
              <a:t>Mutant Phenotype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Courier New"/>
                <a:ea typeface="Osaka"/>
              </a:rPr>
              <a:t>(diseas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3962520" y="2743200"/>
            <a:ext cx="1143000" cy="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3962520" y="4038480"/>
            <a:ext cx="1143000" cy="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3962520" y="5943600"/>
            <a:ext cx="1143000" cy="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1" name="" descr="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5102280" y="533520"/>
            <a:ext cx="2060640" cy="2666880"/>
          </a:xfrm>
          <a:prstGeom prst="rect">
            <a:avLst/>
          </a:prstGeom>
          <a:ln w="0">
            <a:noFill/>
          </a:ln>
        </p:spPr>
      </p:pic>
      <p:pic>
        <p:nvPicPr>
          <p:cNvPr id="632" name="" descr=""/>
          <p:cNvPicPr/>
          <p:nvPr/>
        </p:nvPicPr>
        <p:blipFill>
          <a:blip r:embed="rId2">
            <a:lum contrast="24000"/>
          </a:blip>
          <a:stretch/>
        </p:blipFill>
        <p:spPr>
          <a:xfrm>
            <a:off x="1676520" y="533520"/>
            <a:ext cx="2819160" cy="2671560"/>
          </a:xfrm>
          <a:prstGeom prst="rect">
            <a:avLst/>
          </a:prstGeom>
          <a:ln w="0">
            <a:noFill/>
          </a:ln>
        </p:spPr>
      </p:pic>
      <p:pic>
        <p:nvPicPr>
          <p:cNvPr id="633" name="" descr=""/>
          <p:cNvPicPr/>
          <p:nvPr/>
        </p:nvPicPr>
        <p:blipFill>
          <a:blip r:embed="rId3"/>
          <a:stretch/>
        </p:blipFill>
        <p:spPr>
          <a:xfrm>
            <a:off x="1828800" y="3878280"/>
            <a:ext cx="2438280" cy="2193840"/>
          </a:xfrm>
          <a:prstGeom prst="rect">
            <a:avLst/>
          </a:prstGeom>
          <a:ln w="0">
            <a:noFill/>
          </a:ln>
        </p:spPr>
      </p:pic>
      <p:pic>
        <p:nvPicPr>
          <p:cNvPr id="634" name="" descr=""/>
          <p:cNvPicPr/>
          <p:nvPr/>
        </p:nvPicPr>
        <p:blipFill>
          <a:blip r:embed="rId4"/>
          <a:stretch/>
        </p:blipFill>
        <p:spPr>
          <a:xfrm>
            <a:off x="5105520" y="3890880"/>
            <a:ext cx="2209680" cy="216720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2472120" y="3162240"/>
            <a:ext cx="119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Courier New"/>
              </a:rPr>
              <a:t>SHH</a:t>
            </a:r>
            <a:r>
              <a:rPr b="1" lang="en-US" sz="2800" spc="-1" strike="noStrike" baseline="30000">
                <a:solidFill>
                  <a:srgbClr val="ffffff"/>
                </a:solidFill>
                <a:latin typeface="Courier New"/>
              </a:rPr>
              <a:t>-/+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5596560" y="3162240"/>
            <a:ext cx="119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Courier New"/>
              </a:rPr>
              <a:t>SHH</a:t>
            </a:r>
            <a:r>
              <a:rPr b="1" lang="en-US" sz="2800" spc="-1" strike="noStrike" baseline="30000">
                <a:solidFill>
                  <a:srgbClr val="ffffff"/>
                </a:solidFill>
                <a:latin typeface="Courier New"/>
              </a:rPr>
              <a:t>-/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2438280" y="611028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Courier New"/>
              </a:rPr>
              <a:t>shh</a:t>
            </a:r>
            <a:r>
              <a:rPr b="1" i="1" lang="en-US" sz="2800" spc="-1" strike="noStrike" baseline="30000">
                <a:solidFill>
                  <a:srgbClr val="ffffff"/>
                </a:solidFill>
                <a:latin typeface="Courier New"/>
              </a:rPr>
              <a:t>-/+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5562720" y="6110280"/>
            <a:ext cx="148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Courier New"/>
              </a:rPr>
              <a:t>shh</a:t>
            </a:r>
            <a:r>
              <a:rPr b="1" i="1" lang="en-US" sz="2800" spc="-1" strike="noStrike" baseline="30000">
                <a:solidFill>
                  <a:srgbClr val="ffffff"/>
                </a:solidFill>
                <a:latin typeface="Courier New"/>
              </a:rPr>
              <a:t>-/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"/>
          <p:cNvSpPr/>
          <p:nvPr/>
        </p:nvSpPr>
        <p:spPr>
          <a:xfrm>
            <a:off x="152280" y="485640"/>
            <a:ext cx="76201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7640"/>
                <a:tab algn="l" pos="2174760"/>
                <a:tab algn="l" pos="42879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Phenotyp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2174760"/>
                <a:tab algn="l" pos="42879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Century Gothic"/>
              </a:rPr>
              <a:t>(clinical sign)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=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Century Gothic"/>
              </a:rPr>
              <a:t>entity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 +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Century Gothic"/>
              </a:rPr>
              <a:t>qua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2174760"/>
                <a:tab algn="l" pos="42879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0" name="" descr=""/>
          <p:cNvPicPr/>
          <p:nvPr/>
        </p:nvPicPr>
        <p:blipFill>
          <a:blip r:embed="rId1"/>
          <a:stretch/>
        </p:blipFill>
        <p:spPr>
          <a:xfrm>
            <a:off x="3351240" y="3097080"/>
            <a:ext cx="2438280" cy="23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"/>
          <p:cNvSpPr/>
          <p:nvPr/>
        </p:nvSpPr>
        <p:spPr>
          <a:xfrm>
            <a:off x="152280" y="485640"/>
            <a:ext cx="7620120" cy="27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7640"/>
                <a:tab algn="l" pos="2174760"/>
                <a:tab algn="l" pos="42879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Phenotyp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2174760"/>
                <a:tab algn="l" pos="42879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Century Gothic"/>
              </a:rPr>
              <a:t>(clinical sign)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=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Century Gothic"/>
              </a:rPr>
              <a:t>entity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 +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Century Gothic"/>
              </a:rPr>
              <a:t>qua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2174760"/>
                <a:tab algn="l" pos="42879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P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entury Gothic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=   eye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 +   hypotelor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2174760"/>
                <a:tab algn="l" pos="42879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2" name="" descr=""/>
          <p:cNvPicPr/>
          <p:nvPr/>
        </p:nvPicPr>
        <p:blipFill>
          <a:blip r:embed="rId1"/>
          <a:stretch/>
        </p:blipFill>
        <p:spPr>
          <a:xfrm>
            <a:off x="3351240" y="3097080"/>
            <a:ext cx="2438280" cy="23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121" name=""/>
          <p:cNvCxnSpPr>
            <a:stCxn id="122" idx="3"/>
            <a:endCxn id="123" idx="2"/>
          </p:cNvCxnSpPr>
          <p:nvPr/>
        </p:nvCxnSpPr>
        <p:spPr>
          <a:xfrm flipV="1">
            <a:off x="3047760" y="4191120"/>
            <a:ext cx="1639080" cy="1038600"/>
          </a:xfrm>
          <a:prstGeom prst="straightConnector1">
            <a:avLst/>
          </a:prstGeom>
          <a:ln w="57240">
            <a:solidFill>
              <a:srgbClr val="ffcc66"/>
            </a:solidFill>
            <a:miter/>
          </a:ln>
        </p:spPr>
      </p:cxnSp>
      <p:cxnSp>
        <p:nvCxnSpPr>
          <p:cNvPr id="124" name=""/>
          <p:cNvCxnSpPr>
            <a:stCxn id="125" idx="2"/>
            <a:endCxn id="123" idx="0"/>
          </p:cNvCxnSpPr>
          <p:nvPr/>
        </p:nvCxnSpPr>
        <p:spPr>
          <a:xfrm>
            <a:off x="1677600" y="762120"/>
            <a:ext cx="3009240" cy="2286720"/>
          </a:xfrm>
          <a:prstGeom prst="straightConnector1">
            <a:avLst/>
          </a:prstGeom>
          <a:ln w="57240">
            <a:solidFill>
              <a:srgbClr val="ffcc66"/>
            </a:solidFill>
            <a:miter/>
          </a:ln>
        </p:spPr>
      </p:cxnSp>
      <p:cxnSp>
        <p:nvCxnSpPr>
          <p:cNvPr id="126" name=""/>
          <p:cNvCxnSpPr>
            <a:stCxn id="127" idx="1"/>
            <a:endCxn id="123" idx="2"/>
          </p:cNvCxnSpPr>
          <p:nvPr/>
        </p:nvCxnSpPr>
        <p:spPr>
          <a:xfrm flipH="1" flipV="1">
            <a:off x="4686120" y="4190400"/>
            <a:ext cx="724320" cy="1472040"/>
          </a:xfrm>
          <a:prstGeom prst="straightConnector1">
            <a:avLst/>
          </a:prstGeom>
          <a:ln w="57240">
            <a:solidFill>
              <a:srgbClr val="ffcc66"/>
            </a:solidFill>
            <a:miter/>
          </a:ln>
        </p:spPr>
      </p:cxnSp>
      <p:cxnSp>
        <p:nvCxnSpPr>
          <p:cNvPr id="128" name=""/>
          <p:cNvCxnSpPr>
            <a:stCxn id="129" idx="3"/>
            <a:endCxn id="123" idx="1"/>
          </p:cNvCxnSpPr>
          <p:nvPr/>
        </p:nvCxnSpPr>
        <p:spPr>
          <a:xfrm>
            <a:off x="1981080" y="3507840"/>
            <a:ext cx="1524960" cy="111960"/>
          </a:xfrm>
          <a:prstGeom prst="straightConnector1">
            <a:avLst/>
          </a:prstGeom>
          <a:ln w="57240">
            <a:solidFill>
              <a:srgbClr val="ffcc66"/>
            </a:solidFill>
            <a:miter/>
          </a:ln>
        </p:spPr>
      </p:cxnSp>
      <p:cxnSp>
        <p:nvCxnSpPr>
          <p:cNvPr id="130" name=""/>
          <p:cNvCxnSpPr>
            <a:stCxn id="131" idx="3"/>
            <a:endCxn id="123" idx="1"/>
          </p:cNvCxnSpPr>
          <p:nvPr/>
        </p:nvCxnSpPr>
        <p:spPr>
          <a:xfrm>
            <a:off x="1916280" y="2457360"/>
            <a:ext cx="1589760" cy="1162440"/>
          </a:xfrm>
          <a:prstGeom prst="straightConnector1">
            <a:avLst/>
          </a:prstGeom>
          <a:ln w="57240">
            <a:solidFill>
              <a:srgbClr val="ffcc66"/>
            </a:solidFill>
            <a:miter/>
          </a:ln>
        </p:spPr>
      </p:cxnSp>
      <p:cxnSp>
        <p:nvCxnSpPr>
          <p:cNvPr id="132" name=""/>
          <p:cNvCxnSpPr>
            <a:endCxn id="123" idx="1"/>
          </p:cNvCxnSpPr>
          <p:nvPr/>
        </p:nvCxnSpPr>
        <p:spPr>
          <a:xfrm>
            <a:off x="1676520" y="1760400"/>
            <a:ext cx="1829520" cy="1859760"/>
          </a:xfrm>
          <a:prstGeom prst="straightConnector1">
            <a:avLst/>
          </a:prstGeom>
          <a:ln w="57240">
            <a:solidFill>
              <a:srgbClr val="ffcc66"/>
            </a:solidFill>
            <a:miter/>
          </a:ln>
        </p:spPr>
      </p:cxnSp>
      <p:cxnSp>
        <p:nvCxnSpPr>
          <p:cNvPr id="133" name=""/>
          <p:cNvCxnSpPr>
            <a:stCxn id="134" idx="1"/>
            <a:endCxn id="123" idx="0"/>
          </p:cNvCxnSpPr>
          <p:nvPr/>
        </p:nvCxnSpPr>
        <p:spPr>
          <a:xfrm flipH="1">
            <a:off x="4685760" y="2173320"/>
            <a:ext cx="2400840" cy="875520"/>
          </a:xfrm>
          <a:prstGeom prst="straightConnector1">
            <a:avLst/>
          </a:prstGeom>
          <a:ln w="57240">
            <a:solidFill>
              <a:srgbClr val="ffcc66"/>
            </a:solidFill>
            <a:miter/>
          </a:ln>
        </p:spPr>
      </p:cxnSp>
      <p:cxnSp>
        <p:nvCxnSpPr>
          <p:cNvPr id="135" name=""/>
          <p:cNvCxnSpPr>
            <a:stCxn id="136" idx="2"/>
            <a:endCxn id="123" idx="0"/>
          </p:cNvCxnSpPr>
          <p:nvPr/>
        </p:nvCxnSpPr>
        <p:spPr>
          <a:xfrm flipH="1">
            <a:off x="4686120" y="1488600"/>
            <a:ext cx="2653200" cy="1559880"/>
          </a:xfrm>
          <a:prstGeom prst="straightConnector1">
            <a:avLst/>
          </a:prstGeom>
          <a:ln w="57240">
            <a:solidFill>
              <a:srgbClr val="ffcc66"/>
            </a:solidFill>
            <a:miter/>
          </a:ln>
        </p:spPr>
      </p:cxnSp>
      <p:sp>
        <p:nvSpPr>
          <p:cNvPr id="137" name=""/>
          <p:cNvSpPr/>
          <p:nvPr/>
        </p:nvSpPr>
        <p:spPr>
          <a:xfrm flipH="1">
            <a:off x="3505320" y="3733920"/>
            <a:ext cx="380880" cy="0"/>
          </a:xfrm>
          <a:prstGeom prst="line">
            <a:avLst/>
          </a:prstGeom>
          <a:ln w="572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429000" y="5410080"/>
            <a:ext cx="1300320" cy="120168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1066680" y="1143000"/>
            <a:ext cx="1235160" cy="6174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7162920" y="3809880"/>
            <a:ext cx="1981080" cy="1155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4"/>
          <a:stretch/>
        </p:blipFill>
        <p:spPr>
          <a:xfrm>
            <a:off x="2743200" y="868320"/>
            <a:ext cx="1943280" cy="50328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5"/>
          <a:stretch/>
        </p:blipFill>
        <p:spPr>
          <a:xfrm>
            <a:off x="1755720" y="4800600"/>
            <a:ext cx="1292400" cy="85716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6"/>
          <a:stretch/>
        </p:blipFill>
        <p:spPr>
          <a:xfrm>
            <a:off x="6858000" y="2941560"/>
            <a:ext cx="1646280" cy="63972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7"/>
          <a:stretch/>
        </p:blipFill>
        <p:spPr>
          <a:xfrm>
            <a:off x="5181480" y="6172200"/>
            <a:ext cx="1714680" cy="42228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8"/>
          <a:stretch/>
        </p:blipFill>
        <p:spPr>
          <a:xfrm>
            <a:off x="533520" y="2057400"/>
            <a:ext cx="1382760" cy="80028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9"/>
          <a:stretch/>
        </p:blipFill>
        <p:spPr>
          <a:xfrm>
            <a:off x="6446880" y="1066680"/>
            <a:ext cx="1782720" cy="42228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10"/>
          <a:stretch/>
        </p:blipFill>
        <p:spPr>
          <a:xfrm>
            <a:off x="457200" y="3200400"/>
            <a:ext cx="1523880" cy="61596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11"/>
          <a:stretch/>
        </p:blipFill>
        <p:spPr>
          <a:xfrm>
            <a:off x="5410080" y="5410080"/>
            <a:ext cx="3429000" cy="50328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12"/>
          <a:stretch/>
        </p:blipFill>
        <p:spPr>
          <a:xfrm>
            <a:off x="2514600" y="1639800"/>
            <a:ext cx="1143000" cy="72252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13"/>
          <a:stretch/>
        </p:blipFill>
        <p:spPr>
          <a:xfrm>
            <a:off x="3581280" y="4800600"/>
            <a:ext cx="1447920" cy="60336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14"/>
          <a:stretch/>
        </p:blipFill>
        <p:spPr>
          <a:xfrm>
            <a:off x="7086600" y="1676520"/>
            <a:ext cx="1771560" cy="99360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15"/>
          <a:stretch/>
        </p:blipFill>
        <p:spPr>
          <a:xfrm>
            <a:off x="5867280" y="4229280"/>
            <a:ext cx="879480" cy="102852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16"/>
          <a:stretch/>
        </p:blipFill>
        <p:spPr>
          <a:xfrm>
            <a:off x="4343400" y="1676520"/>
            <a:ext cx="2286000" cy="66348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17"/>
          <a:stretch/>
        </p:blipFill>
        <p:spPr>
          <a:xfrm>
            <a:off x="152280" y="133200"/>
            <a:ext cx="3051360" cy="62892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18"/>
          <a:stretch/>
        </p:blipFill>
        <p:spPr>
          <a:xfrm>
            <a:off x="2286000" y="3429000"/>
            <a:ext cx="914400" cy="114300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19"/>
          <a:stretch/>
        </p:blipFill>
        <p:spPr>
          <a:xfrm>
            <a:off x="76320" y="4114800"/>
            <a:ext cx="1981080" cy="49680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0"/>
          <a:stretch/>
        </p:blipFill>
        <p:spPr>
          <a:xfrm>
            <a:off x="152280" y="5892840"/>
            <a:ext cx="1219320" cy="81288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1"/>
          <a:stretch/>
        </p:blipFill>
        <p:spPr>
          <a:xfrm>
            <a:off x="3505320" y="3048120"/>
            <a:ext cx="2361960" cy="1143000"/>
          </a:xfrm>
          <a:prstGeom prst="rect">
            <a:avLst/>
          </a:prstGeom>
          <a:ln w="0">
            <a:noFill/>
          </a:ln>
        </p:spPr>
      </p:pic>
      <p:cxnSp>
        <p:nvCxnSpPr>
          <p:cNvPr id="159" name=""/>
          <p:cNvCxnSpPr>
            <a:stCxn id="141" idx="2"/>
            <a:endCxn id="158" idx="0"/>
          </p:cNvCxnSpPr>
          <p:nvPr/>
        </p:nvCxnSpPr>
        <p:spPr>
          <a:xfrm>
            <a:off x="3714480" y="1371240"/>
            <a:ext cx="972360" cy="1677240"/>
          </a:xfrm>
          <a:prstGeom prst="straightConnector1">
            <a:avLst/>
          </a:prstGeom>
          <a:ln w="57240">
            <a:solidFill>
              <a:srgbClr val="ffcc66"/>
            </a:solidFill>
            <a:miter/>
          </a:ln>
        </p:spPr>
      </p:cxnSp>
      <p:cxnSp>
        <p:nvCxnSpPr>
          <p:cNvPr id="160" name=""/>
          <p:cNvCxnSpPr>
            <a:stCxn id="153" idx="2"/>
            <a:endCxn id="158" idx="0"/>
          </p:cNvCxnSpPr>
          <p:nvPr/>
        </p:nvCxnSpPr>
        <p:spPr>
          <a:xfrm flipH="1">
            <a:off x="4686120" y="2339640"/>
            <a:ext cx="800640" cy="708840"/>
          </a:xfrm>
          <a:prstGeom prst="straightConnector1">
            <a:avLst/>
          </a:prstGeom>
          <a:ln w="57240">
            <a:solidFill>
              <a:srgbClr val="ffcc66"/>
            </a:solidFill>
            <a:miter/>
          </a:ln>
        </p:spPr>
      </p:cxnSp>
      <p:cxnSp>
        <p:nvCxnSpPr>
          <p:cNvPr id="161" name=""/>
          <p:cNvCxnSpPr>
            <a:stCxn id="143" idx="1"/>
            <a:endCxn id="158" idx="3"/>
          </p:cNvCxnSpPr>
          <p:nvPr/>
        </p:nvCxnSpPr>
        <p:spPr>
          <a:xfrm flipH="1">
            <a:off x="5866920" y="3262320"/>
            <a:ext cx="991440" cy="357840"/>
          </a:xfrm>
          <a:prstGeom prst="straightConnector1">
            <a:avLst/>
          </a:prstGeom>
          <a:ln w="57240">
            <a:solidFill>
              <a:srgbClr val="ffcc66"/>
            </a:solidFill>
            <a:miter/>
          </a:ln>
        </p:spPr>
      </p:cxnSp>
      <p:cxnSp>
        <p:nvCxnSpPr>
          <p:cNvPr id="162" name=""/>
          <p:cNvCxnSpPr>
            <a:stCxn id="140" idx="1"/>
            <a:endCxn id="158" idx="3"/>
          </p:cNvCxnSpPr>
          <p:nvPr/>
        </p:nvCxnSpPr>
        <p:spPr>
          <a:xfrm flipH="1" flipV="1">
            <a:off x="5866560" y="3619080"/>
            <a:ext cx="1296360" cy="768960"/>
          </a:xfrm>
          <a:prstGeom prst="straightConnector1">
            <a:avLst/>
          </a:prstGeom>
          <a:ln w="57240">
            <a:solidFill>
              <a:srgbClr val="ffcc66"/>
            </a:solidFill>
            <a:miter/>
          </a:ln>
        </p:spPr>
      </p:cxnSp>
      <p:cxnSp>
        <p:nvCxnSpPr>
          <p:cNvPr id="163" name=""/>
          <p:cNvCxnSpPr>
            <a:stCxn id="152" idx="1"/>
            <a:endCxn id="158" idx="2"/>
          </p:cNvCxnSpPr>
          <p:nvPr/>
        </p:nvCxnSpPr>
        <p:spPr>
          <a:xfrm flipH="1" flipV="1">
            <a:off x="4686120" y="4190760"/>
            <a:ext cx="1181520" cy="552960"/>
          </a:xfrm>
          <a:prstGeom prst="straightConnector1">
            <a:avLst/>
          </a:prstGeom>
          <a:ln w="57240">
            <a:solidFill>
              <a:srgbClr val="ffcc66"/>
            </a:solidFill>
            <a:miter/>
          </a:ln>
        </p:spPr>
      </p:cxnSp>
      <p:cxnSp>
        <p:nvCxnSpPr>
          <p:cNvPr id="164" name=""/>
          <p:cNvCxnSpPr>
            <a:stCxn id="150" idx="0"/>
            <a:endCxn id="158" idx="2"/>
          </p:cNvCxnSpPr>
          <p:nvPr/>
        </p:nvCxnSpPr>
        <p:spPr>
          <a:xfrm flipV="1">
            <a:off x="4304880" y="4190400"/>
            <a:ext cx="381960" cy="610200"/>
          </a:xfrm>
          <a:prstGeom prst="straightConnector1">
            <a:avLst/>
          </a:prstGeom>
          <a:ln w="57240">
            <a:solidFill>
              <a:srgbClr val="ffcc66"/>
            </a:solidFill>
            <a:miter/>
          </a:ln>
        </p:spPr>
      </p:cxnSp>
      <p:cxnSp>
        <p:nvCxnSpPr>
          <p:cNvPr id="165" name=""/>
          <p:cNvCxnSpPr>
            <a:stCxn id="157" idx="0"/>
            <a:endCxn id="142" idx="1"/>
          </p:cNvCxnSpPr>
          <p:nvPr/>
        </p:nvCxnSpPr>
        <p:spPr>
          <a:xfrm flipV="1">
            <a:off x="762120" y="5228640"/>
            <a:ext cx="993960" cy="664200"/>
          </a:xfrm>
          <a:prstGeom prst="straightConnector1">
            <a:avLst/>
          </a:prstGeom>
          <a:ln w="57240">
            <a:solidFill>
              <a:srgbClr val="ffcc66"/>
            </a:solidFill>
            <a:miter/>
          </a:ln>
        </p:spPr>
      </p:cxnSp>
      <p:cxnSp>
        <p:nvCxnSpPr>
          <p:cNvPr id="166" name=""/>
          <p:cNvCxnSpPr>
            <a:stCxn id="156" idx="2"/>
            <a:endCxn id="142" idx="1"/>
          </p:cNvCxnSpPr>
          <p:nvPr/>
        </p:nvCxnSpPr>
        <p:spPr>
          <a:xfrm>
            <a:off x="1066680" y="4611600"/>
            <a:ext cx="689760" cy="618480"/>
          </a:xfrm>
          <a:prstGeom prst="straightConnector1">
            <a:avLst/>
          </a:prstGeom>
          <a:ln w="57240">
            <a:solidFill>
              <a:srgbClr val="ffcc66"/>
            </a:solidFill>
            <a:miter/>
          </a:ln>
        </p:spPr>
      </p:cxnSp>
      <p:cxnSp>
        <p:nvCxnSpPr>
          <p:cNvPr id="167" name=""/>
          <p:cNvCxnSpPr>
            <a:stCxn id="155" idx="3"/>
            <a:endCxn id="158" idx="1"/>
          </p:cNvCxnSpPr>
          <p:nvPr/>
        </p:nvCxnSpPr>
        <p:spPr>
          <a:xfrm flipV="1">
            <a:off x="3200040" y="3618720"/>
            <a:ext cx="305640" cy="381960"/>
          </a:xfrm>
          <a:prstGeom prst="straightConnector1">
            <a:avLst/>
          </a:prstGeom>
          <a:ln w="57240">
            <a:solidFill>
              <a:srgbClr val="ffcc66"/>
            </a:solidFill>
            <a:miter/>
          </a:ln>
        </p:spPr>
      </p:cxnSp>
      <p:cxnSp>
        <p:nvCxnSpPr>
          <p:cNvPr id="168" name=""/>
          <p:cNvCxnSpPr>
            <a:stCxn id="149" idx="2"/>
          </p:cNvCxnSpPr>
          <p:nvPr/>
        </p:nvCxnSpPr>
        <p:spPr>
          <a:xfrm>
            <a:off x="3085920" y="2361960"/>
            <a:ext cx="1486440" cy="610200"/>
          </a:xfrm>
          <a:prstGeom prst="straightConnector1">
            <a:avLst/>
          </a:prstGeom>
          <a:ln w="57240">
            <a:solidFill>
              <a:srgbClr val="ffcc66"/>
            </a:solidFill>
            <a:miter/>
          </a:ln>
        </p:spPr>
      </p:cxn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66"/>
                </a:solidFill>
                <a:latin typeface="Century Gothic"/>
                <a:ea typeface="ＭＳ Ｐゴシック"/>
              </a:rPr>
              <a:t>Ontologies are essential to </a:t>
            </a:r>
            <a:br>
              <a:rPr sz="2800"/>
            </a:br>
            <a:r>
              <a:rPr b="1" i="1" lang="en-US" sz="2800" spc="-1" strike="noStrike">
                <a:solidFill>
                  <a:srgbClr val="ffcc66"/>
                </a:solidFill>
                <a:latin typeface="Century Gothic"/>
                <a:ea typeface="ＭＳ Ｐゴシック"/>
              </a:rPr>
              <a:t> make sense of biomedical data</a:t>
            </a:r>
            <a:endParaRPr b="0" lang="en-US" sz="2800" spc="-1" strike="noStrike">
              <a:solidFill>
                <a:srgbClr val="ffcc6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"/>
          <p:cNvSpPr/>
          <p:nvPr/>
        </p:nvSpPr>
        <p:spPr>
          <a:xfrm>
            <a:off x="152280" y="485640"/>
            <a:ext cx="7620120" cy="36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7640"/>
                <a:tab algn="l" pos="2174760"/>
                <a:tab algn="l" pos="42879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Phenotyp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2174760"/>
                <a:tab algn="l" pos="42879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Century Gothic"/>
              </a:rPr>
              <a:t>(clinical sign)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=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Century Gothic"/>
              </a:rPr>
              <a:t>entity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 +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Century Gothic"/>
              </a:rPr>
              <a:t>qua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2174760"/>
                <a:tab algn="l" pos="42879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P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entury Gothic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=   eye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 +   hypotelor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2174760"/>
                <a:tab algn="l" pos="42879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P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entury Gothic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=   midface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 +   hypoplastic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2174760"/>
                <a:tab algn="l" pos="42879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4" name="" descr=""/>
          <p:cNvPicPr/>
          <p:nvPr/>
        </p:nvPicPr>
        <p:blipFill>
          <a:blip r:embed="rId1"/>
          <a:stretch/>
        </p:blipFill>
        <p:spPr>
          <a:xfrm>
            <a:off x="3351240" y="3097080"/>
            <a:ext cx="2438280" cy="23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"/>
          <p:cNvSpPr/>
          <p:nvPr/>
        </p:nvSpPr>
        <p:spPr>
          <a:xfrm>
            <a:off x="152280" y="485640"/>
            <a:ext cx="7848720" cy="41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7640"/>
                <a:tab algn="l" pos="2174760"/>
                <a:tab algn="l" pos="42879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Phenotyp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2174760"/>
                <a:tab algn="l" pos="42879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Century Gothic"/>
              </a:rPr>
              <a:t>(clinical sign)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=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Century Gothic"/>
              </a:rPr>
              <a:t>entity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 +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Century Gothic"/>
              </a:rPr>
              <a:t>qua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2174760"/>
                <a:tab algn="l" pos="42879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P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entury Gothic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=   eye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 +   hypotelor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2174760"/>
                <a:tab algn="l" pos="42879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P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entury Gothic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=   midface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 +   hypoplastic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2174760"/>
                <a:tab algn="l" pos="42879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P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entury Gothic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=   kidney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 +   hypertrophi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6" name="" descr=""/>
          <p:cNvPicPr/>
          <p:nvPr/>
        </p:nvPicPr>
        <p:blipFill>
          <a:blip r:embed="rId1"/>
          <a:stretch/>
        </p:blipFill>
        <p:spPr>
          <a:xfrm>
            <a:off x="3351240" y="3097080"/>
            <a:ext cx="2438280" cy="23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"/>
          <p:cNvSpPr/>
          <p:nvPr/>
        </p:nvSpPr>
        <p:spPr>
          <a:xfrm>
            <a:off x="152280" y="485640"/>
            <a:ext cx="774864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7640"/>
                <a:tab algn="l" pos="2174760"/>
                <a:tab algn="l" pos="42879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Phenotyp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2174760"/>
                <a:tab algn="l" pos="42879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Century Gothic"/>
              </a:rPr>
              <a:t>(clinical sign)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=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Century Gothic"/>
              </a:rPr>
              <a:t>entity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 +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Century Gothic"/>
              </a:rPr>
              <a:t>qua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2174760"/>
                <a:tab algn="l" pos="42879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P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entury Gothic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=   eye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 +   hypotelor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2174760"/>
                <a:tab algn="l" pos="42879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P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entury Gothic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=   midface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 +   hypoplastic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2174760"/>
                <a:tab algn="l" pos="42879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P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entury Gothic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=   kidney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 +   hypertrophi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5257800" y="3219480"/>
            <a:ext cx="3436920" cy="2790720"/>
          </a:xfrm>
          <a:prstGeom prst="rect">
            <a:avLst/>
          </a:prstGeom>
          <a:noFill/>
          <a:ln w="19080">
            <a:solidFill>
              <a:srgbClr val="686b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Century Gothic"/>
              </a:rPr>
              <a:t>PATO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hypotelor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hypoplast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hypertrophi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1066680" y="3225960"/>
            <a:ext cx="2183040" cy="2741400"/>
          </a:xfrm>
          <a:prstGeom prst="rect">
            <a:avLst/>
          </a:prstGeom>
          <a:noFill/>
          <a:ln w="19080">
            <a:solidFill>
              <a:srgbClr val="686b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Century Gothic"/>
              </a:rPr>
              <a:t>ZFI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ey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midf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kidne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4570560" y="533520"/>
            <a:ext cx="0" cy="5943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4573440" y="4154400"/>
            <a:ext cx="590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entury Gothic"/>
              </a:rPr>
              <a:t>+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"/>
          <p:cNvSpPr/>
          <p:nvPr/>
        </p:nvSpPr>
        <p:spPr>
          <a:xfrm>
            <a:off x="380880" y="485640"/>
            <a:ext cx="678348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7640"/>
                <a:tab algn="l" pos="2174760"/>
                <a:tab algn="l" pos="42879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Phenotyp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2174760"/>
                <a:tab algn="l" pos="42879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Century Gothic"/>
              </a:rPr>
              <a:t>(clinical sign)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=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Century Gothic"/>
              </a:rPr>
              <a:t>entity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 +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Century Gothic"/>
              </a:rPr>
              <a:t>qua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217800" y="2089080"/>
            <a:ext cx="4386960" cy="33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Anatomical ontolog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Cell &amp; tissue ontology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Developmental ontolog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Gene ontolog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biological proc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cellular compon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4495320" y="3157560"/>
            <a:ext cx="4295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+     PAT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(phenotype and trait ontology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4570560" y="533520"/>
            <a:ext cx="0" cy="5943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"/>
          <p:cNvSpPr/>
          <p:nvPr/>
        </p:nvSpPr>
        <p:spPr>
          <a:xfrm>
            <a:off x="380880" y="515880"/>
            <a:ext cx="785520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7640"/>
                <a:tab algn="l" pos="2174760"/>
                <a:tab algn="l" pos="42879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Phenotyp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2174760"/>
                <a:tab algn="l" pos="42879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Century Gothic"/>
              </a:rPr>
              <a:t>(clinical sign)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=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Century Gothic"/>
              </a:rPr>
              <a:t>entity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 +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Century Gothic"/>
              </a:rPr>
              <a:t>qua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2174760"/>
                <a:tab algn="l" pos="42879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P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entury Gothic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=   eye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 +   hypotelor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2174760"/>
                <a:tab algn="l" pos="42879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P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entury Gothic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=   midface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 +   hypoplastic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2174760"/>
                <a:tab algn="l" pos="42879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P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entury Gothic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=   kidney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 +   hypertrophi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838080" y="3379680"/>
            <a:ext cx="600228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7640"/>
                <a:tab algn="l" pos="188604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Syndrome =  P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entury Gothic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  +  P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entury Gothic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  +  P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entury Gothic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7640"/>
                <a:tab algn="l" pos="188604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(diseas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7640"/>
                <a:tab algn="l" pos="188604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          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=  holoprosencepha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8" name="" descr=""/>
          <p:cNvPicPr/>
          <p:nvPr/>
        </p:nvPicPr>
        <p:blipFill>
          <a:blip r:embed="rId1"/>
          <a:stretch/>
        </p:blipFill>
        <p:spPr>
          <a:xfrm>
            <a:off x="111240" y="1555920"/>
            <a:ext cx="8916840" cy="5008320"/>
          </a:xfrm>
          <a:prstGeom prst="rect">
            <a:avLst/>
          </a:prstGeom>
          <a:ln w="0">
            <a:noFill/>
          </a:ln>
        </p:spPr>
      </p:pic>
      <p:sp>
        <p:nvSpPr>
          <p:cNvPr id="659" name=""/>
          <p:cNvSpPr/>
          <p:nvPr/>
        </p:nvSpPr>
        <p:spPr>
          <a:xfrm>
            <a:off x="235440" y="601560"/>
            <a:ext cx="255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Human holo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prosencepha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3657960" y="601560"/>
            <a:ext cx="1826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Zebrafis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Century Gothic"/>
              </a:rPr>
              <a:t>shh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6721920" y="601560"/>
            <a:ext cx="1826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Zebrafis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Century Gothic"/>
              </a:rPr>
              <a:t>oep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2" name=""/>
          <p:cNvGraphicFramePr/>
          <p:nvPr/>
        </p:nvGraphicFramePr>
        <p:xfrm>
          <a:off x="76320" y="990720"/>
          <a:ext cx="8915040" cy="4800240"/>
        </p:xfrm>
        <a:graphic>
          <a:graphicData uri="http://schemas.openxmlformats.org/drawingml/2006/table">
            <a:tbl>
              <a:tblPr/>
              <a:tblGrid>
                <a:gridCol w="938160"/>
                <a:gridCol w="782280"/>
                <a:gridCol w="938520"/>
                <a:gridCol w="959400"/>
                <a:gridCol w="917640"/>
                <a:gridCol w="781560"/>
                <a:gridCol w="469440"/>
                <a:gridCol w="625680"/>
                <a:gridCol w="2502360"/>
              </a:tblGrid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Osaka"/>
                        </a:rPr>
                        <a:t>OMIM gen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Osaka"/>
                        </a:rPr>
                        <a:t>ZFIN gen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Osaka"/>
                        </a:rPr>
                        <a:t>FlyBase gen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Osaka"/>
                        </a:rPr>
                        <a:t>FlyBase  mut pu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Osaka"/>
                        </a:rPr>
                        <a:t>ZFIN mut pu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Osaka"/>
                        </a:rPr>
                        <a:t>mous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Osaka"/>
                        </a:rPr>
                        <a:t>ra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Osaka"/>
                        </a:rPr>
                        <a:t>SNOM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Osaka"/>
                        </a:rPr>
                        <a:t>OMIM dise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Osaka"/>
                        </a:rPr>
                        <a:t>LAMB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Osaka"/>
                        </a:rPr>
                        <a:t>lamb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Osaka"/>
                        </a:rPr>
                        <a:t>LanB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Osaka"/>
                        </a:rPr>
                        <a:t>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Osaka"/>
                        </a:rPr>
                        <a:t>1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Osaka"/>
                        </a:rPr>
                        <a:t>3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Osaka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Osaka"/>
                        </a:rPr>
                        <a:t>FECH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Osaka"/>
                        </a:rPr>
                        <a:t>fech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Osaka"/>
                        </a:rPr>
                        <a:t>Ferro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Osaka"/>
                        </a:rPr>
                        <a:t>chelatas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Osaka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Osaka"/>
                        </a:rPr>
                        <a:t>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Osaka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Osaka"/>
                        </a:rPr>
                        <a:t>2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Osaka"/>
                        </a:rPr>
                        <a:t>Protoporphyria, Erythropoietic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Osaka"/>
                        </a:rPr>
                        <a:t>GLI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Osaka"/>
                        </a:rPr>
                        <a:t>gli2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Osaka"/>
                        </a:rPr>
                        <a:t>ci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Osaka"/>
                        </a:rPr>
                        <a:t>38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Osaka"/>
                        </a:rPr>
                        <a:t>4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Osaka"/>
                        </a:rPr>
                        <a:t>2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Osaka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Osaka"/>
                        </a:rPr>
                        <a:t>SLC4A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Osaka"/>
                        </a:rPr>
                        <a:t>slc4a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Osaka"/>
                        </a:rPr>
                        <a:t>CG817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Osaka"/>
                        </a:rPr>
                        <a:t>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Osaka"/>
                        </a:rPr>
                        <a:t>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Osaka"/>
                        </a:rPr>
                        <a:t>1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Osaka"/>
                        </a:rPr>
                        <a:t>Renal Tubular Acidosis, RTAD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Osaka"/>
                        </a:rPr>
                        <a:t>MYO7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Osaka"/>
                        </a:rPr>
                        <a:t>myo7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Osaka"/>
                        </a:rPr>
                        <a:t>ck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Osaka"/>
                        </a:rPr>
                        <a:t>8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Osaka"/>
                        </a:rPr>
                        <a:t>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Osaka"/>
                        </a:rPr>
                        <a:t>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Osaka"/>
                        </a:rPr>
                        <a:t>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Osaka"/>
                        </a:rPr>
                        <a:t>1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Osaka"/>
                        </a:rPr>
                        <a:t>Deafness; DFNB2; DFNA1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Osaka"/>
                        </a:rPr>
                        <a:t>ALAS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Osaka"/>
                        </a:rPr>
                        <a:t>alas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Osaka"/>
                        </a:rPr>
                        <a:t>Ala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Osaka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Osaka"/>
                        </a:rPr>
                        <a:t>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Osaka"/>
                        </a:rPr>
                        <a:t>1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Osaka"/>
                        </a:rPr>
                        <a:t>Anemia, Sideroblastic, X-Linked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Osaka"/>
                        </a:rPr>
                        <a:t>KCNH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Osaka"/>
                        </a:rPr>
                        <a:t>kcnh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Osaka"/>
                        </a:rPr>
                        <a:t>sei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Osaka"/>
                        </a:rPr>
                        <a:t>2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Osaka"/>
                        </a:rPr>
                        <a:t>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Osaka"/>
                        </a:rPr>
                        <a:t>1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Osaka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6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Osaka"/>
                        </a:rPr>
                        <a:t>MYH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Osaka"/>
                        </a:rPr>
                        <a:t>myh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Osaka"/>
                        </a:rPr>
                        <a:t>Mhc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Osaka"/>
                        </a:rPr>
                        <a:t>16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Osaka"/>
                        </a:rPr>
                        <a:t>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Osaka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Osaka"/>
                        </a:rPr>
                        <a:t>1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Osaka"/>
                        </a:rPr>
                        <a:t>Cardiomyopathy, Familial Hypertrophic; CMH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Osaka"/>
                        </a:rPr>
                        <a:t>TP5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Osaka"/>
                        </a:rPr>
                        <a:t>tp5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Osaka"/>
                        </a:rPr>
                        <a:t>p5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Osaka"/>
                        </a:rPr>
                        <a:t>6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Osaka"/>
                        </a:rPr>
                        <a:t>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Osaka"/>
                        </a:rPr>
                        <a:t>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Osaka"/>
                        </a:rPr>
                        <a:t>1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Osaka"/>
                        </a:rPr>
                        <a:t>1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Osaka"/>
                        </a:rPr>
                        <a:t>Breast Canc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Osaka"/>
                        </a:rPr>
                        <a:t>ATP2A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Osaka"/>
                        </a:rPr>
                        <a:t>atp2a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Osaka"/>
                        </a:rPr>
                        <a:t>Ca-P60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Osaka"/>
                        </a:rPr>
                        <a:t>3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Osaka"/>
                        </a:rPr>
                        <a:t>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Osaka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Osaka"/>
                        </a:rPr>
                        <a:t>1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Osaka"/>
                        </a:rPr>
                        <a:t>Brody Myopathy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Osaka"/>
                        </a:rPr>
                        <a:t>EYA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Osaka"/>
                        </a:rPr>
                        <a:t>eya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Osaka"/>
                        </a:rPr>
                        <a:t>ey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Osaka"/>
                        </a:rPr>
                        <a:t>25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Osaka"/>
                        </a:rPr>
                        <a:t>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Osaka"/>
                        </a:rPr>
                        <a:t>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Osaka"/>
                        </a:rPr>
                        <a:t>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Osaka"/>
                        </a:rPr>
                        <a:t>Branchiootorenal Dysplasi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Osaka"/>
                        </a:rPr>
                        <a:t>SOX1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Osaka"/>
                        </a:rPr>
                        <a:t>sox1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Osaka"/>
                        </a:rPr>
                        <a:t>Sox100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Osaka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Osaka"/>
                        </a:rPr>
                        <a:t>1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Osaka"/>
                        </a:rPr>
                        <a:t>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Osaka"/>
                        </a:rPr>
                        <a:t>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Osaka"/>
                        </a:rPr>
                        <a:t>Waardenburg-Shah Syndrom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"/>
          <p:cNvSpPr/>
          <p:nvPr/>
        </p:nvSpPr>
        <p:spPr>
          <a:xfrm>
            <a:off x="1117440" y="1716120"/>
            <a:ext cx="2895840" cy="1828800"/>
          </a:xfrm>
          <a:prstGeom prst="ellipse">
            <a:avLst/>
          </a:prstGeom>
          <a:solidFill>
            <a:srgbClr val="909082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 Light"/>
              </a:rPr>
              <a:t>Open Biomedical Ontolog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 Light"/>
              </a:rPr>
              <a:t>(OBO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5130720" y="1716120"/>
            <a:ext cx="2895840" cy="1828800"/>
          </a:xfrm>
          <a:prstGeom prst="ellipse">
            <a:avLst/>
          </a:prstGeom>
          <a:solidFill>
            <a:srgbClr val="909082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 Light"/>
              </a:rPr>
              <a:t>Open Biomedical Data (OBD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3159000" y="3881520"/>
            <a:ext cx="2820960" cy="1828800"/>
          </a:xfrm>
          <a:prstGeom prst="ellipse">
            <a:avLst/>
          </a:prstGeom>
          <a:solidFill>
            <a:srgbClr val="909082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 Light"/>
              </a:rPr>
              <a:t>BioPor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1874880" y="1012680"/>
            <a:ext cx="539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Capture and index experimental resul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685800" y="3962520"/>
            <a:ext cx="182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Revise biomedical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understand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6705720" y="4038480"/>
            <a:ext cx="1981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Relate experimental data to results from other sour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-299520" y="0"/>
            <a:ext cx="969048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National Center for Biomedical Ont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670" name=""/>
          <p:cNvCxnSpPr>
            <a:stCxn id="664" idx="4"/>
            <a:endCxn id="665" idx="6"/>
          </p:cNvCxnSpPr>
          <p:nvPr/>
        </p:nvCxnSpPr>
        <p:spPr>
          <a:xfrm rot="5400000">
            <a:off x="5667480" y="3884760"/>
            <a:ext cx="1236960" cy="585000"/>
          </a:xfrm>
          <a:prstGeom prst="curvedConnector2">
            <a:avLst/>
          </a:prstGeom>
          <a:ln w="76320">
            <a:solidFill>
              <a:srgbClr val="c0ff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71" name=""/>
          <p:cNvCxnSpPr>
            <a:stCxn id="664" idx="1"/>
            <a:endCxn id="663" idx="7"/>
          </p:cNvCxnSpPr>
          <p:nvPr/>
        </p:nvCxnSpPr>
        <p:spPr>
          <a:xfrm rot="5400000">
            <a:off x="4570560" y="987120"/>
            <a:ext cx="2520" cy="1966320"/>
          </a:xfrm>
          <a:prstGeom prst="curvedConnector5">
            <a:avLst>
              <a:gd name="adj1" fmla="val -30400000"/>
              <a:gd name="adj2" fmla="val 49990"/>
              <a:gd name="adj3" fmla="val -30400000"/>
            </a:avLst>
          </a:prstGeom>
          <a:ln w="76320">
            <a:solidFill>
              <a:srgbClr val="c0ff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72" name=""/>
          <p:cNvCxnSpPr>
            <a:stCxn id="663" idx="4"/>
            <a:endCxn id="665" idx="2"/>
          </p:cNvCxnSpPr>
          <p:nvPr/>
        </p:nvCxnSpPr>
        <p:spPr>
          <a:xfrm flipH="1" rot="16200000">
            <a:off x="2237040" y="3886920"/>
            <a:ext cx="1236960" cy="580320"/>
          </a:xfrm>
          <a:prstGeom prst="curvedConnector2">
            <a:avLst/>
          </a:prstGeom>
          <a:ln w="76320">
            <a:solidFill>
              <a:srgbClr val="c0ff00"/>
            </a:solidFill>
            <a:miter/>
            <a:headEnd len="med" type="triangle" w="med"/>
            <a:tailEnd len="med" type="triangle" w="med"/>
          </a:ln>
        </p:spPr>
      </p:cxnSp>
      <p:pic>
        <p:nvPicPr>
          <p:cNvPr id="673" name="" descr=""/>
          <p:cNvPicPr/>
          <p:nvPr/>
        </p:nvPicPr>
        <p:blipFill>
          <a:blip r:embed="rId1"/>
          <a:stretch/>
        </p:blipFill>
        <p:spPr>
          <a:xfrm>
            <a:off x="380880" y="838080"/>
            <a:ext cx="1371600" cy="77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entury Gothic"/>
              </a:rPr>
              <a:t>Phenotype as an observation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675" name=""/>
          <p:cNvSpPr/>
          <p:nvPr/>
        </p:nvSpPr>
        <p:spPr>
          <a:xfrm>
            <a:off x="487440" y="2209680"/>
            <a:ext cx="2546280" cy="3434040"/>
          </a:xfrm>
          <a:prstGeom prst="rect">
            <a:avLst/>
          </a:prstGeom>
          <a:noFill/>
          <a:ln w="57240">
            <a:solidFill>
              <a:srgbClr val="809ea8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tex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609480" y="3009960"/>
            <a:ext cx="2286000" cy="457200"/>
          </a:xfrm>
          <a:prstGeom prst="rect">
            <a:avLst/>
          </a:prstGeom>
          <a:solidFill>
            <a:srgbClr val="e9dc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viron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647640" y="4390920"/>
            <a:ext cx="2210040" cy="514440"/>
          </a:xfrm>
          <a:prstGeom prst="rect">
            <a:avLst/>
          </a:prstGeom>
          <a:solidFill>
            <a:srgbClr val="9090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t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3425760" y="2209680"/>
            <a:ext cx="228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class of thing observ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6477120" y="2819520"/>
            <a:ext cx="1828800" cy="8380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blic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6516720" y="3200400"/>
            <a:ext cx="8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g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6294600" y="2209680"/>
            <a:ext cx="2361960" cy="3200400"/>
          </a:xfrm>
          <a:prstGeom prst="rect">
            <a:avLst/>
          </a:prstGeom>
          <a:noFill/>
          <a:ln w="57240">
            <a:solidFill>
              <a:srgbClr val="809ea8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vid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6591240" y="4191120"/>
            <a:ext cx="1676520" cy="914400"/>
          </a:xfrm>
          <a:prstGeom prst="rect">
            <a:avLst/>
          </a:prstGeom>
          <a:solidFill>
            <a:srgbClr val="e3e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a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6593040" y="4572000"/>
            <a:ext cx="152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quence 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3425760" y="57150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ontolog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685" name=""/>
          <p:cNvCxnSpPr>
            <a:stCxn id="684" idx="0"/>
            <a:endCxn id="678" idx="2"/>
          </p:cNvCxnSpPr>
          <p:nvPr/>
        </p:nvCxnSpPr>
        <p:spPr>
          <a:xfrm flipV="1">
            <a:off x="4568400" y="3031920"/>
            <a:ext cx="1080" cy="2683440"/>
          </a:xfrm>
          <a:prstGeom prst="bentConnector2">
            <a:avLst/>
          </a:prstGeom>
          <a:ln w="57240">
            <a:solidFill>
              <a:srgbClr val="66ffff"/>
            </a:solidFill>
            <a:miter/>
            <a:tailEnd len="med" type="triangle" w="med"/>
          </a:ln>
        </p:spPr>
      </p:cxnSp>
      <p:cxnSp>
        <p:nvCxnSpPr>
          <p:cNvPr id="686" name=""/>
          <p:cNvCxnSpPr>
            <a:stCxn id="684" idx="0"/>
            <a:endCxn id="676" idx="3"/>
          </p:cNvCxnSpPr>
          <p:nvPr/>
        </p:nvCxnSpPr>
        <p:spPr>
          <a:xfrm flipV="1" rot="16200000">
            <a:off x="2493360" y="3639240"/>
            <a:ext cx="2477160" cy="1674000"/>
          </a:xfrm>
          <a:prstGeom prst="curvedConnector2">
            <a:avLst/>
          </a:prstGeom>
          <a:ln w="57240">
            <a:solidFill>
              <a:srgbClr val="66ffff"/>
            </a:solidFill>
            <a:miter/>
            <a:tailEnd len="med" type="triangle" w="med"/>
          </a:ln>
        </p:spPr>
      </p:cxnSp>
      <p:cxnSp>
        <p:nvCxnSpPr>
          <p:cNvPr id="687" name=""/>
          <p:cNvCxnSpPr>
            <a:stCxn id="684" idx="0"/>
            <a:endCxn id="677" idx="3"/>
          </p:cNvCxnSpPr>
          <p:nvPr/>
        </p:nvCxnSpPr>
        <p:spPr>
          <a:xfrm flipV="1" rot="16200000">
            <a:off x="3179160" y="4325400"/>
            <a:ext cx="1067400" cy="1711800"/>
          </a:xfrm>
          <a:prstGeom prst="curvedConnector2">
            <a:avLst/>
          </a:prstGeom>
          <a:ln w="57240">
            <a:solidFill>
              <a:srgbClr val="66ffff"/>
            </a:solidFill>
            <a:miter/>
            <a:tailEnd len="med" type="triangle" w="med"/>
          </a:ln>
        </p:spPr>
      </p:cxnSp>
      <p:cxnSp>
        <p:nvCxnSpPr>
          <p:cNvPr id="688" name=""/>
          <p:cNvCxnSpPr>
            <a:stCxn id="684" idx="0"/>
            <a:endCxn id="679" idx="1"/>
          </p:cNvCxnSpPr>
          <p:nvPr/>
        </p:nvCxnSpPr>
        <p:spPr>
          <a:xfrm flipH="1" flipV="1" rot="5400000">
            <a:off x="4284360" y="3521880"/>
            <a:ext cx="2477160" cy="1909080"/>
          </a:xfrm>
          <a:prstGeom prst="curvedConnector2">
            <a:avLst/>
          </a:prstGeom>
          <a:ln w="57240">
            <a:solidFill>
              <a:srgbClr val="66ffff"/>
            </a:solidFill>
            <a:miter/>
            <a:tailEnd len="med" type="triangle" w="med"/>
          </a:ln>
        </p:spPr>
      </p:cxnSp>
      <p:cxnSp>
        <p:nvCxnSpPr>
          <p:cNvPr id="689" name=""/>
          <p:cNvCxnSpPr>
            <a:stCxn id="684" idx="0"/>
            <a:endCxn id="682" idx="1"/>
          </p:cNvCxnSpPr>
          <p:nvPr/>
        </p:nvCxnSpPr>
        <p:spPr>
          <a:xfrm flipH="1" flipV="1" rot="5400000">
            <a:off x="5046480" y="4169880"/>
            <a:ext cx="1067400" cy="2022840"/>
          </a:xfrm>
          <a:prstGeom prst="curvedConnector2">
            <a:avLst/>
          </a:prstGeom>
          <a:ln w="57240">
            <a:solidFill>
              <a:srgbClr val="66ff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20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20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8" dur="20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20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4" dur="20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0" name="" descr=""/>
          <p:cNvPicPr/>
          <p:nvPr/>
        </p:nvPicPr>
        <p:blipFill>
          <a:blip r:embed="rId1"/>
          <a:stretch/>
        </p:blipFill>
        <p:spPr>
          <a:xfrm>
            <a:off x="685800" y="1652760"/>
            <a:ext cx="7313760" cy="82440"/>
          </a:xfrm>
          <a:prstGeom prst="rect">
            <a:avLst/>
          </a:prstGeom>
          <a:ln w="0">
            <a:noFill/>
          </a:ln>
        </p:spPr>
      </p:pic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114120" y="609120"/>
            <a:ext cx="891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entury Gothic"/>
              </a:rPr>
              <a:t>Review of proposed EAV EQ model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A phenotype is described using an Entity-Quality double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Entities are drawn from various OBO ontologies—cell, anatomies, GO, …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Qualities are drawn from one ontology—PATO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3" name=""/>
          <p:cNvSpPr/>
          <p:nvPr/>
        </p:nvSpPr>
        <p:spPr>
          <a:xfrm>
            <a:off x="6248520" y="838080"/>
            <a:ext cx="121896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1284120"/>
            <a:ext cx="9144000" cy="557388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entury Gothic"/>
              </a:rPr>
              <a:t>A Portion of the OBO Library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</p:spTree>
  </p:cSld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entury Gothic"/>
              </a:rPr>
              <a:t>Separation of concerns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Not phenotypes: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Genotype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Environment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Assay, measurement systems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Images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6" name=""/>
          <p:cNvSpPr/>
          <p:nvPr/>
        </p:nvSpPr>
        <p:spPr>
          <a:xfrm>
            <a:off x="1053360" y="4876920"/>
            <a:ext cx="7038720" cy="1362960"/>
          </a:xfrm>
          <a:prstGeom prst="rect">
            <a:avLst/>
          </a:prstGeom>
          <a:solidFill>
            <a:srgbClr val="90908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Association =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enotype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Phenotype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nvironment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ssa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Phenotype = Entity Qual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Entity = </a:t>
            </a:r>
            <a:r>
              <a:rPr b="0" i="1" lang="en-US" sz="1800" spc="-1" strike="noStrike">
                <a:solidFill>
                  <a:srgbClr val="ffffff"/>
                </a:solidFill>
                <a:latin typeface="Courier New"/>
              </a:rPr>
              <a:t>OBOClass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Quality = </a:t>
            </a:r>
            <a:r>
              <a:rPr b="0" i="1" lang="en-US" sz="1800" spc="-1" strike="noStrike">
                <a:solidFill>
                  <a:srgbClr val="ffffff"/>
                </a:solidFill>
                <a:latin typeface="Courier New"/>
              </a:rPr>
              <a:t>PATOClass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3830400" y="430992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chema</a:t>
            </a:r>
            <a:r>
              <a:rPr b="0" lang="en-US" sz="2400" spc="-1" strike="noStrike">
                <a:solidFill>
                  <a:srgbClr val="ffffff"/>
                </a:solidFill>
                <a:latin typeface="Lucida Grande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8" name="" descr=""/>
          <p:cNvPicPr/>
          <p:nvPr/>
        </p:nvPicPr>
        <p:blipFill>
          <a:blip r:embed="rId1"/>
          <a:stretch/>
        </p:blipFill>
        <p:spPr>
          <a:xfrm>
            <a:off x="685800" y="1652760"/>
            <a:ext cx="7313760" cy="8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entury Gothic"/>
              </a:rPr>
              <a:t>2003 Pilot study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Trial of EAV model on small collection of genotypes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lyBase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ZFIN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Genes were non-orthologous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New curations - in progress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orthologous genes with clinical relevance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Use the same data model and exchange format?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701" name="" descr=""/>
          <p:cNvPicPr/>
          <p:nvPr/>
        </p:nvPicPr>
        <p:blipFill>
          <a:blip r:embed="rId1"/>
          <a:stretch/>
        </p:blipFill>
        <p:spPr>
          <a:xfrm>
            <a:off x="685800" y="1652760"/>
            <a:ext cx="7313760" cy="8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entury Gothic"/>
              </a:rPr>
              <a:t>Example data records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graphicFrame>
        <p:nvGraphicFramePr>
          <p:cNvPr id="703" name=""/>
          <p:cNvGraphicFramePr/>
          <p:nvPr/>
        </p:nvGraphicFramePr>
        <p:xfrm>
          <a:off x="1523880" y="2438280"/>
          <a:ext cx="6019560" cy="2971800"/>
        </p:xfrm>
        <a:graphic>
          <a:graphicData uri="http://schemas.openxmlformats.org/drawingml/2006/table">
            <a:tbl>
              <a:tblPr/>
              <a:tblGrid>
                <a:gridCol w="1958760"/>
                <a:gridCol w="1622520"/>
                <a:gridCol w="2438280"/>
              </a:tblGrid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ourier New"/>
                          <a:ea typeface="Osaka"/>
                        </a:rPr>
                        <a:t>Genotyp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ourier New"/>
                          <a:ea typeface="Osaka"/>
                        </a:rPr>
                        <a:t>Entit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ourier New"/>
                          <a:ea typeface="Osaka"/>
                        </a:rPr>
                        <a:t>Valu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ourier New"/>
                          <a:ea typeface="Osaka"/>
                        </a:rPr>
                        <a:t>np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ourier New"/>
                          <a:ea typeface="Osaka"/>
                        </a:rPr>
                        <a:t>gu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ourier New"/>
                          <a:ea typeface="Osaka"/>
                        </a:rPr>
                        <a:t>dysplasti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ourier New"/>
                          <a:ea typeface="Osaka"/>
                        </a:rPr>
                        <a:t>gu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ourier New"/>
                          <a:ea typeface="Osaka"/>
                        </a:rPr>
                        <a:t>smal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2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ourier New"/>
                          <a:ea typeface="Osaka"/>
                        </a:rPr>
                        <a:t>r21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ourier New"/>
                          <a:ea typeface="Osaka"/>
                        </a:rPr>
                        <a:t>retin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ourier New"/>
                          <a:ea typeface="Osaka"/>
                        </a:rPr>
                        <a:t>irregula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0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ourier New"/>
                          <a:ea typeface="Osaka"/>
                        </a:rPr>
                        <a:t>brai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ourier New"/>
                          <a:ea typeface="Osaka"/>
                        </a:rPr>
                        <a:t>fuse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04" name="" descr=""/>
          <p:cNvPicPr/>
          <p:nvPr/>
        </p:nvPicPr>
        <p:blipFill>
          <a:blip r:embed="rId1"/>
          <a:stretch/>
        </p:blipFill>
        <p:spPr>
          <a:xfrm>
            <a:off x="685800" y="1652760"/>
            <a:ext cx="7313760" cy="8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267840" y="609120"/>
            <a:ext cx="8610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entury Gothic"/>
              </a:rPr>
              <a:t>ZFIN schema extension: stages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graphicFrame>
        <p:nvGraphicFramePr>
          <p:cNvPr id="706" name=""/>
          <p:cNvGraphicFramePr/>
          <p:nvPr/>
        </p:nvGraphicFramePr>
        <p:xfrm>
          <a:off x="228600" y="2438280"/>
          <a:ext cx="8610480" cy="3192480"/>
        </p:xfrm>
        <a:graphic>
          <a:graphicData uri="http://schemas.openxmlformats.org/drawingml/2006/table">
            <a:tbl>
              <a:tblPr/>
              <a:tblGrid>
                <a:gridCol w="1752480"/>
                <a:gridCol w="3352680"/>
                <a:gridCol w="1295280"/>
                <a:gridCol w="2210040"/>
              </a:tblGrid>
              <a:tr h="58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ourier New"/>
                          <a:ea typeface="Osaka"/>
                        </a:rPr>
                        <a:t>Genotyp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ourier New"/>
                          <a:ea typeface="Osaka"/>
                        </a:rPr>
                        <a:t>Stag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0908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ourier New"/>
                          <a:ea typeface="Osaka"/>
                        </a:rPr>
                        <a:t>Entit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ourier New"/>
                          <a:ea typeface="Osaka"/>
                        </a:rPr>
                        <a:t>Qualit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ourier New"/>
                          <a:ea typeface="Osaka"/>
                        </a:rPr>
                        <a:t>np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ourier New"/>
                          <a:ea typeface="Osaka"/>
                        </a:rPr>
                        <a:t>Hatching:Pec-fi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0908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ourier New"/>
                          <a:ea typeface="Osaka"/>
                        </a:rPr>
                        <a:t>gu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ourier New"/>
                          <a:ea typeface="Osaka"/>
                        </a:rPr>
                        <a:t>dysplastic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ourier New"/>
                          <a:ea typeface="Osaka"/>
                        </a:rPr>
                        <a:t>Hatching:Pec-fi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0908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ourier New"/>
                          <a:ea typeface="Osaka"/>
                        </a:rPr>
                        <a:t>gu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ourier New"/>
                          <a:ea typeface="Osaka"/>
                        </a:rPr>
                        <a:t>smal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2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ourier New"/>
                          <a:ea typeface="Osaka"/>
                        </a:rPr>
                        <a:t>r21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ourier New"/>
                          <a:ea typeface="Osaka"/>
                        </a:rPr>
                        <a:t>Hatching:Long-pec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0908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ourier New"/>
                          <a:ea typeface="Osaka"/>
                        </a:rPr>
                        <a:t>retin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ourier New"/>
                          <a:ea typeface="Osaka"/>
                        </a:rPr>
                        <a:t>irregula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ourier New"/>
                          <a:ea typeface="Osaka"/>
                        </a:rPr>
                        <a:t>Larval:Protruding-mouth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90908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ourier New"/>
                          <a:ea typeface="Osaka"/>
                        </a:rPr>
                        <a:t>brai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ourier New"/>
                          <a:ea typeface="Osaka"/>
                        </a:rPr>
                        <a:t>fuse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07" name="" descr=""/>
          <p:cNvPicPr/>
          <p:nvPr/>
        </p:nvPicPr>
        <p:blipFill>
          <a:blip r:embed="rId1"/>
          <a:stretch/>
        </p:blipFill>
        <p:spPr>
          <a:xfrm>
            <a:off x="685800" y="1652760"/>
            <a:ext cx="7313760" cy="8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"/>
          <p:cNvSpPr/>
          <p:nvPr/>
        </p:nvSpPr>
        <p:spPr>
          <a:xfrm>
            <a:off x="-88200" y="2322360"/>
            <a:ext cx="9324720" cy="2228040"/>
          </a:xfrm>
          <a:prstGeom prst="rect">
            <a:avLst/>
          </a:prstGeom>
          <a:solidFill>
            <a:srgbClr val="90908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Association =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enotype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 Phenotyp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vironment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ssa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Phenotype =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Stage*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 Entity Qua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Entity = </a:t>
            </a:r>
            <a:r>
              <a:rPr b="0" i="1" lang="en-US" sz="2400" spc="-1" strike="noStrike">
                <a:solidFill>
                  <a:srgbClr val="ffffff"/>
                </a:solidFill>
                <a:latin typeface="Courier New"/>
              </a:rPr>
              <a:t>OBOClass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Stage = </a:t>
            </a:r>
            <a:r>
              <a:rPr b="0" i="1" lang="en-US" sz="2400" spc="-1" strike="noStrike">
                <a:solidFill>
                  <a:srgbClr val="ffffff"/>
                </a:solidFill>
                <a:latin typeface="Courier New"/>
              </a:rPr>
              <a:t>OBOAnatomicalStageClass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Quality = </a:t>
            </a:r>
            <a:r>
              <a:rPr b="0" i="1" lang="en-US" sz="2400" spc="-1" strike="noStrike">
                <a:solidFill>
                  <a:srgbClr val="ffffff"/>
                </a:solidFill>
                <a:latin typeface="Courier New"/>
              </a:rPr>
              <a:t>PATOClass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5396760" y="6070680"/>
            <a:ext cx="383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* means zero or mo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entury Gothic"/>
              </a:rPr>
              <a:t>Stages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pic>
        <p:nvPicPr>
          <p:cNvPr id="711" name="" descr=""/>
          <p:cNvPicPr/>
          <p:nvPr/>
        </p:nvPicPr>
        <p:blipFill>
          <a:blip r:embed="rId1"/>
          <a:stretch/>
        </p:blipFill>
        <p:spPr>
          <a:xfrm>
            <a:off x="685800" y="1652760"/>
            <a:ext cx="7313760" cy="8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entury Gothic"/>
              </a:rPr>
              <a:t>Monadic and relational qualities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Monadic: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e quality inheres in a single entity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Relational: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e quality inheres in two or more entities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ccff6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sensitivity of an organism to a kind of drug 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ccff6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sensitivity of an eye to a wavelength of light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an turn relational qualities into cross-product monadic qualities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ccff6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e.g. sensitivityToRedLight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ccff6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better to use relational qualities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avoids redundancy with existing ontologies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"/>
          <p:cNvSpPr/>
          <p:nvPr/>
        </p:nvSpPr>
        <p:spPr>
          <a:xfrm>
            <a:off x="-88200" y="2470320"/>
            <a:ext cx="9324720" cy="1785960"/>
          </a:xfrm>
          <a:prstGeom prst="rect">
            <a:avLst/>
          </a:prstGeom>
          <a:solidFill>
            <a:srgbClr val="90908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Association = </a:t>
            </a:r>
            <a:r>
              <a:rPr b="0" lang="en-US" sz="2400" spc="-1" strike="noStrike">
                <a:solidFill>
                  <a:srgbClr val="777777"/>
                </a:solidFill>
                <a:latin typeface="Courier New"/>
              </a:rPr>
              <a:t>Genotype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 Phenotype </a:t>
            </a:r>
            <a:r>
              <a:rPr b="0" lang="en-US" sz="2400" spc="-1" strike="noStrike">
                <a:solidFill>
                  <a:srgbClr val="777777"/>
                </a:solidFill>
                <a:latin typeface="Courier New"/>
              </a:rPr>
              <a:t>Environment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777777"/>
                </a:solidFill>
                <a:latin typeface="Courier New"/>
              </a:rPr>
              <a:t>Assa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Phenotype = Stage* Entity Quality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Entity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Entity = </a:t>
            </a:r>
            <a:r>
              <a:rPr b="0" i="1" lang="en-US" sz="2400" spc="-1" strike="noStrike">
                <a:solidFill>
                  <a:srgbClr val="ffffff"/>
                </a:solidFill>
                <a:latin typeface="Courier New"/>
              </a:rPr>
              <a:t>OBOClass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Quality = </a:t>
            </a:r>
            <a:r>
              <a:rPr b="0" i="1" lang="en-US" sz="2400" spc="-1" strike="noStrike">
                <a:solidFill>
                  <a:srgbClr val="ffffff"/>
                </a:solidFill>
                <a:latin typeface="Courier New"/>
              </a:rPr>
              <a:t>PATOVersion2Class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685800" y="414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entury Gothic"/>
              </a:rPr>
              <a:t>Incorporating relational qualities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716" name=""/>
          <p:cNvSpPr/>
          <p:nvPr/>
        </p:nvSpPr>
        <p:spPr>
          <a:xfrm>
            <a:off x="61200" y="5029200"/>
            <a:ext cx="383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Example data record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268200" y="5538960"/>
            <a:ext cx="8610840" cy="459720"/>
          </a:xfrm>
          <a:prstGeom prst="rect">
            <a:avLst/>
          </a:prstGeom>
          <a:solidFill>
            <a:srgbClr val="90908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Phenotype = “organism” sensitiveTo “puromycin”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8" name="" descr=""/>
          <p:cNvPicPr/>
          <p:nvPr/>
        </p:nvPicPr>
        <p:blipFill>
          <a:blip r:embed="rId1"/>
          <a:stretch/>
        </p:blipFill>
        <p:spPr>
          <a:xfrm>
            <a:off x="915840" y="1676520"/>
            <a:ext cx="7313760" cy="8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85800" y="95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entury Gothic"/>
              </a:rPr>
              <a:t>Measurable qualities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82320" y="1515960"/>
            <a:ext cx="8381880" cy="51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Some qualities are inexact and implicitly relative to a wild-type or normal quality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735480" indent="-282960">
              <a:spcBef>
                <a:spcPts val="499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relatively short, relatively long, relatively reduced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35480" indent="-282960">
              <a:spcBef>
                <a:spcPts val="499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easier than explicitly representing: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31480" indent="-226080">
              <a:spcBef>
                <a:spcPts val="451"/>
              </a:spcBef>
              <a:buClr>
                <a:srgbClr val="ccff6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this tail length shorter-than ‘mouse’ wild-type tail length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339480" indent="-339480">
              <a:spcBef>
                <a:spcPts val="601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Some qualities are determinable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735480" indent="-282960">
              <a:spcBef>
                <a:spcPts val="499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use a measure function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31480" indent="-226080">
              <a:spcBef>
                <a:spcPts val="451"/>
              </a:spcBef>
              <a:buClr>
                <a:srgbClr val="ccff6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unit, value, {time}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735480" indent="-282960">
              <a:spcBef>
                <a:spcPts val="499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is tail has length 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31480" indent="-226080">
              <a:spcBef>
                <a:spcPts val="451"/>
              </a:spcBef>
              <a:buClr>
                <a:srgbClr val="ccff6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measure(L, cm) = 2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339480" indent="-339480">
              <a:spcBef>
                <a:spcPts val="601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Keep measurements separate from (but linked to) quality ontology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721" name="" descr=""/>
          <p:cNvPicPr/>
          <p:nvPr/>
        </p:nvPicPr>
        <p:blipFill>
          <a:blip r:embed="rId1"/>
          <a:stretch/>
        </p:blipFill>
        <p:spPr>
          <a:xfrm>
            <a:off x="915840" y="1335240"/>
            <a:ext cx="7313760" cy="8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"/>
          <p:cNvSpPr/>
          <p:nvPr/>
        </p:nvSpPr>
        <p:spPr>
          <a:xfrm>
            <a:off x="215280" y="2494080"/>
            <a:ext cx="8410320" cy="1872000"/>
          </a:xfrm>
          <a:prstGeom prst="rect">
            <a:avLst/>
          </a:prstGeom>
          <a:solidFill>
            <a:srgbClr val="90908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Association = </a:t>
            </a:r>
            <a:r>
              <a:rPr b="0" lang="en-US" sz="2000" spc="-1" strike="noStrike">
                <a:solidFill>
                  <a:srgbClr val="777777"/>
                </a:solidFill>
                <a:latin typeface="Courier New"/>
              </a:rPr>
              <a:t>Genotype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Phenotype </a:t>
            </a:r>
            <a:r>
              <a:rPr b="0" lang="en-US" sz="2000" spc="-1" strike="noStrike">
                <a:solidFill>
                  <a:srgbClr val="777777"/>
                </a:solidFill>
                <a:latin typeface="Courier New"/>
              </a:rPr>
              <a:t>Environment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777777"/>
                </a:solidFill>
                <a:latin typeface="Courier New"/>
              </a:rPr>
              <a:t>Assa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Phenotype = Stage* Entity Quality Entity*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Measurement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Measurement = Unit Value (Tim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Entity = </a:t>
            </a:r>
            <a:r>
              <a:rPr b="0" i="1" lang="en-US" sz="2000" spc="-1" strike="noStrike">
                <a:solidFill>
                  <a:srgbClr val="ffffff"/>
                </a:solidFill>
                <a:latin typeface="Courier New"/>
              </a:rPr>
              <a:t>OBOClass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Quality = </a:t>
            </a:r>
            <a:r>
              <a:rPr b="0" i="1" lang="en-US" sz="2000" spc="-1" strike="noStrike">
                <a:solidFill>
                  <a:srgbClr val="ffffff"/>
                </a:solidFill>
                <a:latin typeface="Courier New"/>
              </a:rPr>
              <a:t>PATOVersion2Class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612000" y="5105520"/>
            <a:ext cx="383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Example data record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826200" y="5664240"/>
            <a:ext cx="7495920" cy="398880"/>
          </a:xfrm>
          <a:prstGeom prst="rect">
            <a:avLst/>
          </a:prstGeom>
          <a:solidFill>
            <a:srgbClr val="90908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Phenotype = “gut” “acidic” Measurement = “pH” 5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8640" y="42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entury Gothic"/>
              </a:rPr>
              <a:t>Incorporating measurements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pic>
        <p:nvPicPr>
          <p:cNvPr id="726" name="" descr=""/>
          <p:cNvPicPr/>
          <p:nvPr/>
        </p:nvPicPr>
        <p:blipFill>
          <a:blip r:embed="rId1"/>
          <a:stretch/>
        </p:blipFill>
        <p:spPr>
          <a:xfrm>
            <a:off x="915840" y="1987560"/>
            <a:ext cx="7313760" cy="8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0" y="-5724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entury Gothic"/>
              </a:rPr>
              <a:t>The Methodology of Annotations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685800" y="1320480"/>
            <a:ext cx="7772400" cy="71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Scientific curators use experimental observations reported in the biomedical literature to link gene products with GO terms in annotations.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The gene annotations taken together yield a slowly growing computer-interpretable map of biological reality,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The process of annotating literature also leads to improvements and extensions of the ontology itself, which institutes a virtuous cycle of improvement in the quality and  reach of future annotations and of future versions of the ontology.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7310520" y="735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entury Gothic"/>
              </a:rPr>
              <a:t>Motivation: to capture biological reality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Inferences and decisions we make are based upon what we know of the biological reality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An ontology is a computable representation of this underlying biological reality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Enables a computer to reason over the data in (some of) the ways that we do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entury Gothic"/>
              </a:rPr>
              <a:t>When we annotate the record of an experiment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we use terms representing types to capture what we learn about the instances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1" marL="720720" indent="-277200">
              <a:spcBef>
                <a:spcPts val="700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this experiment as a whole (a process)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720720" indent="-277200">
              <a:spcBef>
                <a:spcPts val="700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these instances experimented upon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2" marL="1108440" indent="-221400">
              <a:spcBef>
                <a:spcPts val="601"/>
              </a:spcBef>
              <a:buClr>
                <a:srgbClr val="ccff6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the instances are typica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2" marL="1108440" indent="-221400">
              <a:spcBef>
                <a:spcPts val="601"/>
              </a:spcBef>
              <a:buClr>
                <a:srgbClr val="ccff6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they are representatives of a type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entury Gothic"/>
              </a:rPr>
              <a:t>Ontology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 type="subTitle"/>
          </p:nvPr>
        </p:nvSpPr>
        <p:spPr>
          <a:xfrm>
            <a:off x="10299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A thing of beauty is a joy forever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With acknowledgement and thanks to: Mark Musen, Barry Smith, Sima Misra, Chris Mungall, Daniel Rubin, and David Hil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34416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entury Gothic"/>
              </a:rPr>
              <a:t>Interpretation of the schema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How should EAV data records be interpreted by a computer?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What are the instances?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Is the EAV schema just to improve database searching?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Can it be used for meaningful cross-species comparisons?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735" name="" descr=""/>
          <p:cNvPicPr/>
          <p:nvPr/>
        </p:nvPicPr>
        <p:blipFill>
          <a:blip r:embed="rId1"/>
          <a:stretch/>
        </p:blipFill>
        <p:spPr>
          <a:xfrm>
            <a:off x="685800" y="1652760"/>
            <a:ext cx="7313760" cy="8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6" name=""/>
          <p:cNvGraphicFramePr/>
          <p:nvPr/>
        </p:nvGraphicFramePr>
        <p:xfrm>
          <a:off x="457200" y="1876320"/>
          <a:ext cx="8229600" cy="3990960"/>
        </p:xfrm>
        <a:graphic>
          <a:graphicData uri="http://schemas.openxmlformats.org/drawingml/2006/table">
            <a:tbl>
              <a:tblPr/>
              <a:tblGrid>
                <a:gridCol w="1905120"/>
                <a:gridCol w="3581280"/>
                <a:gridCol w="27432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urier New"/>
                          <a:ea typeface="Osaka"/>
                        </a:rPr>
                        <a:t>Genotyp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urier New"/>
                          <a:ea typeface="Osaka"/>
                        </a:rPr>
                        <a:t>Entit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urier New"/>
                          <a:ea typeface="Osaka"/>
                        </a:rPr>
                        <a:t>Qualit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urier New"/>
                          <a:ea typeface="Osaka"/>
                        </a:rPr>
                        <a:t>np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urier New"/>
                          <a:ea typeface="Osaka"/>
                        </a:rPr>
                        <a:t>gu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urier New"/>
                          <a:ea typeface="Osaka"/>
                        </a:rPr>
                        <a:t>dysplastic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urier New"/>
                          <a:ea typeface="Osaka"/>
                        </a:rPr>
                        <a:t>gu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urier New"/>
                          <a:ea typeface="Osaka"/>
                        </a:rPr>
                        <a:t>smal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urier New"/>
                          <a:ea typeface="Osaka"/>
                        </a:rPr>
                        <a:t>r2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urier New"/>
                          <a:ea typeface="Osaka"/>
                        </a:rPr>
                        <a:t>retin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urier New"/>
                          <a:ea typeface="Osaka"/>
                        </a:rPr>
                        <a:t>irregula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urier New"/>
                          <a:ea typeface="Osaka"/>
                        </a:rPr>
                        <a:t>brai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urier New"/>
                          <a:ea typeface="Osaka"/>
                        </a:rPr>
                        <a:t>fuse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9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urier New"/>
                          <a:ea typeface="Osaka"/>
                        </a:rPr>
                        <a:t>tm8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urier New"/>
                          <a:ea typeface="Osaka"/>
                        </a:rPr>
                        <a:t>d/v pattern format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urier New"/>
                          <a:ea typeface="Osaka"/>
                        </a:rPr>
                        <a:t>abnorm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urier New"/>
                          <a:ea typeface="Osaka"/>
                        </a:rPr>
                        <a:t>blood island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urier New"/>
                          <a:ea typeface="Osaka"/>
                        </a:rPr>
                        <a:t>number increase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urier New"/>
                          <a:ea typeface="Osaka"/>
                        </a:rPr>
                        <a:t>Bsb[2]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urier New"/>
                          <a:ea typeface="Osaka"/>
                        </a:rPr>
                        <a:t>elongation of arista liter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urier New"/>
                          <a:ea typeface="Osaka"/>
                        </a:rPr>
                        <a:t>arreste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urier New"/>
                          <a:ea typeface="Osaka"/>
                        </a:rPr>
                        <a:t>C-alpha[1D]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urier New"/>
                          <a:ea typeface="Osaka"/>
                        </a:rPr>
                        <a:t>adult behaviou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urier New"/>
                          <a:ea typeface="Osaka"/>
                        </a:rPr>
                        <a:t>uncoordinate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37" name=""/>
          <p:cNvSpPr/>
          <p:nvPr/>
        </p:nvSpPr>
        <p:spPr>
          <a:xfrm>
            <a:off x="5476320" y="6207120"/>
            <a:ext cx="335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2003 trial data: FB &amp; ZF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23004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entury Gothic"/>
              </a:rPr>
              <a:t>What is the Entity slot used for?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pic>
        <p:nvPicPr>
          <p:cNvPr id="739" name="" descr=""/>
          <p:cNvPicPr/>
          <p:nvPr/>
        </p:nvPicPr>
        <p:blipFill>
          <a:blip r:embed="rId1"/>
          <a:stretch/>
        </p:blipFill>
        <p:spPr>
          <a:xfrm>
            <a:off x="685800" y="1652760"/>
            <a:ext cx="7313760" cy="8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4416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entury Gothic"/>
              </a:rPr>
              <a:t>What is the Entity slot used for?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526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In practical terms: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An ID from one of the following ontologies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ff6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GO CC, BP, and MF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ff6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pecies-specific anatomical ontology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ff6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OBO Cel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Or a cross-product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ff6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e.g.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acidification GO:0045851</a:t>
            </a: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which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has_locationOBOREL midgut FBbt00005383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ff6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[example from FBal0062296: Acidification in the midgut of homozygous larvae is often less than in wild-type larvae]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But what does it mean in the context of an annotation?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742" name="" descr=""/>
          <p:cNvPicPr/>
          <p:nvPr/>
        </p:nvPicPr>
        <p:blipFill>
          <a:blip r:embed="rId1"/>
          <a:stretch/>
        </p:blipFill>
        <p:spPr>
          <a:xfrm>
            <a:off x="685800" y="1652760"/>
            <a:ext cx="7313760" cy="8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3" name="" descr=""/>
          <p:cNvPicPr/>
          <p:nvPr/>
        </p:nvPicPr>
        <p:blipFill>
          <a:blip r:embed="rId1"/>
          <a:stretch/>
        </p:blipFill>
        <p:spPr>
          <a:xfrm>
            <a:off x="685800" y="1289160"/>
            <a:ext cx="7313760" cy="82440"/>
          </a:xfrm>
          <a:prstGeom prst="rect">
            <a:avLst/>
          </a:prstGeom>
          <a:ln w="0">
            <a:noFill/>
          </a:ln>
        </p:spPr>
      </p:pic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685800" y="7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entury Gothic"/>
              </a:rPr>
              <a:t>Universals and particulars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685800" y="1444680"/>
            <a:ext cx="7772400" cy="678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An ontology consist of universals (classes)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Fruitfly, wing, flight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Experimental data generally concerns particulars (instances) that instantiate universals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this particular wing of this particular fruitfly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this particular fruitfly  participating in this particular flight from here to there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In annotation we often use a class ID as a proxy for an (unnamed) instance (or collection of instances)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It is important to always keep this distinction in mind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6" name=""/>
          <p:cNvGraphicFramePr/>
          <p:nvPr/>
        </p:nvGraphicFramePr>
        <p:xfrm>
          <a:off x="419040" y="2057400"/>
          <a:ext cx="8305920" cy="4419720"/>
        </p:xfrm>
        <a:graphic>
          <a:graphicData uri="http://schemas.openxmlformats.org/drawingml/2006/table">
            <a:tbl>
              <a:tblPr/>
              <a:tblGrid>
                <a:gridCol w="1905120"/>
                <a:gridCol w="2286000"/>
                <a:gridCol w="2209680"/>
                <a:gridCol w="19051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urier New"/>
                          <a:ea typeface="Osaka"/>
                        </a:rPr>
                        <a:t>Genotyp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urier New"/>
                          <a:ea typeface="Osaka"/>
                        </a:rPr>
                        <a:t>Ent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d1d1cb"/>
                          </a:solidFill>
                          <a:latin typeface="Courier New"/>
                          <a:ea typeface="Osaka"/>
                        </a:rPr>
                        <a:t>Qual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urier New"/>
                          <a:ea typeface="Osaka"/>
                        </a:rPr>
                        <a:t>Qual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urier New"/>
                          <a:ea typeface="Osaka"/>
                        </a:rPr>
                        <a:t>np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urier New"/>
                          <a:ea typeface="Osaka"/>
                        </a:rPr>
                        <a:t>gu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d1d1cb"/>
                          </a:solidFill>
                          <a:latin typeface="Courier New"/>
                          <a:ea typeface="Osaka"/>
                        </a:rPr>
                        <a:t>structur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urier New"/>
                          <a:ea typeface="Osaka"/>
                        </a:rPr>
                        <a:t>dysplastic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urier New"/>
                          <a:ea typeface="Osaka"/>
                        </a:rPr>
                        <a:t>gu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d1d1cb"/>
                          </a:solidFill>
                          <a:latin typeface="Courier New"/>
                          <a:ea typeface="Osaka"/>
                        </a:rPr>
                        <a:t>relative siz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urier New"/>
                          <a:ea typeface="Osaka"/>
                        </a:rPr>
                        <a:t>smal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urier New"/>
                          <a:ea typeface="Osaka"/>
                        </a:rPr>
                        <a:t>r2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urier New"/>
                          <a:ea typeface="Osaka"/>
                        </a:rPr>
                        <a:t>retin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d1d1cb"/>
                          </a:solidFill>
                          <a:latin typeface="Courier New"/>
                          <a:ea typeface="Osaka"/>
                        </a:rPr>
                        <a:t>patter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urier New"/>
                          <a:ea typeface="Osaka"/>
                        </a:rPr>
                        <a:t>irregula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urier New"/>
                          <a:ea typeface="Osaka"/>
                        </a:rPr>
                        <a:t>brai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d1d1cb"/>
                          </a:solidFill>
                          <a:latin typeface="Courier New"/>
                          <a:ea typeface="Osaka"/>
                        </a:rPr>
                        <a:t>structur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urier New"/>
                          <a:ea typeface="Osaka"/>
                        </a:rPr>
                        <a:t>fuse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urier New"/>
                          <a:ea typeface="Osaka"/>
                        </a:rPr>
                        <a:t>tm8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urier New"/>
                          <a:ea typeface="Osaka"/>
                        </a:rPr>
                        <a:t>d/v pattern forma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d1d1cb"/>
                          </a:solidFill>
                          <a:latin typeface="Courier New"/>
                          <a:ea typeface="Osaka"/>
                        </a:rPr>
                        <a:t>qualitativ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urier New"/>
                          <a:ea typeface="Osaka"/>
                        </a:rPr>
                        <a:t>abnorm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urier New"/>
                          <a:ea typeface="Osaka"/>
                        </a:rPr>
                        <a:t>blood islan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d1d1cb"/>
                          </a:solidFill>
                          <a:latin typeface="Courier New"/>
                          <a:ea typeface="Osaka"/>
                        </a:rPr>
                        <a:t>rel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urier New"/>
                          <a:ea typeface="Osaka"/>
                        </a:rPr>
                        <a:t>number increase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urier New"/>
                          <a:ea typeface="Osaka"/>
                        </a:rPr>
                        <a:t>Bsb[2]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urier New"/>
                          <a:ea typeface="Osaka"/>
                        </a:rPr>
                        <a:t>elongation of arista liter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d1d1cb"/>
                          </a:solidFill>
                          <a:latin typeface="Courier New"/>
                          <a:ea typeface="Osaka"/>
                        </a:rPr>
                        <a:t>proces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urier New"/>
                          <a:ea typeface="Osaka"/>
                        </a:rPr>
                        <a:t>arreste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urier New"/>
                          <a:ea typeface="Osaka"/>
                        </a:rPr>
                        <a:t>C-alpha[1D]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urier New"/>
                          <a:ea typeface="Osaka"/>
                        </a:rPr>
                        <a:t>adult behaviou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d1d1cb"/>
                          </a:solidFill>
                          <a:latin typeface="Courier New"/>
                          <a:ea typeface="Osaka"/>
                        </a:rPr>
                        <a:t>behavioral activ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urier New"/>
                          <a:ea typeface="Osaka"/>
                        </a:rPr>
                        <a:t>uncoordinate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47" name=""/>
          <p:cNvSpPr/>
          <p:nvPr/>
        </p:nvSpPr>
        <p:spPr>
          <a:xfrm>
            <a:off x="6187680" y="6527880"/>
            <a:ext cx="335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2003 trial data: FB &amp; ZF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48" name="" descr=""/>
          <p:cNvPicPr/>
          <p:nvPr/>
        </p:nvPicPr>
        <p:blipFill>
          <a:blip r:embed="rId1"/>
          <a:stretch/>
        </p:blipFill>
        <p:spPr>
          <a:xfrm>
            <a:off x="915840" y="1593720"/>
            <a:ext cx="7313760" cy="82800"/>
          </a:xfrm>
          <a:prstGeom prst="rect">
            <a:avLst/>
          </a:prstGeom>
          <a:ln w="0">
            <a:noFill/>
          </a:ln>
        </p:spPr>
      </p:pic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68724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entury Gothic"/>
              </a:rPr>
              <a:t>What is the Quality slot used for?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entury Gothic"/>
              </a:rPr>
              <a:t>Qualities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Treat as </a:t>
            </a:r>
            <a:r>
              <a:rPr b="0" i="1" lang="en-US" sz="2800" spc="-1" strike="noStrike">
                <a:solidFill>
                  <a:srgbClr val="ffffff"/>
                </a:solidFill>
                <a:latin typeface="Century Gothic"/>
              </a:rPr>
              <a:t>Qualities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a </a:t>
            </a:r>
            <a:r>
              <a:rPr b="0" i="1" lang="en-US" sz="2400" spc="-1" strike="noStrike">
                <a:solidFill>
                  <a:srgbClr val="ffffff"/>
                </a:solidFill>
                <a:latin typeface="Century Gothic"/>
              </a:rPr>
              <a:t>dependent entity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ccff6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a quality must have </a:t>
            </a:r>
            <a:r>
              <a:rPr b="0" lang="en-US" sz="2000" spc="-1" strike="noStrike">
                <a:solidFill>
                  <a:srgbClr val="ffff00"/>
                </a:solidFill>
                <a:latin typeface="Century Gothic"/>
              </a:rPr>
              <a:t>independent entity(s)</a:t>
            </a: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 as bearer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ccff6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e quality </a:t>
            </a:r>
            <a:r>
              <a:rPr b="0" i="1" lang="en-US" sz="2000" spc="-1" strike="noStrike">
                <a:solidFill>
                  <a:srgbClr val="ffffff"/>
                </a:solidFill>
                <a:latin typeface="Century Gothic"/>
              </a:rPr>
              <a:t>inheres_in</a:t>
            </a: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 the bearer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Examples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The particular </a:t>
            </a:r>
            <a:r>
              <a:rPr b="0" i="1" lang="en-US" sz="2400" spc="-1" strike="noStrike">
                <a:solidFill>
                  <a:srgbClr val="ffffff"/>
                </a:solidFill>
                <a:latin typeface="Century Gothic"/>
              </a:rPr>
              <a:t>shape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 of this </a:t>
            </a:r>
            <a:r>
              <a:rPr b="0" lang="en-US" sz="2400" spc="-1" strike="noStrike">
                <a:solidFill>
                  <a:srgbClr val="ffff00"/>
                </a:solidFill>
                <a:latin typeface="Century Gothic"/>
              </a:rPr>
              <a:t>ball</a:t>
            </a:r>
            <a:r>
              <a:rPr b="0" lang="en-US" sz="2400" spc="-1" strike="noStrike">
                <a:solidFill>
                  <a:srgbClr val="ff0000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The particular </a:t>
            </a:r>
            <a:r>
              <a:rPr b="0" i="1" lang="en-US" sz="2400" spc="-1" strike="noStrike">
                <a:solidFill>
                  <a:srgbClr val="ffffff"/>
                </a:solidFill>
                <a:latin typeface="Century Gothic"/>
              </a:rPr>
              <a:t>structure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 of this </a:t>
            </a:r>
            <a:r>
              <a:rPr b="0" lang="en-US" sz="2400" spc="-1" strike="noStrike">
                <a:solidFill>
                  <a:srgbClr val="ffff00"/>
                </a:solidFill>
                <a:latin typeface="Century Gothic"/>
              </a:rPr>
              <a:t>wing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The particular </a:t>
            </a:r>
            <a:r>
              <a:rPr b="0" i="1" lang="en-US" sz="2400" spc="-1" strike="noStrike">
                <a:solidFill>
                  <a:srgbClr val="ffffff"/>
                </a:solidFill>
                <a:latin typeface="Century Gothic"/>
              </a:rPr>
              <a:t>length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 of this </a:t>
            </a:r>
            <a:r>
              <a:rPr b="0" lang="en-US" sz="2400" spc="-1" strike="noStrike">
                <a:solidFill>
                  <a:srgbClr val="ffff00"/>
                </a:solidFill>
                <a:latin typeface="Century Gothic"/>
              </a:rPr>
              <a:t>tai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The particular </a:t>
            </a:r>
            <a:r>
              <a:rPr b="0" i="1" lang="en-US" sz="2400" spc="-1" strike="noStrike">
                <a:solidFill>
                  <a:srgbClr val="ffffff"/>
                </a:solidFill>
                <a:latin typeface="Century Gothic"/>
              </a:rPr>
              <a:t>rate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 of </a:t>
            </a:r>
            <a:r>
              <a:rPr b="0" lang="en-US" sz="2400" spc="-1" strike="noStrike">
                <a:solidFill>
                  <a:srgbClr val="ffff00"/>
                </a:solidFill>
                <a:latin typeface="Century Gothic"/>
              </a:rPr>
              <a:t>synaptic</a:t>
            </a:r>
            <a:r>
              <a:rPr b="0" lang="en-US" sz="2400" spc="-1" strike="noStrike">
                <a:solidFill>
                  <a:srgbClr val="ff0000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Century Gothic"/>
              </a:rPr>
              <a:t>transmission</a:t>
            </a:r>
            <a:r>
              <a:rPr b="0" lang="en-US" sz="2400" spc="-1" strike="noStrike">
                <a:solidFill>
                  <a:srgbClr val="ff0000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between these two neurons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752" name="" descr=""/>
          <p:cNvPicPr/>
          <p:nvPr/>
        </p:nvPicPr>
        <p:blipFill>
          <a:blip r:embed="rId1"/>
          <a:stretch/>
        </p:blipFill>
        <p:spPr>
          <a:xfrm>
            <a:off x="915840" y="1652760"/>
            <a:ext cx="7313760" cy="8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entury Gothic"/>
              </a:rPr>
              <a:t>Attribute universals vs Attribute particulars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685800" y="45716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In an EAV annotation, a PATO class ID typically serves  as a proxy for an unnamed attribute instance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Universals (classes) must always be defined in terms of their instances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55" name=""/>
          <p:cNvSpPr/>
          <p:nvPr/>
        </p:nvSpPr>
        <p:spPr>
          <a:xfrm>
            <a:off x="685800" y="5867280"/>
            <a:ext cx="7772400" cy="838440"/>
          </a:xfrm>
          <a:prstGeom prst="rect">
            <a:avLst/>
          </a:prstGeom>
          <a:solidFill>
            <a:srgbClr val="90908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Formal Theory of Substances, Qualities,  and Universa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abian NEUHAUS Pierre GRENON Barry SMITH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6" name="" descr=""/>
          <p:cNvPicPr/>
          <p:nvPr/>
        </p:nvPicPr>
        <p:blipFill>
          <a:blip r:embed="rId1"/>
          <a:stretch/>
        </p:blipFill>
        <p:spPr>
          <a:xfrm>
            <a:off x="2438280" y="2057400"/>
            <a:ext cx="4038840" cy="2271600"/>
          </a:xfrm>
          <a:prstGeom prst="rect">
            <a:avLst/>
          </a:prstGeom>
          <a:ln w="0">
            <a:noFill/>
          </a:ln>
        </p:spPr>
      </p:pic>
      <p:pic>
        <p:nvPicPr>
          <p:cNvPr id="757" name="" descr=""/>
          <p:cNvPicPr/>
          <p:nvPr/>
        </p:nvPicPr>
        <p:blipFill>
          <a:blip r:embed="rId2"/>
          <a:stretch/>
        </p:blipFill>
        <p:spPr>
          <a:xfrm>
            <a:off x="915840" y="1822320"/>
            <a:ext cx="7313760" cy="8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4416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entury Gothic"/>
              </a:rPr>
              <a:t>How is the attribute slot used?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graphicFrame>
        <p:nvGraphicFramePr>
          <p:cNvPr id="759" name=""/>
          <p:cNvGraphicFramePr/>
          <p:nvPr/>
        </p:nvGraphicFramePr>
        <p:xfrm>
          <a:off x="152280" y="2057400"/>
          <a:ext cx="8839440" cy="4154400"/>
        </p:xfrm>
        <a:graphic>
          <a:graphicData uri="http://schemas.openxmlformats.org/drawingml/2006/table">
            <a:tbl>
              <a:tblPr/>
              <a:tblGrid>
                <a:gridCol w="1752840"/>
                <a:gridCol w="2286000"/>
                <a:gridCol w="2819160"/>
                <a:gridCol w="19814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urier New"/>
                          <a:ea typeface="Osaka"/>
                        </a:rPr>
                        <a:t>Genotyp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urier New"/>
                          <a:ea typeface="Osaka"/>
                        </a:rPr>
                        <a:t>Ent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d1d1cb"/>
                          </a:solidFill>
                          <a:latin typeface="Courier New"/>
                          <a:ea typeface="Osaka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urier New"/>
                          <a:ea typeface="Osaka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66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urier New"/>
                          <a:ea typeface="Osaka"/>
                        </a:rPr>
                        <a:t>np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urier New"/>
                          <a:ea typeface="Osaka"/>
                        </a:rPr>
                        <a:t>gu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d1d1cb"/>
                          </a:solidFill>
                          <a:latin typeface="Courier New"/>
                          <a:ea typeface="Osaka"/>
                        </a:rPr>
                        <a:t>structur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urier New"/>
                          <a:ea typeface="Osaka"/>
                        </a:rPr>
                        <a:t>dysplastic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66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urier New"/>
                          <a:ea typeface="Osaka"/>
                        </a:rPr>
                        <a:t>gu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d1d1cb"/>
                          </a:solidFill>
                          <a:latin typeface="Courier New"/>
                          <a:ea typeface="Osaka"/>
                        </a:rPr>
                        <a:t>relative siz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urier New"/>
                          <a:ea typeface="Osaka"/>
                        </a:rPr>
                        <a:t>smal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66ff"/>
                    </a:solidFill>
                  </a:tcPr>
                </a:tc>
              </a:tr>
              <a:tr h="38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urier New"/>
                          <a:ea typeface="Osaka"/>
                        </a:rPr>
                        <a:t>r2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urier New"/>
                          <a:ea typeface="Osaka"/>
                        </a:rPr>
                        <a:t>retin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d1d1cb"/>
                          </a:solidFill>
                          <a:latin typeface="Courier New"/>
                          <a:ea typeface="Osaka"/>
                        </a:rPr>
                        <a:t>patter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urier New"/>
                          <a:ea typeface="Osaka"/>
                        </a:rPr>
                        <a:t>irregula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66ff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urier New"/>
                          <a:ea typeface="Osaka"/>
                        </a:rPr>
                        <a:t>brai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d1d1cb"/>
                          </a:solidFill>
                          <a:latin typeface="Courier New"/>
                          <a:ea typeface="Osaka"/>
                        </a:rPr>
                        <a:t>structur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urier New"/>
                          <a:ea typeface="Osaka"/>
                        </a:rPr>
                        <a:t>fuse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66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urier New"/>
                          <a:ea typeface="Osaka"/>
                        </a:rPr>
                        <a:t>tm8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urier New"/>
                          <a:ea typeface="Osaka"/>
                        </a:rPr>
                        <a:t>d/v pattern forma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d1d1cb"/>
                          </a:solidFill>
                          <a:latin typeface="Courier New"/>
                          <a:ea typeface="Osaka"/>
                        </a:rPr>
                        <a:t>qualitativ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urier New"/>
                          <a:ea typeface="Osaka"/>
                        </a:rPr>
                        <a:t>abnorm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66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urier New"/>
                          <a:ea typeface="Osaka"/>
                        </a:rPr>
                        <a:t>blood islan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d1d1cb"/>
                          </a:solidFill>
                          <a:latin typeface="Courier New"/>
                          <a:ea typeface="Osaka"/>
                        </a:rPr>
                        <a:t>rel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urier New"/>
                          <a:ea typeface="Osaka"/>
                        </a:rPr>
                        <a:t>number increase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66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urier New"/>
                          <a:ea typeface="Osaka"/>
                        </a:rPr>
                        <a:t>Bsb[2]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urier New"/>
                          <a:ea typeface="Osaka"/>
                        </a:rPr>
                        <a:t>elongation of arista liter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d1d1cb"/>
                          </a:solidFill>
                          <a:latin typeface="Courier New"/>
                          <a:ea typeface="Osaka"/>
                        </a:rPr>
                        <a:t>proces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urier New"/>
                          <a:ea typeface="Osaka"/>
                        </a:rPr>
                        <a:t>arreste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66ff"/>
                    </a:solidFill>
                  </a:tcPr>
                </a:tc>
              </a:tr>
              <a:tr h="36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urier New"/>
                          <a:ea typeface="Osaka"/>
                        </a:rPr>
                        <a:t>C-alpha[1D]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urier New"/>
                          <a:ea typeface="Osaka"/>
                        </a:rPr>
                        <a:t>adult behaviou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d1d1cb"/>
                          </a:solidFill>
                          <a:latin typeface="Courier New"/>
                          <a:ea typeface="Osaka"/>
                        </a:rPr>
                        <a:t>behavioral activ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urier New"/>
                          <a:ea typeface="Osaka"/>
                        </a:rPr>
                        <a:t>uncoordinate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6666ff"/>
                    </a:solidFill>
                  </a:tcPr>
                </a:tc>
              </a:tr>
            </a:tbl>
          </a:graphicData>
        </a:graphic>
      </p:graphicFrame>
      <p:pic>
        <p:nvPicPr>
          <p:cNvPr id="760" name="" descr=""/>
          <p:cNvPicPr/>
          <p:nvPr/>
        </p:nvPicPr>
        <p:blipFill>
          <a:blip r:embed="rId1"/>
          <a:stretch/>
        </p:blipFill>
        <p:spPr>
          <a:xfrm>
            <a:off x="915840" y="1822320"/>
            <a:ext cx="7313760" cy="8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864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Century Gothic"/>
              </a:rPr>
              <a:t>What is an ontology</a:t>
            </a:r>
            <a:endParaRPr b="0" lang="en-US" sz="40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915840" y="1652760"/>
            <a:ext cx="7313760" cy="8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"/>
          <p:cNvSpPr/>
          <p:nvPr/>
        </p:nvSpPr>
        <p:spPr>
          <a:xfrm>
            <a:off x="-88200" y="2322360"/>
            <a:ext cx="9324720" cy="2228040"/>
          </a:xfrm>
          <a:prstGeom prst="rect">
            <a:avLst/>
          </a:prstGeom>
          <a:solidFill>
            <a:srgbClr val="90908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Association =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enotype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 Phenotyp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vironment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ssa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Phenotype =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Stage*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 Entity Attribu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Entity = </a:t>
            </a:r>
            <a:r>
              <a:rPr b="0" i="1" lang="en-US" sz="2400" spc="-1" strike="noStrike">
                <a:solidFill>
                  <a:srgbClr val="ffffff"/>
                </a:solidFill>
                <a:latin typeface="Courier New"/>
              </a:rPr>
              <a:t>OBOClass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Stage = </a:t>
            </a:r>
            <a:r>
              <a:rPr b="0" i="1" lang="en-US" sz="2400" spc="-1" strike="noStrike">
                <a:solidFill>
                  <a:srgbClr val="ffffff"/>
                </a:solidFill>
                <a:latin typeface="Courier New"/>
              </a:rPr>
              <a:t>OBOAnatomicalStageClass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Attribute = </a:t>
            </a:r>
            <a:r>
              <a:rPr b="0" i="1" lang="en-US" sz="2400" spc="-1" strike="noStrike">
                <a:solidFill>
                  <a:srgbClr val="ffffff"/>
                </a:solidFill>
                <a:latin typeface="Courier New"/>
              </a:rPr>
              <a:t>PATOClass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5396760" y="6070680"/>
            <a:ext cx="383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* means zero or mo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entury Gothic"/>
              </a:rPr>
              <a:t>Current Model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pic>
        <p:nvPicPr>
          <p:cNvPr id="764" name="" descr=""/>
          <p:cNvPicPr/>
          <p:nvPr/>
        </p:nvPicPr>
        <p:blipFill>
          <a:blip r:embed="rId1"/>
          <a:stretch/>
        </p:blipFill>
        <p:spPr>
          <a:xfrm>
            <a:off x="685800" y="1652760"/>
            <a:ext cx="7313760" cy="8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4416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entury Gothic"/>
              </a:rPr>
              <a:t>Composite phenotype classes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Mammalian phenotype has composite phenotype classes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e.g. “reduced B cell number”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Compose at annotation time or ontology curation time?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False dichotomy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Core 2 will help map between composite class based annotation and EAV annotation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767" name="" descr=""/>
          <p:cNvPicPr/>
          <p:nvPr/>
        </p:nvPicPr>
        <p:blipFill>
          <a:blip r:embed="rId1"/>
          <a:stretch/>
        </p:blipFill>
        <p:spPr>
          <a:xfrm>
            <a:off x="915840" y="1822320"/>
            <a:ext cx="7313760" cy="8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entury Gothic"/>
              </a:rPr>
              <a:t>Interpreting annotations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Annotations are data records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typically use class IDs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implicitly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 refer to instances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How do we map an annotation to instances?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Important for using annotations computationally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770" name="" descr=""/>
          <p:cNvPicPr/>
          <p:nvPr/>
        </p:nvPicPr>
        <p:blipFill>
          <a:blip r:embed="rId1"/>
          <a:stretch/>
        </p:blipFill>
        <p:spPr>
          <a:xfrm>
            <a:off x="915840" y="1822320"/>
            <a:ext cx="7313760" cy="8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685800" y="1386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entury Gothic"/>
              </a:rPr>
              <a:t>Interpreting annotations (1)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342720" y="21337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What does an EA (or EAV) annotation mean?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Annotation: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ccff6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Genotype=“FBal00123” E=“brain” A=“fused”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presumed implied meaning: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ccff6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this organism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has_part x, where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x instance_of “brain”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x has_quality “fused”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or in natural language: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ff6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radley Hand ITC TT-Bold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Bradley Hand ITC TT-Bold"/>
              </a:rPr>
              <a:t>this organism has a fused brain”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Various built-in assumptions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773" name="" descr=""/>
          <p:cNvPicPr/>
          <p:nvPr/>
        </p:nvPicPr>
        <p:blipFill>
          <a:blip r:embed="rId1"/>
          <a:stretch/>
        </p:blipFill>
        <p:spPr>
          <a:xfrm>
            <a:off x="915840" y="1523880"/>
            <a:ext cx="7313760" cy="8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4" name="" descr=""/>
          <p:cNvPicPr/>
          <p:nvPr/>
        </p:nvPicPr>
        <p:blipFill>
          <a:blip r:embed="rId1"/>
          <a:stretch/>
        </p:blipFill>
        <p:spPr>
          <a:xfrm>
            <a:off x="304920" y="609480"/>
            <a:ext cx="8610480" cy="480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68580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entury Gothic"/>
              </a:rPr>
              <a:t>Interpreting annotations (II)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685800" y="1971360"/>
            <a:ext cx="7772400" cy="46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What does this mean: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annotation: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ff6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=“FBal00123” E=“wing” A=“absent”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using same mapping as annotation I: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ff6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fly98 has_part x, where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x instance_of “wing”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x has_quality “absent”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or in natural language: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ff6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radley Hand ITC TT-Bold"/>
              </a:rPr>
              <a:t>this fly has a wing which is not there!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What we really intend: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ff6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NOT(this organism has_part x, where x instance_of “wing”)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777" name="" descr=""/>
          <p:cNvPicPr/>
          <p:nvPr/>
        </p:nvPicPr>
        <p:blipFill>
          <a:blip r:embed="rId1"/>
          <a:stretch/>
        </p:blipFill>
        <p:spPr>
          <a:xfrm>
            <a:off x="915840" y="1639800"/>
            <a:ext cx="7313760" cy="8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685800" y="-41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entury Gothic"/>
              </a:rPr>
              <a:t>Interpreting annotations (II)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115560" y="1731960"/>
            <a:ext cx="8915400" cy="448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What does this mean: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735480" indent="-282960">
              <a:spcBef>
                <a:spcPts val="499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annotation: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31480" indent="-226080">
              <a:lnSpc>
                <a:spcPct val="100000"/>
              </a:lnSpc>
              <a:spcBef>
                <a:spcPts val="451"/>
              </a:spcBef>
              <a:buClr>
                <a:srgbClr val="ccff6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Genotype=“FBal00123” E=“wing” A=“absent”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735480" indent="-282960">
              <a:spcBef>
                <a:spcPts val="499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using same mapping as annotation I: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31480" indent="-226080">
              <a:lnSpc>
                <a:spcPct val="100000"/>
              </a:lnSpc>
              <a:spcBef>
                <a:spcPts val="451"/>
              </a:spcBef>
              <a:buClr>
                <a:srgbClr val="ccff6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this organism has_part x, where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3" marL="1584000" indent="-22608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x instance_of “wing”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3" marL="1584000" indent="-22608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x has_quality “absent”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1" marL="735480" indent="-282960">
              <a:spcBef>
                <a:spcPts val="499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or in natural language: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31480" indent="-226080">
              <a:lnSpc>
                <a:spcPct val="100000"/>
              </a:lnSpc>
              <a:spcBef>
                <a:spcPts val="499"/>
              </a:spcBef>
              <a:buClr>
                <a:srgbClr val="ccff6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radley Hand ITC TT-Bold"/>
              </a:rPr>
              <a:t>this fly has a wing which is not there!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35480" indent="-282960">
              <a:spcBef>
                <a:spcPts val="499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What we really intend: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31480" indent="-226080">
              <a:spcBef>
                <a:spcPts val="451"/>
              </a:spcBef>
              <a:buClr>
                <a:srgbClr val="ccff6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this organism has_quality “wingless”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2" marL="1131480" indent="-226080">
              <a:spcBef>
                <a:spcPts val="451"/>
              </a:spcBef>
              <a:buClr>
                <a:srgbClr val="ccff6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“</a:t>
            </a: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wingless” = the property of having count(has_part “wing”)=0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780" name="" descr=""/>
          <p:cNvPicPr/>
          <p:nvPr/>
        </p:nvPicPr>
        <p:blipFill>
          <a:blip r:embed="rId1"/>
          <a:stretch/>
        </p:blipFill>
        <p:spPr>
          <a:xfrm>
            <a:off x="915840" y="1352520"/>
            <a:ext cx="7313760" cy="8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87240" y="2044800"/>
            <a:ext cx="7772400" cy="27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entury Gothic"/>
              </a:rPr>
              <a:t>Are our computational representations intended to capture reality?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685800" y="473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entury Gothic"/>
              </a:rPr>
              <a:t>Does this matter?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685800" y="2268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If we simply use the colloquial expression “absent”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What are the consequences?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Basic search will be fine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ccff6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e.g.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“find all wing phenotypes”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Logical reasoners will compute incorrect results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omputers will not be able to reason correctly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We must explicitly provide specific rules for certain attributes such as “absent”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784" name="" descr=""/>
          <p:cNvPicPr/>
          <p:nvPr/>
        </p:nvPicPr>
        <p:blipFill>
          <a:blip r:embed="rId1"/>
          <a:stretch/>
        </p:blipFill>
        <p:spPr>
          <a:xfrm>
            <a:off x="915840" y="1711440"/>
            <a:ext cx="7313760" cy="8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"/>
          <p:cNvSpPr/>
          <p:nvPr/>
        </p:nvSpPr>
        <p:spPr>
          <a:xfrm>
            <a:off x="687240" y="-52200"/>
            <a:ext cx="7772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entury Gothic"/>
                <a:ea typeface="Osaka"/>
              </a:rPr>
              <a:t>Interpreting annotations (III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534960" y="1697040"/>
            <a:ext cx="807732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  <a:ea typeface="Osaka"/>
              </a:rPr>
              <a:t>What does this mea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  <a:ea typeface="Osaka"/>
              </a:rPr>
              <a:t>annotatio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-212400">
              <a:lnSpc>
                <a:spcPct val="90000"/>
              </a:lnSpc>
              <a:spcBef>
                <a:spcPts val="499"/>
              </a:spcBef>
              <a:buClr>
                <a:srgbClr val="ccff6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  <a:ea typeface="Osaka"/>
              </a:rPr>
              <a:t>E=“digit” A=“supernumery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  <a:ea typeface="Osaka"/>
              </a:rPr>
              <a:t>using same interpretation as annotation I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-212400">
              <a:lnSpc>
                <a:spcPct val="90000"/>
              </a:lnSpc>
              <a:spcBef>
                <a:spcPts val="499"/>
              </a:spcBef>
              <a:buClr>
                <a:srgbClr val="ccff6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  <a:ea typeface="Osaka"/>
              </a:rPr>
              <a:t>this organism has_part x, whe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487880" indent="-2124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Osaka"/>
              </a:rPr>
              <a:t>x instance_of “digit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487880" indent="-2124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Osaka"/>
              </a:rPr>
              <a:t>x has_quality “supernumery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  <a:ea typeface="Osaka"/>
              </a:rPr>
              <a:t>or in natural languag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-212400">
              <a:lnSpc>
                <a:spcPct val="90000"/>
              </a:lnSpc>
              <a:spcBef>
                <a:spcPts val="499"/>
              </a:spcBef>
              <a:buClr>
                <a:srgbClr val="ccff6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radley Hand ITC TT-Bold"/>
                <a:ea typeface="Osaka"/>
              </a:rPr>
              <a:t>this organism has a particular finger which is supernumery!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  <a:ea typeface="Osaka"/>
              </a:rPr>
              <a:t>What we really intend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-212400">
              <a:lnSpc>
                <a:spcPct val="90000"/>
              </a:lnSpc>
              <a:spcBef>
                <a:spcPts val="499"/>
              </a:spcBef>
              <a:buClr>
                <a:srgbClr val="ccff6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  <a:ea typeface="Osaka"/>
              </a:rPr>
              <a:t>this person has_quality “supernumery finger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-212400">
              <a:lnSpc>
                <a:spcPct val="90000"/>
              </a:lnSpc>
              <a:spcBef>
                <a:spcPts val="499"/>
              </a:spcBef>
              <a:buClr>
                <a:srgbClr val="ccff6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  <a:ea typeface="Osaka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  <a:ea typeface="Osaka"/>
              </a:rPr>
              <a:t>supernumery finger” = </a:t>
            </a:r>
            <a:r>
              <a:rPr b="0" i="1" lang="en-US" sz="2000" spc="-1" strike="noStrike">
                <a:solidFill>
                  <a:srgbClr val="ffffff"/>
                </a:solidFill>
                <a:latin typeface="Courier New"/>
                <a:ea typeface="Osaka"/>
              </a:rPr>
              <a:t>the property of having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  <a:ea typeface="Osaka"/>
              </a:rPr>
              <a:t> count(has_part “digit”) &gt; wild-type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87" name="" descr=""/>
          <p:cNvPicPr/>
          <p:nvPr/>
        </p:nvPicPr>
        <p:blipFill>
          <a:blip r:embed="rId1"/>
          <a:stretch/>
        </p:blipFill>
        <p:spPr>
          <a:xfrm>
            <a:off x="915840" y="1330200"/>
            <a:ext cx="7313760" cy="8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entury Gothic"/>
              </a:rPr>
              <a:t>Ontology (as a branch of philosophy)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The science of what exists in every area of reality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The classification of entities: what kinds of things exist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The relations between these entities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Defines a scientific field's vocabulary and the canonical formulations of its theories.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Seeks to solve problems which arise in these domains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"/>
          <p:cNvSpPr/>
          <p:nvPr/>
        </p:nvSpPr>
        <p:spPr>
          <a:xfrm>
            <a:off x="687240" y="173160"/>
            <a:ext cx="7772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entury Gothic"/>
                <a:ea typeface="Osaka"/>
              </a:rPr>
              <a:t>Interpreting annotations (IV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687240" y="1363680"/>
            <a:ext cx="7772400" cy="53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  <a:ea typeface="Osaka"/>
              </a:rPr>
              <a:t>What does this mea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  <a:ea typeface="Osaka"/>
              </a:rPr>
              <a:t>annotatio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lnSpc>
                <a:spcPct val="100000"/>
              </a:lnSpc>
              <a:spcBef>
                <a:spcPts val="601"/>
              </a:spcBef>
              <a:buClr>
                <a:srgbClr val="ccff6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Osaka"/>
              </a:rPr>
              <a:t>Gt=“mp001” E=“brown fat cell” A=“increased quantity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  <a:ea typeface="Osaka"/>
              </a:rPr>
              <a:t>using same mapping as annotation I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ccff6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  <a:ea typeface="Osaka"/>
              </a:rPr>
              <a:t>this organism has_part x, whe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Osaka"/>
              </a:rPr>
              <a:t>x instance_of “brown fat cell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Osaka"/>
              </a:rPr>
              <a:t>x has_quality “increased quantity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  <a:ea typeface="Osaka"/>
              </a:rPr>
              <a:t>or in natural languag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ccff6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radley Hand ITC TT-Bold"/>
                <a:ea typeface="Osaka"/>
              </a:rPr>
              <a:t>this organism has a particular brown fat cell which is increased in quant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  <a:ea typeface="Osaka"/>
              </a:rPr>
              <a:t>What we really intend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ccff6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  <a:ea typeface="Osaka"/>
              </a:rPr>
              <a:t>this organism has_part population_of(“brown fat cell”) which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Osaka"/>
              </a:rPr>
              <a:t>has_quality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  <a:ea typeface="Osaka"/>
              </a:rPr>
              <a:t> increased siz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0" name="" descr=""/>
          <p:cNvPicPr/>
          <p:nvPr/>
        </p:nvPicPr>
        <p:blipFill>
          <a:blip r:embed="rId1"/>
          <a:stretch/>
        </p:blipFill>
        <p:spPr>
          <a:xfrm>
            <a:off x="915840" y="1108080"/>
            <a:ext cx="7313760" cy="8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entury Gothic"/>
              </a:rPr>
              <a:t>Other use cases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permatocyte devoid of asters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Homeotic transformations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Increased distance between wing veins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ome </a:t>
            </a:r>
            <a:r>
              <a:rPr b="0" i="1" lang="en-US" sz="3200" spc="-1" strike="noStrike">
                <a:solidFill>
                  <a:srgbClr val="ffffff"/>
                </a:solidFill>
                <a:latin typeface="Century Gothic"/>
              </a:rPr>
              <a:t>vs</a:t>
            </a: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. al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793" name="" descr=""/>
          <p:cNvPicPr/>
          <p:nvPr/>
        </p:nvPicPr>
        <p:blipFill>
          <a:blip r:embed="rId1"/>
          <a:stretch/>
        </p:blipFill>
        <p:spPr>
          <a:xfrm>
            <a:off x="915840" y="1542960"/>
            <a:ext cx="7313760" cy="8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entury Gothic"/>
              </a:rPr>
              <a:t>Alternate perspectives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process </a:t>
            </a:r>
            <a:r>
              <a:rPr b="0" i="1" lang="en-US" sz="2000" spc="-1" strike="noStrike">
                <a:solidFill>
                  <a:srgbClr val="ffffff"/>
                </a:solidFill>
                <a:latin typeface="Century Gothic"/>
              </a:rPr>
              <a:t>vs.</a:t>
            </a: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 state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regulatory processes: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ccff6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acidification of midgut has_quality reduced rate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ccff6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midgut has_quality low acidity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development </a:t>
            </a:r>
            <a:r>
              <a:rPr b="0" i="1" lang="en-US" sz="2000" spc="-1" strike="noStrike">
                <a:solidFill>
                  <a:srgbClr val="ffffff"/>
                </a:solidFill>
                <a:latin typeface="Century Gothic"/>
              </a:rPr>
              <a:t>vs.</a:t>
            </a: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 behavior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wing development has_quality abnorma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flight has_quality intermittent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granularity (scale)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chemical </a:t>
            </a:r>
            <a:r>
              <a:rPr b="0" i="1" lang="en-US" sz="1800" spc="-1" strike="noStrike">
                <a:solidFill>
                  <a:srgbClr val="ffffff"/>
                </a:solidFill>
                <a:latin typeface="Century Gothic"/>
              </a:rPr>
              <a:t>vs</a:t>
            </a: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. molecular </a:t>
            </a:r>
            <a:r>
              <a:rPr b="0" i="1" lang="en-US" sz="1800" spc="-1" strike="noStrike">
                <a:solidFill>
                  <a:srgbClr val="ffffff"/>
                </a:solidFill>
                <a:latin typeface="Century Gothic"/>
              </a:rPr>
              <a:t>vs</a:t>
            </a: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. cell </a:t>
            </a:r>
            <a:r>
              <a:rPr b="0" i="1" lang="en-US" sz="1800" spc="-1" strike="noStrike">
                <a:solidFill>
                  <a:srgbClr val="ffffff"/>
                </a:solidFill>
                <a:latin typeface="Century Gothic"/>
              </a:rPr>
              <a:t>vs</a:t>
            </a: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. tissue </a:t>
            </a:r>
            <a:r>
              <a:rPr b="0" i="1" lang="en-US" sz="1800" spc="-1" strike="noStrike">
                <a:solidFill>
                  <a:srgbClr val="ffffff"/>
                </a:solidFill>
                <a:latin typeface="Century Gothic"/>
              </a:rPr>
              <a:t>vs</a:t>
            </a: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. anatomical part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796" name="" descr=""/>
          <p:cNvPicPr/>
          <p:nvPr/>
        </p:nvPicPr>
        <p:blipFill>
          <a:blip r:embed="rId1"/>
          <a:stretch/>
        </p:blipFill>
        <p:spPr>
          <a:xfrm>
            <a:off x="915840" y="1542960"/>
            <a:ext cx="7313760" cy="8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5562720" y="4648320"/>
            <a:ext cx="1371600" cy="533160"/>
          </a:xfrm>
          <a:prstGeom prst="rect">
            <a:avLst/>
          </a:prstGeom>
          <a:solidFill>
            <a:srgbClr val="d1d1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ey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38120" y="3200400"/>
            <a:ext cx="3124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 lvl="1" marL="616680" indent="-237240">
              <a:lnSpc>
                <a:spcPct val="100000"/>
              </a:lnSpc>
              <a:spcBef>
                <a:spcPts val="700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  <a:ea typeface="Osaka"/>
              </a:rPr>
              <a:t>what </a:t>
            </a:r>
            <a:r>
              <a:rPr b="0" i="1" lang="en-US" sz="2800" spc="-1" strike="noStrike">
                <a:solidFill>
                  <a:srgbClr val="ffffff"/>
                </a:solidFill>
                <a:latin typeface="Century Gothic"/>
                <a:ea typeface="Osaka"/>
              </a:rPr>
              <a:t>kinds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  <a:ea typeface="Osaka"/>
              </a:rPr>
              <a:t> of things exist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99960" y="4572000"/>
            <a:ext cx="32004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00000"/>
              </a:lnSpc>
              <a:spcBef>
                <a:spcPts val="700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  <a:ea typeface="Osaka"/>
              </a:rPr>
              <a:t>what are the </a:t>
            </a:r>
            <a:r>
              <a:rPr b="0" i="1" lang="en-US" sz="2800" spc="-1" strike="noStrike">
                <a:solidFill>
                  <a:srgbClr val="ffffff"/>
                </a:solidFill>
                <a:latin typeface="Century Gothic"/>
                <a:ea typeface="Osaka"/>
              </a:rPr>
              <a:t>relationships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  <a:ea typeface="Osaka"/>
              </a:rPr>
              <a:t> between these thing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105520" y="6095880"/>
            <a:ext cx="2286000" cy="533520"/>
          </a:xfrm>
          <a:prstGeom prst="rect">
            <a:avLst/>
          </a:prstGeom>
          <a:solidFill>
            <a:srgbClr val="d1d1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ommatidiu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400800" y="3314880"/>
            <a:ext cx="2057400" cy="609480"/>
          </a:xfrm>
          <a:prstGeom prst="rect">
            <a:avLst/>
          </a:prstGeom>
          <a:solidFill>
            <a:srgbClr val="d1d1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ense org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038480" y="3314880"/>
            <a:ext cx="2057400" cy="609480"/>
          </a:xfrm>
          <a:prstGeom prst="rect">
            <a:avLst/>
          </a:prstGeom>
          <a:solidFill>
            <a:srgbClr val="d1d1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eye dis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297560" y="41306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is_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215760" y="533412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part_o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1400" y="4130640"/>
            <a:ext cx="164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develo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552600" y="3200400"/>
            <a:ext cx="2895480" cy="2314440"/>
          </a:xfrm>
          <a:prstGeom prst="rect">
            <a:avLst/>
          </a:prstGeom>
          <a:ln w="0">
            <a:noFill/>
          </a:ln>
        </p:spPr>
      </p:pic>
      <p:cxnSp>
        <p:nvCxnSpPr>
          <p:cNvPr id="190" name=""/>
          <p:cNvCxnSpPr>
            <a:stCxn id="183" idx="0"/>
            <a:endCxn id="180" idx="2"/>
          </p:cNvCxnSpPr>
          <p:nvPr/>
        </p:nvCxnSpPr>
        <p:spPr>
          <a:xfrm flipV="1">
            <a:off x="6248160" y="5181120"/>
            <a:ext cx="1080" cy="915120"/>
          </a:xfrm>
          <a:prstGeom prst="straightConnector1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191" name=""/>
          <p:cNvCxnSpPr>
            <a:stCxn id="180" idx="3"/>
            <a:endCxn id="184" idx="2"/>
          </p:cNvCxnSpPr>
          <p:nvPr/>
        </p:nvCxnSpPr>
        <p:spPr>
          <a:xfrm flipV="1">
            <a:off x="6934320" y="3924000"/>
            <a:ext cx="496080" cy="99144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92" name=""/>
          <p:cNvCxnSpPr>
            <a:stCxn id="180" idx="1"/>
            <a:endCxn id="185" idx="2"/>
          </p:cNvCxnSpPr>
          <p:nvPr/>
        </p:nvCxnSpPr>
        <p:spPr>
          <a:xfrm flipH="1" flipV="1">
            <a:off x="5067000" y="3924000"/>
            <a:ext cx="496080" cy="991440"/>
          </a:xfrm>
          <a:prstGeom prst="straightConnector1">
            <a:avLst/>
          </a:prstGeom>
          <a:ln w="57240">
            <a:solidFill>
              <a:srgbClr val="00ff00"/>
            </a:solidFill>
            <a:miter/>
            <a:tailEnd len="med" type="triangle" w="med"/>
          </a:ln>
        </p:spPr>
      </p:cxn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entury Gothic"/>
              </a:rPr>
              <a:t>A biological ontology is: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A machine interpretable representation of some aspect of biological reality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500"/>
                            </p:stCondLst>
                            <p:childTnLst>
                              <p:par>
                                <p:cTn id="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000"/>
                            </p:stCondLst>
                            <p:childTnLst>
                              <p:par>
                                <p:cTn id="9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2500"/>
                            </p:stCondLst>
                            <p:childTnLst>
                              <p:par>
                                <p:cTn id="1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2500"/>
                            </p:stCondLst>
                            <p:childTnLst>
                              <p:par>
                                <p:cTn id="10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4000"/>
                            </p:stCondLst>
                            <p:childTnLst>
                              <p:par>
                                <p:cTn id="1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4500"/>
                            </p:stCondLst>
                            <p:childTnLst>
                              <p:par>
                                <p:cTn id="1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4500"/>
                            </p:stCondLst>
                            <p:childTnLst>
                              <p:par>
                                <p:cTn id="11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6000"/>
                            </p:stCondLst>
                            <p:childTnLst>
                              <p:par>
                                <p:cTn id="1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6500"/>
                            </p:stCondLst>
                            <p:childTnLst>
                              <p:par>
                                <p:cTn id="1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entury Gothic"/>
              </a:rPr>
              <a:t>Entity: a definition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anything which exists, including things and processes, functions and qualities, beliefs and actions, software and images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entury Gothic"/>
              </a:rPr>
              <a:t>Representation: a definition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entury Gothic"/>
              </a:rPr>
              <a:t>An image, idea, map, picture, name, description ... which refers to, or is intended to refer to, some entity or entities in reality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32640" indent="-332640">
              <a:spcBef>
                <a:spcPts val="799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entury Gothic"/>
              </a:rPr>
              <a:t>this ‘or is intended to refer to’ should always be assumed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2824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Century Gothic"/>
              </a:rPr>
              <a:t>Ontologies represent </a:t>
            </a:r>
            <a:r>
              <a:rPr b="1" lang="en-US" sz="4000" spc="-1" strike="noStrike">
                <a:solidFill>
                  <a:srgbClr val="ff8000"/>
                </a:solidFill>
                <a:latin typeface="Century Gothic"/>
              </a:rPr>
              <a:t>types</a:t>
            </a:r>
            <a:r>
              <a:rPr b="0" lang="en-US" sz="4000" spc="-1" strike="noStrike">
                <a:solidFill>
                  <a:srgbClr val="ffcc66"/>
                </a:solidFill>
                <a:latin typeface="Century Gothic"/>
              </a:rPr>
              <a:t> in reality</a:t>
            </a:r>
            <a:endParaRPr b="0" lang="en-US" sz="40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86108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533520" y="2819520"/>
            <a:ext cx="8229600" cy="329220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1752480" y="4724280"/>
            <a:ext cx="1600200" cy="68580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572000" y="2819520"/>
            <a:ext cx="4191120" cy="327636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852920" y="617220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8000"/>
                </a:solidFill>
                <a:latin typeface="Century Gothic"/>
              </a:rPr>
              <a:t>ontolog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044760" y="6248520"/>
            <a:ext cx="124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80"/>
                </a:solidFill>
                <a:latin typeface="Century Gothic"/>
              </a:rPr>
              <a:t>real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entury Gothic"/>
              </a:rPr>
              <a:t>Sections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Why make an ontology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What is an ontology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How to create an ontology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Logically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Technically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Organizationally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National Center for Biomedical Ontology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Case study: Phenotypes, our current work on OBD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915840" y="1652760"/>
            <a:ext cx="7313760" cy="8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5154480" y="3054240"/>
            <a:ext cx="3810240" cy="381024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entury Gothic"/>
              </a:rPr>
              <a:t>Scientific data represent </a:t>
            </a:r>
            <a:r>
              <a:rPr b="1" lang="en-US" sz="4400" spc="-1" strike="noStrike">
                <a:solidFill>
                  <a:srgbClr val="ff0080"/>
                </a:solidFill>
                <a:latin typeface="Century Gothic"/>
              </a:rPr>
              <a:t>instances</a:t>
            </a:r>
            <a:r>
              <a:rPr b="0" lang="en-US" sz="4400" spc="-1" strike="noStrike">
                <a:solidFill>
                  <a:srgbClr val="ffcc66"/>
                </a:solidFill>
                <a:latin typeface="Century Gothic"/>
              </a:rPr>
              <a:t> in reality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4738680" y="1952640"/>
          <a:ext cx="3243240" cy="1476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738680" y="1952640"/>
                    <a:ext cx="3243240" cy="14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0" name="" descr=""/>
          <p:cNvPicPr/>
          <p:nvPr/>
        </p:nvPicPr>
        <p:blipFill>
          <a:blip r:embed="rId4"/>
          <a:stretch/>
        </p:blipFill>
        <p:spPr>
          <a:xfrm>
            <a:off x="179280" y="3605040"/>
            <a:ext cx="4795920" cy="32529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5"/>
          <a:stretch/>
        </p:blipFill>
        <p:spPr>
          <a:xfrm>
            <a:off x="1162080" y="2057400"/>
            <a:ext cx="241308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Century Gothic"/>
              </a:rPr>
              <a:t>Two kinds of representational artifact</a:t>
            </a:r>
            <a:endParaRPr b="0" lang="en-US" sz="40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Databases, inventories, images: represent what is particular in reality 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</a:rPr>
              <a:t>= </a:t>
            </a:r>
            <a:r>
              <a:rPr b="1" lang="en-US" sz="3200" spc="-1" strike="noStrike">
                <a:solidFill>
                  <a:srgbClr val="ff0080"/>
                </a:solidFill>
                <a:latin typeface="Century Gothic"/>
              </a:rPr>
              <a:t>instances</a:t>
            </a:r>
            <a:br>
              <a:rPr sz="3200"/>
            </a:br>
            <a:r>
              <a:rPr b="1" lang="en-US" sz="3200" spc="-1" strike="noStrike">
                <a:solidFill>
                  <a:srgbClr val="ff0080"/>
                </a:solidFill>
                <a:latin typeface="Century Gothic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35880" indent="-335880">
              <a:spcBef>
                <a:spcPts val="799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Ontologies, terminologies, catalogs: represent what is general in reality (exists in multiple instances) 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</a:rPr>
              <a:t>= </a:t>
            </a:r>
            <a:r>
              <a:rPr b="1" lang="en-US" sz="3200" spc="-1" strike="noStrike">
                <a:solidFill>
                  <a:srgbClr val="ff8000"/>
                </a:solidFill>
                <a:latin typeface="Century Gothic"/>
              </a:rPr>
              <a:t>types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</a:rPr>
              <a:t> (universals, kinds)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556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Century Gothic"/>
              </a:rPr>
              <a:t>Ontologies are </a:t>
            </a:r>
            <a:r>
              <a:rPr b="1" lang="en-US" sz="4000" spc="-1" strike="noStrike">
                <a:solidFill>
                  <a:srgbClr val="ff0000"/>
                </a:solidFill>
                <a:latin typeface="Century Gothic"/>
              </a:rPr>
              <a:t>not</a:t>
            </a:r>
            <a:r>
              <a:rPr b="0" lang="en-US" sz="4000" spc="-1" strike="noStrike">
                <a:solidFill>
                  <a:srgbClr val="ffcc66"/>
                </a:solidFill>
                <a:latin typeface="Century Gothic"/>
              </a:rPr>
              <a:t> for representing concepts in people’s heads</a:t>
            </a:r>
            <a:endParaRPr b="0" lang="en-US" sz="4000" spc="-1" strike="noStrike">
              <a:solidFill>
                <a:srgbClr val="ffcc66"/>
              </a:solidFill>
              <a:latin typeface="Century Gothic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533520" y="2819520"/>
            <a:ext cx="8229600" cy="32922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533520" y="2819520"/>
            <a:ext cx="8229600" cy="329220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1752480" y="4724280"/>
            <a:ext cx="1600200" cy="68580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852920" y="617220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8000"/>
                </a:solidFill>
                <a:latin typeface="Century Gothic"/>
              </a:rPr>
              <a:t>ontolog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901080" y="2286000"/>
            <a:ext cx="1247400" cy="1905120"/>
            <a:chOff x="901080" y="2286000"/>
            <a:chExt cx="1247400" cy="1905120"/>
          </a:xfrm>
        </p:grpSpPr>
        <p:sp>
          <p:nvSpPr>
            <p:cNvPr id="220" name=""/>
            <p:cNvSpPr/>
            <p:nvPr/>
          </p:nvSpPr>
          <p:spPr>
            <a:xfrm>
              <a:off x="914400" y="3048120"/>
              <a:ext cx="1219320" cy="1143000"/>
            </a:xfrm>
            <a:prstGeom prst="roundRect">
              <a:avLst>
                <a:gd name="adj" fmla="val 16667"/>
              </a:avLst>
            </a:prstGeom>
            <a:noFill/>
            <a:ln w="57240">
              <a:solidFill>
                <a:srgbClr val="ff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901080" y="2286000"/>
              <a:ext cx="1247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80"/>
                  </a:solidFill>
                  <a:latin typeface="Century Gothic"/>
                </a:rPr>
                <a:t>reality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914400" y="3048120"/>
            <a:ext cx="1219320" cy="1143000"/>
          </a:xfrm>
          <a:prstGeom prst="noSmoking">
            <a:avLst>
              <a:gd name="adj" fmla="val 125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533520" y="2819520"/>
            <a:ext cx="8229600" cy="3292200"/>
          </a:xfrm>
          <a:prstGeom prst="rect">
            <a:avLst/>
          </a:prstGeom>
          <a:ln w="0">
            <a:noFill/>
          </a:ln>
        </p:spPr>
      </p:pic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3720" y="34560"/>
            <a:ext cx="8839080" cy="22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Century Gothic"/>
              </a:rPr>
              <a:t>The researcher has a </a:t>
            </a:r>
            <a:r>
              <a:rPr b="0" lang="en-US" sz="3600" spc="-1" strike="noStrike">
                <a:solidFill>
                  <a:srgbClr val="66ffff"/>
                </a:solidFill>
                <a:latin typeface="Century Gothic"/>
              </a:rPr>
              <a:t>cognitive</a:t>
            </a:r>
            <a:r>
              <a:rPr b="0" lang="en-US" sz="3600" spc="-1" strike="noStrike">
                <a:solidFill>
                  <a:srgbClr val="ffcc66"/>
                </a:solidFill>
                <a:latin typeface="Century Gothic"/>
              </a:rPr>
              <a:t> </a:t>
            </a:r>
            <a:r>
              <a:rPr b="0" lang="en-US" sz="3600" spc="-1" strike="noStrike">
                <a:solidFill>
                  <a:srgbClr val="66ffff"/>
                </a:solidFill>
                <a:latin typeface="Century Gothic"/>
              </a:rPr>
              <a:t>representation</a:t>
            </a:r>
            <a:r>
              <a:rPr b="0" lang="en-US" sz="3600" spc="-1" strike="noStrike">
                <a:solidFill>
                  <a:srgbClr val="ffcc66"/>
                </a:solidFill>
                <a:latin typeface="Century Gothic"/>
              </a:rPr>
              <a:t> of what is general, based on his knowledge of the science</a:t>
            </a:r>
            <a:endParaRPr b="0" lang="en-US" sz="36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225" name=""/>
          <p:cNvSpPr/>
          <p:nvPr/>
        </p:nvSpPr>
        <p:spPr>
          <a:xfrm>
            <a:off x="1752480" y="4788000"/>
            <a:ext cx="1600200" cy="68580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882720" y="3051000"/>
            <a:ext cx="1218960" cy="114300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852920" y="612468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8000"/>
                </a:solidFill>
                <a:latin typeface="Century Gothic"/>
              </a:rPr>
              <a:t>ontolog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57200" y="2057400"/>
            <a:ext cx="2070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ffff"/>
                </a:solidFill>
                <a:latin typeface="Century Gothic"/>
              </a:rPr>
              <a:t>Cognitive represent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1066680" y="3886200"/>
            <a:ext cx="381240" cy="533520"/>
          </a:xfrm>
          <a:prstGeom prst="can">
            <a:avLst>
              <a:gd name="adj" fmla="val 25000"/>
            </a:avLst>
          </a:prstGeom>
          <a:solidFill>
            <a:srgbClr val="66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30" name=""/>
          <p:cNvCxnSpPr>
            <a:stCxn id="229" idx="4"/>
            <a:endCxn id="231" idx="2"/>
          </p:cNvCxnSpPr>
          <p:nvPr/>
        </p:nvCxnSpPr>
        <p:spPr>
          <a:xfrm flipV="1">
            <a:off x="1447920" y="3390120"/>
            <a:ext cx="838800" cy="762840"/>
          </a:xfrm>
          <a:prstGeom prst="straightConnector1">
            <a:avLst/>
          </a:prstGeom>
          <a:ln w="22320">
            <a:solidFill>
              <a:srgbClr val="ff0000"/>
            </a:solidFill>
            <a:miter/>
          </a:ln>
        </p:spPr>
      </p:cxnSp>
      <p:sp>
        <p:nvSpPr>
          <p:cNvPr id="232" name=""/>
          <p:cNvSpPr/>
          <p:nvPr/>
        </p:nvSpPr>
        <p:spPr>
          <a:xfrm>
            <a:off x="687960" y="4341960"/>
            <a:ext cx="131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8000"/>
                </a:solidFill>
                <a:latin typeface="Arial"/>
              </a:rPr>
              <a:t>siame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049560" y="281952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8000"/>
                </a:solidFill>
                <a:latin typeface="Arial"/>
              </a:rPr>
              <a:t>mamm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3048120"/>
            <a:ext cx="380880" cy="533160"/>
          </a:xfrm>
          <a:prstGeom prst="can">
            <a:avLst>
              <a:gd name="adj" fmla="val 25000"/>
            </a:avLst>
          </a:prstGeom>
          <a:solidFill>
            <a:srgbClr val="66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34" name=""/>
          <p:cNvCxnSpPr>
            <a:stCxn id="231" idx="4"/>
            <a:endCxn id="235" idx="2"/>
          </p:cNvCxnSpPr>
          <p:nvPr/>
        </p:nvCxnSpPr>
        <p:spPr>
          <a:xfrm flipV="1">
            <a:off x="2666520" y="2628360"/>
            <a:ext cx="762840" cy="686520"/>
          </a:xfrm>
          <a:prstGeom prst="straightConnector1">
            <a:avLst/>
          </a:prstGeom>
          <a:ln w="22320">
            <a:solidFill>
              <a:srgbClr val="ff0000"/>
            </a:solidFill>
            <a:miter/>
          </a:ln>
        </p:spPr>
      </p:cxnSp>
      <p:sp>
        <p:nvSpPr>
          <p:cNvPr id="236" name=""/>
          <p:cNvSpPr/>
          <p:nvPr/>
        </p:nvSpPr>
        <p:spPr>
          <a:xfrm>
            <a:off x="2209680" y="35053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8000"/>
                </a:solidFill>
                <a:latin typeface="Arial"/>
              </a:rPr>
              <a:t>c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37" name=""/>
          <p:cNvCxnSpPr>
            <a:stCxn id="238" idx="4"/>
            <a:endCxn id="239" idx="1"/>
          </p:cNvCxnSpPr>
          <p:nvPr/>
        </p:nvCxnSpPr>
        <p:spPr>
          <a:xfrm>
            <a:off x="7238520" y="418680"/>
            <a:ext cx="343800" cy="1639080"/>
          </a:xfrm>
          <a:prstGeom prst="straightConnector1">
            <a:avLst/>
          </a:prstGeom>
          <a:ln w="22320">
            <a:solidFill>
              <a:srgbClr val="ff0000"/>
            </a:solidFill>
            <a:miter/>
          </a:ln>
        </p:spPr>
      </p:cxnSp>
      <p:cxnSp>
        <p:nvCxnSpPr>
          <p:cNvPr id="240" name=""/>
          <p:cNvCxnSpPr>
            <a:stCxn id="241" idx="4"/>
            <a:endCxn id="238" idx="2"/>
          </p:cNvCxnSpPr>
          <p:nvPr/>
        </p:nvCxnSpPr>
        <p:spPr>
          <a:xfrm flipV="1">
            <a:off x="5867280" y="572760"/>
            <a:ext cx="991440" cy="838800"/>
          </a:xfrm>
          <a:prstGeom prst="straightConnector1">
            <a:avLst/>
          </a:prstGeom>
          <a:ln w="22320">
            <a:solidFill>
              <a:srgbClr val="ff0000"/>
            </a:solidFill>
            <a:miter/>
          </a:ln>
        </p:spPr>
      </p:cxnSp>
      <p:sp>
        <p:nvSpPr>
          <p:cNvPr id="242" name=""/>
          <p:cNvSpPr/>
          <p:nvPr/>
        </p:nvSpPr>
        <p:spPr>
          <a:xfrm>
            <a:off x="5107680" y="1523880"/>
            <a:ext cx="14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8000"/>
                </a:solidFill>
                <a:latin typeface="Arial"/>
              </a:rPr>
              <a:t>organis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486400" y="1144440"/>
            <a:ext cx="380880" cy="533520"/>
          </a:xfrm>
          <a:prstGeom prst="can">
            <a:avLst>
              <a:gd name="adj" fmla="val 25000"/>
            </a:avLst>
          </a:prstGeom>
          <a:solidFill>
            <a:srgbClr val="66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858000" y="152280"/>
            <a:ext cx="380880" cy="533520"/>
          </a:xfrm>
          <a:prstGeom prst="can">
            <a:avLst>
              <a:gd name="adj" fmla="val 25000"/>
            </a:avLst>
          </a:prstGeom>
          <a:solidFill>
            <a:srgbClr val="66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248520" y="609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8000"/>
                </a:solidFill>
                <a:latin typeface="Arial"/>
              </a:rPr>
              <a:t>subst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391520" y="2057400"/>
            <a:ext cx="380880" cy="533520"/>
          </a:xfrm>
          <a:prstGeom prst="can">
            <a:avLst>
              <a:gd name="adj" fmla="val 25000"/>
            </a:avLst>
          </a:prstGeom>
          <a:solidFill>
            <a:srgbClr val="66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248520" y="3657600"/>
            <a:ext cx="380880" cy="533520"/>
          </a:xfrm>
          <a:prstGeom prst="can">
            <a:avLst>
              <a:gd name="adj" fmla="val 25000"/>
            </a:avLst>
          </a:prstGeom>
          <a:solidFill>
            <a:srgbClr val="66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8153280" y="3733920"/>
            <a:ext cx="381240" cy="533160"/>
          </a:xfrm>
          <a:prstGeom prst="can">
            <a:avLst>
              <a:gd name="adj" fmla="val 25000"/>
            </a:avLst>
          </a:prstGeom>
          <a:solidFill>
            <a:srgbClr val="66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46" name=""/>
          <p:cNvCxnSpPr>
            <a:stCxn id="247" idx="0"/>
            <a:endCxn id="244" idx="1"/>
          </p:cNvCxnSpPr>
          <p:nvPr/>
        </p:nvCxnSpPr>
        <p:spPr>
          <a:xfrm>
            <a:off x="4788000" y="2171520"/>
            <a:ext cx="1651680" cy="1486440"/>
          </a:xfrm>
          <a:prstGeom prst="straightConnector1">
            <a:avLst/>
          </a:prstGeom>
          <a:ln w="25560">
            <a:solidFill>
              <a:srgbClr val="ff0000"/>
            </a:solidFill>
            <a:miter/>
          </a:ln>
        </p:spPr>
      </p:cxnSp>
      <p:cxnSp>
        <p:nvCxnSpPr>
          <p:cNvPr id="248" name=""/>
          <p:cNvCxnSpPr>
            <a:stCxn id="239" idx="4"/>
            <a:endCxn id="245" idx="1"/>
          </p:cNvCxnSpPr>
          <p:nvPr/>
        </p:nvCxnSpPr>
        <p:spPr>
          <a:xfrm>
            <a:off x="7772400" y="2324160"/>
            <a:ext cx="572400" cy="1410480"/>
          </a:xfrm>
          <a:prstGeom prst="straightConnector1">
            <a:avLst/>
          </a:prstGeom>
          <a:ln w="22320">
            <a:solidFill>
              <a:srgbClr val="ff0000"/>
            </a:solidFill>
            <a:miter/>
          </a:ln>
        </p:spPr>
      </p:cxnSp>
      <p:sp>
        <p:nvSpPr>
          <p:cNvPr id="235" name=""/>
          <p:cNvSpPr/>
          <p:nvPr/>
        </p:nvSpPr>
        <p:spPr>
          <a:xfrm>
            <a:off x="3429000" y="2362320"/>
            <a:ext cx="380880" cy="533160"/>
          </a:xfrm>
          <a:prstGeom prst="can">
            <a:avLst>
              <a:gd name="adj" fmla="val 25000"/>
            </a:avLst>
          </a:prstGeom>
          <a:solidFill>
            <a:srgbClr val="66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191880"/>
            <a:ext cx="259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ff8000"/>
                </a:solidFill>
                <a:latin typeface="Century Gothic"/>
              </a:rPr>
              <a:t>types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250" name=""/>
          <p:cNvSpPr/>
          <p:nvPr/>
        </p:nvSpPr>
        <p:spPr>
          <a:xfrm>
            <a:off x="4495680" y="1754280"/>
            <a:ext cx="381240" cy="488880"/>
          </a:xfrm>
          <a:prstGeom prst="can">
            <a:avLst>
              <a:gd name="adj" fmla="val 25000"/>
            </a:avLst>
          </a:prstGeom>
          <a:solidFill>
            <a:srgbClr val="66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51" name=""/>
          <p:cNvCxnSpPr>
            <a:stCxn id="250" idx="4"/>
          </p:cNvCxnSpPr>
          <p:nvPr/>
        </p:nvCxnSpPr>
        <p:spPr>
          <a:xfrm flipV="1">
            <a:off x="4876560" y="1410840"/>
            <a:ext cx="610200" cy="588240"/>
          </a:xfrm>
          <a:prstGeom prst="straightConnector1">
            <a:avLst/>
          </a:prstGeom>
          <a:ln w="22320">
            <a:solidFill>
              <a:srgbClr val="ff0000"/>
            </a:solidFill>
            <a:miter/>
          </a:ln>
        </p:spPr>
      </p:cxnSp>
      <p:sp>
        <p:nvSpPr>
          <p:cNvPr id="247" name=""/>
          <p:cNvSpPr/>
          <p:nvPr/>
        </p:nvSpPr>
        <p:spPr>
          <a:xfrm>
            <a:off x="4249440" y="2171880"/>
            <a:ext cx="10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8000"/>
                </a:solidFill>
                <a:latin typeface="Arial"/>
              </a:rPr>
              <a:t>anim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52" name=""/>
          <p:cNvCxnSpPr>
            <a:endCxn id="250" idx="2"/>
          </p:cNvCxnSpPr>
          <p:nvPr/>
        </p:nvCxnSpPr>
        <p:spPr>
          <a:xfrm flipV="1">
            <a:off x="3809520" y="1998000"/>
            <a:ext cx="686520" cy="631080"/>
          </a:xfrm>
          <a:prstGeom prst="straightConnector1">
            <a:avLst/>
          </a:prstGeom>
          <a:ln w="22320">
            <a:solidFill>
              <a:srgbClr val="ff0000"/>
            </a:solidFill>
            <a:miter/>
          </a:ln>
        </p:spPr>
      </p:cxnSp>
      <p:sp>
        <p:nvSpPr>
          <p:cNvPr id="253" name=""/>
          <p:cNvSpPr/>
          <p:nvPr/>
        </p:nvSpPr>
        <p:spPr>
          <a:xfrm>
            <a:off x="0" y="5029200"/>
            <a:ext cx="91440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10920" y="5403960"/>
            <a:ext cx="2759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ff0080"/>
                </a:solidFill>
                <a:latin typeface="Arial"/>
              </a:rPr>
              <a:t>instanc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3733920" y="5410080"/>
            <a:ext cx="838080" cy="80964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2"/>
          <a:stretch/>
        </p:blipFill>
        <p:spPr>
          <a:xfrm>
            <a:off x="5791320" y="5438880"/>
            <a:ext cx="838080" cy="80964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3"/>
          <a:stretch/>
        </p:blipFill>
        <p:spPr>
          <a:xfrm>
            <a:off x="4724280" y="5410080"/>
            <a:ext cx="838440" cy="80964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4"/>
          <a:stretch/>
        </p:blipFill>
        <p:spPr>
          <a:xfrm>
            <a:off x="8077320" y="5410080"/>
            <a:ext cx="838080" cy="80964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5"/>
          <a:stretch/>
        </p:blipFill>
        <p:spPr>
          <a:xfrm>
            <a:off x="6934320" y="5438880"/>
            <a:ext cx="838080" cy="80964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 rot="5383800">
            <a:off x="5984280" y="2249280"/>
            <a:ext cx="912960" cy="5100840"/>
          </a:xfrm>
          <a:custGeom>
            <a:avLst/>
            <a:gdLst>
              <a:gd name="textAreaLeft" fmla="*/ 583200 w 912960"/>
              <a:gd name="textAreaRight" fmla="*/ 913320 w 912960"/>
              <a:gd name="textAreaTop" fmla="*/ 132840 h 5100840"/>
              <a:gd name="textAreaBottom" fmla="*/ 4968000 h 5100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686b5d">
              <a:alpha val="50000"/>
            </a:srgbClr>
          </a:solidFill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478560" y="4114800"/>
            <a:ext cx="7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8000"/>
                </a:solidFill>
                <a:latin typeface="Arial"/>
              </a:rPr>
              <a:t>fro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76320" y="53316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Century Gothic"/>
              </a:rPr>
              <a:t>An ontology is like a scientific text;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Century Gothic"/>
              </a:rPr>
              <a:t>it is a representation of types in reality</a:t>
            </a:r>
            <a:endParaRPr b="0" lang="en-US" sz="36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86108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533520" y="2819520"/>
            <a:ext cx="8229600" cy="3292200"/>
          </a:xfrm>
          <a:prstGeom prst="rect">
            <a:avLst/>
          </a:prstGeom>
          <a:ln w="0">
            <a:noFill/>
          </a:ln>
        </p:spPr>
      </p:pic>
      <p:grpSp>
        <p:nvGrpSpPr>
          <p:cNvPr id="265" name=""/>
          <p:cNvGrpSpPr/>
          <p:nvPr/>
        </p:nvGrpSpPr>
        <p:grpSpPr>
          <a:xfrm>
            <a:off x="990720" y="4788000"/>
            <a:ext cx="3114720" cy="2345400"/>
            <a:chOff x="990720" y="4788000"/>
            <a:chExt cx="3114720" cy="2345400"/>
          </a:xfrm>
        </p:grpSpPr>
        <p:sp>
          <p:nvSpPr>
            <p:cNvPr id="266" name=""/>
            <p:cNvSpPr/>
            <p:nvPr/>
          </p:nvSpPr>
          <p:spPr>
            <a:xfrm>
              <a:off x="1747800" y="4788000"/>
              <a:ext cx="1600200" cy="685800"/>
            </a:xfrm>
            <a:prstGeom prst="roundRect">
              <a:avLst>
                <a:gd name="adj" fmla="val 16667"/>
              </a:avLst>
            </a:prstGeom>
            <a:noFill/>
            <a:ln w="57240">
              <a:solidFill>
                <a:srgbClr val="ff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990720" y="6124680"/>
              <a:ext cx="311472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8000"/>
                  </a:solidFill>
                  <a:latin typeface="Century Gothic"/>
                </a:rPr>
                <a:t>Ontology = a representation of type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457200" y="2057400"/>
            <a:ext cx="2070000" cy="2136600"/>
            <a:chOff x="457200" y="2057400"/>
            <a:chExt cx="2070000" cy="2136600"/>
          </a:xfrm>
        </p:grpSpPr>
        <p:sp>
          <p:nvSpPr>
            <p:cNvPr id="269" name=""/>
            <p:cNvSpPr/>
            <p:nvPr/>
          </p:nvSpPr>
          <p:spPr>
            <a:xfrm>
              <a:off x="882720" y="3051000"/>
              <a:ext cx="1218960" cy="1143000"/>
            </a:xfrm>
            <a:prstGeom prst="roundRect">
              <a:avLst>
                <a:gd name="adj" fmla="val 16667"/>
              </a:avLst>
            </a:prstGeom>
            <a:noFill/>
            <a:ln w="57240">
              <a:solidFill>
                <a:srgbClr val="66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57200" y="2057400"/>
              <a:ext cx="207000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66ffff"/>
                  </a:solidFill>
                  <a:latin typeface="Century Gothic"/>
                </a:rPr>
                <a:t>Cognitive representation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1" name=""/>
          <p:cNvGrpSpPr/>
          <p:nvPr/>
        </p:nvGrpSpPr>
        <p:grpSpPr>
          <a:xfrm>
            <a:off x="3123720" y="2819520"/>
            <a:ext cx="5639400" cy="3827880"/>
            <a:chOff x="3123720" y="2819520"/>
            <a:chExt cx="5639400" cy="3827880"/>
          </a:xfrm>
        </p:grpSpPr>
        <p:sp>
          <p:nvSpPr>
            <p:cNvPr id="272" name=""/>
            <p:cNvSpPr/>
            <p:nvPr/>
          </p:nvSpPr>
          <p:spPr>
            <a:xfrm>
              <a:off x="4572000" y="2819520"/>
              <a:ext cx="4191120" cy="3276360"/>
            </a:xfrm>
            <a:prstGeom prst="roundRect">
              <a:avLst>
                <a:gd name="adj" fmla="val 16667"/>
              </a:avLst>
            </a:prstGeom>
            <a:noFill/>
            <a:ln w="57240">
              <a:solidFill>
                <a:srgbClr val="ff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044760" y="6248520"/>
              <a:ext cx="1247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80"/>
                  </a:solidFill>
                  <a:latin typeface="Century Gothic"/>
                </a:rPr>
                <a:t>reality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>
              <a:off x="3123720" y="4419720"/>
              <a:ext cx="1752840" cy="609480"/>
            </a:xfrm>
            <a:prstGeom prst="line">
              <a:avLst/>
            </a:prstGeom>
            <a:ln w="127080">
              <a:solidFill>
                <a:srgbClr val="ff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entury Gothic"/>
              </a:rPr>
              <a:t>Atomic representational unit: a definition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85280" indent="-485280">
              <a:spcBef>
                <a:spcPts val="700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terms, icons, bar codes, alphanumeric identifiers ... which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831960" indent="-415800">
              <a:spcBef>
                <a:spcPts val="601"/>
              </a:spcBef>
              <a:buClr>
                <a:srgbClr val="ff3e3e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refer, or are intended to refer, to entities in reality, and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831960" indent="-415800">
              <a:spcBef>
                <a:spcPts val="601"/>
              </a:spcBef>
              <a:buClr>
                <a:srgbClr val="ff3e3e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are not built out of further sub-representations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85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85280" indent="-485280">
              <a:spcBef>
                <a:spcPts val="700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Representational units are the </a:t>
            </a:r>
            <a:r>
              <a:rPr b="1" lang="en-US" sz="3200" spc="-1" strike="noStrike">
                <a:solidFill>
                  <a:srgbClr val="ff0000"/>
                </a:solidFill>
                <a:latin typeface="Century Gothic"/>
              </a:rPr>
              <a:t>atoms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  in the domain of representations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entury Gothic"/>
              </a:rPr>
              <a:t>Modular representational unit: a definition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A representation which is built out of other representational units, which together form a structure that mirrors a corresponding structure in reality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762120" y="685800"/>
            <a:ext cx="7635600" cy="5675400"/>
          </a:xfrm>
          <a:prstGeom prst="rect">
            <a:avLst/>
          </a:prstGeom>
          <a:ln w="0">
            <a:noFill/>
          </a:ln>
        </p:spPr>
      </p:pic>
      <p:pic>
        <p:nvPicPr>
          <p:cNvPr id="280" name="" descr=""/>
          <p:cNvPicPr/>
          <p:nvPr/>
        </p:nvPicPr>
        <p:blipFill>
          <a:blip r:embed="rId2"/>
          <a:srcRect l="0" t="2707" r="0" b="3758"/>
          <a:stretch/>
        </p:blipFill>
        <p:spPr>
          <a:xfrm>
            <a:off x="762120" y="723960"/>
            <a:ext cx="7772400" cy="560052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686b5d"/>
                </a:solidFill>
                <a:latin typeface="Century Gothic"/>
              </a:rPr>
              <a:t>Periodic Table</a:t>
            </a:r>
            <a:endParaRPr b="0" lang="en-US" sz="9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282" name=""/>
          <p:cNvSpPr/>
          <p:nvPr/>
        </p:nvSpPr>
        <p:spPr>
          <a:xfrm>
            <a:off x="2684880" y="49320"/>
            <a:ext cx="379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9dcb9"/>
                </a:solidFill>
                <a:latin typeface="Arial"/>
              </a:rPr>
              <a:t>The Periodic T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6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cc66"/>
                </a:solidFill>
                <a:latin typeface="Century Gothic"/>
              </a:rPr>
              <a:t>Ontology: a definition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01480" indent="-501480">
              <a:lnSpc>
                <a:spcPct val="90000"/>
              </a:lnSpc>
              <a:spcBef>
                <a:spcPts val="799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entury Gothic"/>
              </a:rPr>
              <a:t>A modular, representational artifact whose representational units </a:t>
            </a: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are intended to represen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1" marL="859320" indent="-429480">
              <a:lnSpc>
                <a:spcPct val="90000"/>
              </a:lnSpc>
              <a:spcBef>
                <a:spcPts val="700"/>
              </a:spcBef>
              <a:buClr>
                <a:srgbClr val="ff3e3e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types in reality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859320" indent="-429480">
              <a:lnSpc>
                <a:spcPct val="90000"/>
              </a:lnSpc>
              <a:spcBef>
                <a:spcPts val="700"/>
              </a:spcBef>
              <a:buClr>
                <a:srgbClr val="ff3e3e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the relations between these types which are true universally (</a:t>
            </a:r>
            <a:r>
              <a:rPr b="0" i="1" lang="en-US" sz="2800" spc="-1" strike="noStrike">
                <a:solidFill>
                  <a:srgbClr val="ffffff"/>
                </a:solidFill>
                <a:latin typeface="Century Gothic"/>
              </a:rPr>
              <a:t>i.e.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 for all instances)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2" marL="1217520" indent="-357840">
              <a:lnSpc>
                <a:spcPct val="90000"/>
              </a:lnSpc>
              <a:spcBef>
                <a:spcPts val="601"/>
              </a:spcBef>
              <a:buClr>
                <a:srgbClr val="ccff6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lung is_a anatomical structure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2" marL="1217520" indent="-357840">
              <a:lnSpc>
                <a:spcPct val="90000"/>
              </a:lnSpc>
              <a:spcBef>
                <a:spcPts val="601"/>
              </a:spcBef>
              <a:buClr>
                <a:srgbClr val="ccff6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lobe of lung part_of lung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864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Century Gothic"/>
              </a:rPr>
              <a:t>Why make an ontology?</a:t>
            </a:r>
            <a:endParaRPr b="0" lang="en-US" sz="40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What is the motivation?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915840" y="1652760"/>
            <a:ext cx="7313760" cy="8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" descr=""/>
          <p:cNvPicPr/>
          <p:nvPr/>
        </p:nvPicPr>
        <p:blipFill>
          <a:blip r:embed="rId1"/>
          <a:stretch/>
        </p:blipFill>
        <p:spPr>
          <a:xfrm>
            <a:off x="915840" y="1652760"/>
            <a:ext cx="7313760" cy="82440"/>
          </a:xfrm>
          <a:prstGeom prst="rect">
            <a:avLst/>
          </a:prstGeom>
          <a:ln w="0">
            <a:noFill/>
          </a:ln>
        </p:spPr>
      </p:pic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entury Gothic"/>
              </a:rPr>
              <a:t>How to create an ontology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Part 1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The logic and science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15560" y="6091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entury Gothic"/>
              </a:rPr>
              <a:t>In computer science, there is an information handling problem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Different groups of data-gatherers develop their own idiosyncratic terms in which they represent information.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To put this information together, methods must be found to resolve terminological and conceptual incompatibilities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Again, and again, and again…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cc66"/>
                </a:solidFill>
                <a:latin typeface="Century Gothic"/>
              </a:rPr>
              <a:t>The Reality</a:t>
            </a:r>
            <a:endParaRPr b="0" lang="en-US" sz="66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Do not assume that data integration can be brought about by somehow ‘mapping’ incompatible, low quality ontologies built for different purposes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>
            <a:off x="915840" y="1652760"/>
            <a:ext cx="7313760" cy="8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entury Gothic"/>
              </a:rPr>
              <a:t>Two flavors of ontology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66ffcc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Application ontology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609480" indent="-609480">
              <a:spcBef>
                <a:spcPts val="799"/>
              </a:spcBef>
              <a:buClr>
                <a:srgbClr val="66ffcc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Reference ontology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entury Gothic"/>
              </a:rPr>
              <a:t>Application Ontology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An </a:t>
            </a:r>
            <a:r>
              <a:rPr b="1" lang="en-US" sz="3200" spc="-1" strike="noStrike">
                <a:solidFill>
                  <a:srgbClr val="66ffff"/>
                </a:solidFill>
                <a:latin typeface="Century Gothic"/>
              </a:rPr>
              <a:t>application</a:t>
            </a: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 ontology is comparable to an engineering artifact such as a software tool. It is constructed for specific practical purposes. 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entury Gothic"/>
              </a:rPr>
              <a:t>Reference Ontology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A </a:t>
            </a:r>
            <a:r>
              <a:rPr b="1" lang="en-US" sz="3200" spc="-1" strike="noStrike">
                <a:solidFill>
                  <a:srgbClr val="66ffff"/>
                </a:solidFill>
                <a:latin typeface="Century Gothic"/>
              </a:rPr>
              <a:t>reference</a:t>
            </a: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 ontology is analogous to a scientific theory; it seeks to optimize representational adequacy to its subject matter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entury Gothic"/>
              </a:rPr>
              <a:t>Assumptions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There are best practices in ontology development which should be followed to create stable high-quality ontologies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Shared high quality ontologies foster cross-disciplinary and cross-domain re-use of data, and create larger communities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440" y="-210960"/>
            <a:ext cx="91440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entury Gothic"/>
              </a:rPr>
              <a:t>Why do we need rules/standards for good ontology?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53720" y="1685520"/>
            <a:ext cx="8839080" cy="642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Ontologies must be intelligible both to humans (for annotation) and to machines (for reasoning and error-checking)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Unintuitive rules lead to errors in classification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Simple, intuitive rules facilitate training of curators and annotators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Common rules allow alignment with other ontologies (and thus cross-domain exploitation of data)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Logically coherent rules enhance harvesting of content through automatic reasoning systems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40" y="6775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entury Gothic"/>
              </a:rPr>
              <a:t>Ontologies built according to common logically coherent rules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85800" y="2500200"/>
            <a:ext cx="7772400" cy="367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Will make entry easier and yield a safer growth path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15360" indent="-315360">
              <a:spcBef>
                <a:spcPts val="700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You can start small, annotating your data with initial fragments of a well-founded ontology, confident that the results will still be usable when the ontology grows larger and richer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entury Gothic"/>
              </a:rPr>
              <a:t>OBO Foundry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77400" y="2160360"/>
            <a:ext cx="8991720" cy="49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A subset of OBO ontologies whose developers agree in advance to accept a common set of principles designed to assure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1500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intelligibility to biologist curators, annotators, users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formal robustness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stability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compatibility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interoperability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support for logic-based reasoning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7" name=""/>
          <p:cNvSpPr/>
          <p:nvPr/>
        </p:nvSpPr>
        <p:spPr>
          <a:xfrm>
            <a:off x="1854000" y="518040"/>
            <a:ext cx="5465520" cy="1018440"/>
          </a:xfrm>
          <a:prstGeom prst="bevel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Copperplate Gothic Bold"/>
              </a:rPr>
              <a:t>The OBO Foundr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entury Gothic"/>
              </a:rPr>
              <a:t>The Problem(s) with data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Inaccessibility of widely distributed data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18960" indent="-318960">
              <a:spcBef>
                <a:spcPts val="799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Over abundance of information 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18960" indent="-318960">
              <a:spcBef>
                <a:spcPts val="799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peed and performance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18960" indent="-318960">
              <a:spcBef>
                <a:spcPts val="799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Interpreting the data syntactically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18960" indent="-318960">
              <a:spcBef>
                <a:spcPts val="799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Interpreting the data semantically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/>
          </p:nvPr>
        </p:nvSpPr>
        <p:spPr>
          <a:xfrm>
            <a:off x="534600" y="1968480"/>
            <a:ext cx="8077320" cy="551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66ffcc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The ontology is </a:t>
            </a:r>
            <a:r>
              <a:rPr b="0" lang="en-US" sz="2400" spc="-1" strike="noStrike">
                <a:solidFill>
                  <a:srgbClr val="80ff00"/>
                </a:solidFill>
                <a:latin typeface="Century Gothic"/>
              </a:rPr>
              <a:t>open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 and available to be used by all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533520" indent="-533520">
              <a:spcBef>
                <a:spcPts val="601"/>
              </a:spcBef>
              <a:buClr>
                <a:srgbClr val="66ffcc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The developers of the ontology agree in advance to </a:t>
            </a:r>
            <a:r>
              <a:rPr b="0" lang="en-US" sz="2400" spc="-1" strike="noStrike">
                <a:solidFill>
                  <a:srgbClr val="80ff00"/>
                </a:solidFill>
                <a:latin typeface="Century Gothic"/>
              </a:rPr>
              <a:t>collaborate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 with developers of other OBO Foundry ontology where domains overlap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533520" indent="-533520">
              <a:spcBef>
                <a:spcPts val="601"/>
              </a:spcBef>
              <a:buClr>
                <a:srgbClr val="66ffcc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The ontology is in, or can be instantiated in, a </a:t>
            </a:r>
            <a:r>
              <a:rPr b="0" lang="en-US" sz="2400" spc="-1" strike="noStrike">
                <a:solidFill>
                  <a:srgbClr val="80ff00"/>
                </a:solidFill>
                <a:latin typeface="Century Gothic"/>
              </a:rPr>
              <a:t>common formal language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533520" indent="-533520">
              <a:spcBef>
                <a:spcPts val="601"/>
              </a:spcBef>
              <a:buClr>
                <a:srgbClr val="66ffcc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The ontology possesses a </a:t>
            </a:r>
            <a:r>
              <a:rPr b="0" lang="en-US" sz="2400" spc="-1" strike="noStrike">
                <a:solidFill>
                  <a:srgbClr val="80ff00"/>
                </a:solidFill>
                <a:latin typeface="Century Gothic"/>
              </a:rPr>
              <a:t>unique identifier 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space within OBO.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533520" indent="-533520">
              <a:spcBef>
                <a:spcPts val="601"/>
              </a:spcBef>
              <a:buClr>
                <a:srgbClr val="66ffcc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The ontology provider has procedures for identifying distinct successive </a:t>
            </a:r>
            <a:r>
              <a:rPr b="0" lang="en-US" sz="2400" spc="-1" strike="noStrike">
                <a:solidFill>
                  <a:srgbClr val="80ff00"/>
                </a:solidFill>
                <a:latin typeface="Century Gothic"/>
              </a:rPr>
              <a:t>versions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.  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9" name=""/>
          <p:cNvSpPr/>
          <p:nvPr/>
        </p:nvSpPr>
        <p:spPr>
          <a:xfrm>
            <a:off x="1873080" y="473400"/>
            <a:ext cx="5465520" cy="1018440"/>
          </a:xfrm>
          <a:prstGeom prst="bevel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Copperplate Gothic Bold"/>
              </a:rPr>
              <a:t>The OBO Foundr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/>
          </p:nvPr>
        </p:nvSpPr>
        <p:spPr>
          <a:xfrm>
            <a:off x="687240" y="1968480"/>
            <a:ext cx="77724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66ffcc"/>
              </a:buClr>
              <a:buFont typeface="Century Gothic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The ontology has a clearly specified and </a:t>
            </a:r>
            <a:r>
              <a:rPr b="0" lang="en-US" sz="2400" spc="-1" strike="noStrike">
                <a:solidFill>
                  <a:srgbClr val="80ff00"/>
                </a:solidFill>
                <a:latin typeface="Century Gothic"/>
              </a:rPr>
              <a:t>clearly delineated content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533520" indent="-533520">
              <a:spcBef>
                <a:spcPts val="601"/>
              </a:spcBef>
              <a:buClr>
                <a:srgbClr val="66ffcc"/>
              </a:buClr>
              <a:buFont typeface="Century Gothic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The ontology includes </a:t>
            </a:r>
            <a:r>
              <a:rPr b="0" lang="en-US" sz="2400" spc="-1" strike="noStrike">
                <a:solidFill>
                  <a:srgbClr val="80ff00"/>
                </a:solidFill>
                <a:latin typeface="Century Gothic"/>
              </a:rPr>
              <a:t>textual definitions 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for all terms.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533520" indent="-533520">
              <a:spcBef>
                <a:spcPts val="601"/>
              </a:spcBef>
              <a:buClr>
                <a:srgbClr val="66ffcc"/>
              </a:buClr>
              <a:buFont typeface="Century Gothic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The ontology is </a:t>
            </a:r>
            <a:r>
              <a:rPr b="0" lang="en-US" sz="2400" spc="-1" strike="noStrike">
                <a:solidFill>
                  <a:srgbClr val="80ff00"/>
                </a:solidFill>
                <a:latin typeface="Century Gothic"/>
              </a:rPr>
              <a:t>well-documented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533520" indent="-533520">
              <a:spcBef>
                <a:spcPts val="601"/>
              </a:spcBef>
              <a:buClr>
                <a:srgbClr val="66ffcc"/>
              </a:buClr>
              <a:buFont typeface="Century Gothic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The ontology has a plurality of independent </a:t>
            </a:r>
            <a:r>
              <a:rPr b="0" lang="en-US" sz="2400" spc="-1" strike="noStrike">
                <a:solidFill>
                  <a:srgbClr val="80ff00"/>
                </a:solidFill>
                <a:latin typeface="Century Gothic"/>
              </a:rPr>
              <a:t>users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533520" indent="-533520">
              <a:spcBef>
                <a:spcPts val="601"/>
              </a:spcBef>
              <a:buClr>
                <a:srgbClr val="66ffcc"/>
              </a:buClr>
              <a:buFont typeface="Century Gothic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The ontology uses relations which are unambiguously defined following the pattern of definitions laid down in the </a:t>
            </a:r>
            <a:r>
              <a:rPr b="0" lang="en-US" sz="2400" spc="-1" strike="noStrike">
                <a:solidFill>
                  <a:srgbClr val="80ff00"/>
                </a:solidFill>
                <a:latin typeface="Century Gothic"/>
              </a:rPr>
              <a:t>OBO Relation Ontology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1" name=""/>
          <p:cNvSpPr/>
          <p:nvPr/>
        </p:nvSpPr>
        <p:spPr>
          <a:xfrm>
            <a:off x="1873080" y="473400"/>
            <a:ext cx="5465520" cy="1018440"/>
          </a:xfrm>
          <a:prstGeom prst="bevel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Copperplate Gothic Bold"/>
              </a:rPr>
              <a:t>The OBO Foundr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entury Gothic"/>
              </a:rPr>
              <a:t>Orthogonality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Ontology groups who choose to be part of the OBO Foundry thereby </a:t>
            </a:r>
            <a:r>
              <a:rPr b="0" lang="en-US" sz="3200" spc="-1" strike="noStrike">
                <a:solidFill>
                  <a:srgbClr val="80ff00"/>
                </a:solidFill>
                <a:latin typeface="Century Gothic"/>
              </a:rPr>
              <a:t>commit themselves to collaborating</a:t>
            </a: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 to resolve disagreements which arise where their respective domains overlap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4" name=""/>
          <p:cNvSpPr/>
          <p:nvPr/>
        </p:nvSpPr>
        <p:spPr>
          <a:xfrm>
            <a:off x="2181600" y="518040"/>
            <a:ext cx="4794840" cy="1018440"/>
          </a:xfrm>
          <a:prstGeom prst="bevel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Copperplate Gothic Bold"/>
              </a:rPr>
              <a:t>Orthogonalit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The success of ontology alignment demands that ontological relations (</a:t>
            </a:r>
            <a:r>
              <a:rPr b="0" i="1" lang="en-US" sz="2800" spc="-1" strike="noStrike">
                <a:solidFill>
                  <a:srgbClr val="ffffff"/>
                </a:solidFill>
                <a:latin typeface="Century Gothic"/>
              </a:rPr>
              <a:t>is_a, part_of, ...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) have the same meanings in the different ontologies to be aligned.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See “</a:t>
            </a:r>
            <a:r>
              <a:rPr b="0" lang="en-US" sz="2800" spc="-1" strike="noStrike">
                <a:solidFill>
                  <a:srgbClr val="80ff00"/>
                </a:solidFill>
                <a:latin typeface="Century Gothic"/>
              </a:rPr>
              <a:t>Relations in Biomedical Ontologies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”, Genome Biology May 2005, Barry Smith , Werner Ceusters, Bert Klagges, Jacob Köhler, Anand Kumar, Jane Lomax, Chris Mungall, Fabian Neuhaus, Alan L Rector,  and Cornelius Rosse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6" name=""/>
          <p:cNvSpPr/>
          <p:nvPr/>
        </p:nvSpPr>
        <p:spPr>
          <a:xfrm>
            <a:off x="838080" y="518040"/>
            <a:ext cx="7470720" cy="1018440"/>
          </a:xfrm>
          <a:prstGeom prst="bevel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Copperplate Gothic Bold"/>
              </a:rPr>
              <a:t>agreed on rela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9304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Century Gothic"/>
              </a:rPr>
              <a:t>Three fundamental dichotomies</a:t>
            </a:r>
            <a:endParaRPr b="0" lang="en-US" sz="40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572760" y="1898280"/>
            <a:ext cx="800244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085760" indent="0" algn="ctr"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Gothic"/>
              </a:rPr>
              <a:t>continuants vs. occurrents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lvl="2" marL="1085760" indent="0" algn="ctr"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Gothic"/>
              </a:rPr>
              <a:t>dependent vs. independent 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lvl="2" marL="1085760" indent="0" algn="ctr"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Gothic"/>
              </a:rPr>
              <a:t>types vs. instances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9" name=""/>
          <p:cNvSpPr/>
          <p:nvPr/>
        </p:nvSpPr>
        <p:spPr>
          <a:xfrm>
            <a:off x="496800" y="3930480"/>
            <a:ext cx="81536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entury Gothic"/>
              </a:rPr>
              <a:t>ONTOLOGIES ARE REPRESENTATIVES OF TYP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entury Gothic"/>
              </a:rPr>
              <a:t>IN REALIT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entury Gothic"/>
              </a:rPr>
              <a:t>For example in the GO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ff00"/>
                </a:solidFill>
                <a:latin typeface="Century Gothic"/>
              </a:rPr>
              <a:t>Molecules, cell components , organisms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 are independent continuants which have functions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ff00"/>
                </a:solidFill>
                <a:latin typeface="Century Gothic"/>
              </a:rPr>
              <a:t>Functions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 are dependent continuants which become realized through special sorts of processes we call functionings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ff00"/>
                </a:solidFill>
                <a:latin typeface="Century Gothic"/>
              </a:rPr>
              <a:t>Processes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 are occurrents include: functionings, side-effects, stochastic processes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3460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c66"/>
                </a:solidFill>
                <a:latin typeface="Century Gothic"/>
              </a:rPr>
              <a:t>Continuants (aka endurants)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7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entury Gothic"/>
              </a:rPr>
              <a:t>have continuous existence in time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entury Gothic"/>
              </a:rPr>
              <a:t>preserve their identity through change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entury Gothic"/>
              </a:rPr>
              <a:t>exist in toto whenever they exist at al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cc66"/>
                </a:solidFill>
                <a:latin typeface="Century Gothic"/>
              </a:rPr>
              <a:t>Occurrents (aka processes)</a:t>
            </a:r>
            <a:endParaRPr b="0" lang="en-US" sz="40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entury Gothic"/>
              </a:rPr>
              <a:t>have temporal parts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entury Gothic"/>
              </a:rPr>
              <a:t>unfold themselves in successive phases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exist only in their phases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entury Gothic"/>
              </a:rPr>
              <a:t>Continuants vs. Occurrents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Anatomy vs. Physiology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napshot vs. Video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tocks vs. Flows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ommodities vs. Services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Products vs. Processes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entury Gothic"/>
              </a:rPr>
              <a:t>Dependent entities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5800" y="2747880"/>
            <a:ext cx="7772400" cy="33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require independent continuants as their bearers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There is no grin without a c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entury Gothic"/>
              </a:rPr>
              <a:t>We started the GO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To develop a shared language adequate for the annotation of molecular characteristics across organisms.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To agree on a mutual understanding of the definition and meaning of any word used. and thus to support cross-database queries.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To provide database access via these common terms to gene product annotations and associated sequences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entury Gothic"/>
              </a:rPr>
              <a:t>Dependent vs. independent continuants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Independent continuants (organisms, cells, molecules, environments)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32640" indent="-332640">
              <a:spcBef>
                <a:spcPts val="799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Dependent continuants (qualities, shapes, roles, propensities, functions)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1" marL="720720" indent="-277200">
              <a:spcBef>
                <a:spcPts val="700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E.g. the </a:t>
            </a:r>
            <a:r>
              <a:rPr b="0" lang="en-US" sz="2800" spc="-1" strike="noStrike">
                <a:solidFill>
                  <a:srgbClr val="80ff00"/>
                </a:solidFill>
                <a:latin typeface="Century Gothic"/>
              </a:rPr>
              <a:t>acidity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 of this gut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Century Gothic"/>
              </a:rPr>
              <a:t>All occurrents are dependent entities</a:t>
            </a:r>
            <a:endParaRPr b="0" lang="en-US" sz="40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85800" y="2469960"/>
            <a:ext cx="7772400" cy="36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They are dependent on those independent continuants which are their participants (agents, patients, media ...)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entury Gothic"/>
              </a:rPr>
              <a:t>GO’s three ontologies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6" name=""/>
          <p:cNvSpPr/>
          <p:nvPr/>
        </p:nvSpPr>
        <p:spPr>
          <a:xfrm>
            <a:off x="412920" y="1447920"/>
            <a:ext cx="2145960" cy="233352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640" rIns="80640" tIns="40320" bIns="40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olecular fun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3271680" y="3962520"/>
            <a:ext cx="2602080" cy="2332080"/>
          </a:xfrm>
          <a:prstGeom prst="ellipse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640" rIns="80640" tIns="40320" bIns="40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ellular compon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6361200" y="1371600"/>
            <a:ext cx="2369880" cy="2486160"/>
          </a:xfrm>
          <a:prstGeom prst="ellipse">
            <a:avLst/>
          </a:prstGeom>
          <a:solidFill>
            <a:srgbClr val="8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640" rIns="80640" tIns="40320" bIns="40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iological proc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9" name=""/>
          <p:cNvGrpSpPr/>
          <p:nvPr/>
        </p:nvGrpSpPr>
        <p:grpSpPr>
          <a:xfrm>
            <a:off x="1066680" y="2386080"/>
            <a:ext cx="7848720" cy="2974320"/>
            <a:chOff x="1066680" y="2386080"/>
            <a:chExt cx="7848720" cy="2974320"/>
          </a:xfrm>
        </p:grpSpPr>
        <p:sp>
          <p:nvSpPr>
            <p:cNvPr id="340" name=""/>
            <p:cNvSpPr/>
            <p:nvPr/>
          </p:nvSpPr>
          <p:spPr>
            <a:xfrm>
              <a:off x="3087720" y="2386080"/>
              <a:ext cx="297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  <a:ea typeface="Arial"/>
                </a:rPr>
                <a:t>dependen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5943600" y="4900680"/>
              <a:ext cx="297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  <a:ea typeface="Arial"/>
                </a:rPr>
                <a:t>independen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 flipV="1">
              <a:off x="1066680" y="3428640"/>
              <a:ext cx="3505320" cy="1523880"/>
            </a:xfrm>
            <a:prstGeom prst="line">
              <a:avLst/>
            </a:prstGeom>
            <a:ln w="572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 flipH="1" flipV="1">
              <a:off x="4571640" y="3428640"/>
              <a:ext cx="3429000" cy="1219320"/>
            </a:xfrm>
            <a:prstGeom prst="line">
              <a:avLst/>
            </a:prstGeom>
            <a:ln w="572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44" name=""/>
          <p:cNvGrpSpPr/>
          <p:nvPr/>
        </p:nvGrpSpPr>
        <p:grpSpPr>
          <a:xfrm>
            <a:off x="1219320" y="1295280"/>
            <a:ext cx="6933960" cy="4190760"/>
            <a:chOff x="1219320" y="1295280"/>
            <a:chExt cx="6933960" cy="4190760"/>
          </a:xfrm>
        </p:grpSpPr>
        <p:sp>
          <p:nvSpPr>
            <p:cNvPr id="345" name=""/>
            <p:cNvSpPr/>
            <p:nvPr/>
          </p:nvSpPr>
          <p:spPr>
            <a:xfrm>
              <a:off x="1219320" y="4267080"/>
              <a:ext cx="1752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continuan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5029200" y="144792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occuren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572000" y="1295280"/>
              <a:ext cx="0" cy="2133720"/>
            </a:xfrm>
            <a:prstGeom prst="line">
              <a:avLst/>
            </a:prstGeom>
            <a:ln w="5724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 flipH="1" flipV="1">
              <a:off x="4572000" y="3428640"/>
              <a:ext cx="3581280" cy="2057400"/>
            </a:xfrm>
            <a:prstGeom prst="line">
              <a:avLst/>
            </a:prstGeom>
            <a:ln w="5724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9" name=""/>
          <p:cNvGrpSpPr/>
          <p:nvPr/>
        </p:nvGrpSpPr>
        <p:grpSpPr>
          <a:xfrm>
            <a:off x="812880" y="2523960"/>
            <a:ext cx="7416720" cy="1810080"/>
            <a:chOff x="812880" y="2523960"/>
            <a:chExt cx="7416720" cy="1810080"/>
          </a:xfrm>
        </p:grpSpPr>
        <p:sp>
          <p:nvSpPr>
            <p:cNvPr id="350" name=""/>
            <p:cNvSpPr/>
            <p:nvPr/>
          </p:nvSpPr>
          <p:spPr>
            <a:xfrm>
              <a:off x="812880" y="2523960"/>
              <a:ext cx="1820880" cy="1808280"/>
            </a:xfrm>
            <a:prstGeom prst="ellipse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molecular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functio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656160" y="2523960"/>
              <a:ext cx="1834920" cy="1808280"/>
            </a:xfrm>
            <a:prstGeom prst="ellipse">
              <a:avLst/>
            </a:prstGeom>
            <a:solidFill>
              <a:srgbClr val="ffff00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ellul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functio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6442200" y="2523960"/>
              <a:ext cx="1787400" cy="1810080"/>
            </a:xfrm>
            <a:prstGeom prst="ellipse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organism-level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biological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function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53" name=""/>
          <p:cNvGrpSpPr/>
          <p:nvPr/>
        </p:nvGrpSpPr>
        <p:grpSpPr>
          <a:xfrm>
            <a:off x="808200" y="4692600"/>
            <a:ext cx="7414920" cy="1808280"/>
            <a:chOff x="808200" y="4692600"/>
            <a:chExt cx="7414920" cy="1808280"/>
          </a:xfrm>
        </p:grpSpPr>
        <p:sp>
          <p:nvSpPr>
            <p:cNvPr id="354" name=""/>
            <p:cNvSpPr/>
            <p:nvPr/>
          </p:nvSpPr>
          <p:spPr>
            <a:xfrm>
              <a:off x="808200" y="4692600"/>
              <a:ext cx="1828800" cy="1808280"/>
            </a:xfrm>
            <a:prstGeom prst="ellipse">
              <a:avLst/>
            </a:prstGeom>
            <a:solidFill>
              <a:srgbClr val="66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molecul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583080" y="4692600"/>
              <a:ext cx="1981080" cy="1808280"/>
            </a:xfrm>
            <a:prstGeom prst="ellipse">
              <a:avLst/>
            </a:prstGeom>
            <a:solidFill>
              <a:srgbClr val="66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ellular componen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448320" y="4692600"/>
              <a:ext cx="1774800" cy="1808280"/>
            </a:xfrm>
            <a:prstGeom prst="ellipse">
              <a:avLst/>
            </a:prstGeom>
            <a:solidFill>
              <a:srgbClr val="66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organis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57" name=""/>
          <p:cNvGrpSpPr/>
          <p:nvPr/>
        </p:nvGrpSpPr>
        <p:grpSpPr>
          <a:xfrm>
            <a:off x="816120" y="357120"/>
            <a:ext cx="7402320" cy="1809720"/>
            <a:chOff x="816120" y="357120"/>
            <a:chExt cx="7402320" cy="1809720"/>
          </a:xfrm>
        </p:grpSpPr>
        <p:sp>
          <p:nvSpPr>
            <p:cNvPr id="358" name=""/>
            <p:cNvSpPr/>
            <p:nvPr/>
          </p:nvSpPr>
          <p:spPr>
            <a:xfrm>
              <a:off x="816120" y="357120"/>
              <a:ext cx="1814400" cy="1808280"/>
            </a:xfrm>
            <a:prstGeom prst="ellipse">
              <a:avLst/>
            </a:prstGeom>
            <a:solidFill>
              <a:srgbClr val="80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molecular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c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625920" y="357120"/>
              <a:ext cx="1893960" cy="1808280"/>
            </a:xfrm>
            <a:prstGeom prst="ellipse">
              <a:avLst/>
            </a:prstGeom>
            <a:solidFill>
              <a:srgbClr val="80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ellul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c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450120" y="357120"/>
              <a:ext cx="1768320" cy="1809720"/>
            </a:xfrm>
            <a:prstGeom prst="ellipse">
              <a:avLst/>
            </a:prstGeom>
            <a:solidFill>
              <a:srgbClr val="80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organism-level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biological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ces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1" name=""/>
          <p:cNvGrpSpPr/>
          <p:nvPr/>
        </p:nvGrpSpPr>
        <p:grpSpPr>
          <a:xfrm>
            <a:off x="973080" y="1752480"/>
            <a:ext cx="7216920" cy="398880"/>
            <a:chOff x="973080" y="1752480"/>
            <a:chExt cx="7216920" cy="398880"/>
          </a:xfrm>
        </p:grpSpPr>
        <p:sp>
          <p:nvSpPr>
            <p:cNvPr id="362" name=""/>
            <p:cNvSpPr/>
            <p:nvPr/>
          </p:nvSpPr>
          <p:spPr>
            <a:xfrm>
              <a:off x="6478560" y="1752480"/>
              <a:ext cx="1711440" cy="398880"/>
            </a:xfrm>
            <a:prstGeom prst="rect">
              <a:avLst/>
            </a:prstGeom>
            <a:solidFill>
              <a:srgbClr val="686b5d">
                <a:alpha val="8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 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functioning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63" name=""/>
            <p:cNvGrpSpPr/>
            <p:nvPr/>
          </p:nvGrpSpPr>
          <p:grpSpPr>
            <a:xfrm>
              <a:off x="973080" y="1752480"/>
              <a:ext cx="4512600" cy="398880"/>
              <a:chOff x="973080" y="1752480"/>
              <a:chExt cx="4512600" cy="398880"/>
            </a:xfrm>
          </p:grpSpPr>
          <p:sp>
            <p:nvSpPr>
              <p:cNvPr id="364" name=""/>
              <p:cNvSpPr/>
              <p:nvPr/>
            </p:nvSpPr>
            <p:spPr>
              <a:xfrm>
                <a:off x="973080" y="1752480"/>
                <a:ext cx="1711440" cy="398880"/>
              </a:xfrm>
              <a:prstGeom prst="rect">
                <a:avLst/>
              </a:prstGeom>
              <a:solidFill>
                <a:srgbClr val="686b5d">
                  <a:alpha val="8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 </a:t>
                </a: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functioning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3774240" y="1752480"/>
                <a:ext cx="1711440" cy="398880"/>
              </a:xfrm>
              <a:prstGeom prst="rect">
                <a:avLst/>
              </a:prstGeom>
              <a:solidFill>
                <a:srgbClr val="686b5d">
                  <a:alpha val="8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 </a:t>
                </a: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functioning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366" name=""/>
          <p:cNvGrpSpPr/>
          <p:nvPr/>
        </p:nvGrpSpPr>
        <p:grpSpPr>
          <a:xfrm>
            <a:off x="1722600" y="1980720"/>
            <a:ext cx="5611680" cy="838440"/>
            <a:chOff x="1722600" y="1980720"/>
            <a:chExt cx="5611680" cy="838440"/>
          </a:xfrm>
        </p:grpSpPr>
        <p:sp>
          <p:nvSpPr>
            <p:cNvPr id="367" name=""/>
            <p:cNvSpPr/>
            <p:nvPr/>
          </p:nvSpPr>
          <p:spPr>
            <a:xfrm flipV="1">
              <a:off x="1722600" y="1980720"/>
              <a:ext cx="0" cy="8384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 flipV="1">
              <a:off x="7334280" y="1980720"/>
              <a:ext cx="0" cy="7621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4573440" y="1980720"/>
              <a:ext cx="0" cy="8384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0" name=""/>
          <p:cNvSpPr/>
          <p:nvPr/>
        </p:nvSpPr>
        <p:spPr>
          <a:xfrm>
            <a:off x="7846920" y="2025720"/>
            <a:ext cx="121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entury Gothic"/>
              </a:rPr>
              <a:t>Pumping bloo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850160" y="3962520"/>
            <a:ext cx="120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entury Gothic"/>
              </a:rPr>
              <a:t>To pump bloo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7939080" y="624852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entury Gothic"/>
              </a:rPr>
              <a:t>hear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entury Gothic"/>
              </a:rPr>
              <a:t>UBO 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Century Gothic"/>
              </a:rPr>
              <a:t>Upper Biomedical Ontology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374" name=""/>
          <p:cNvSpPr/>
          <p:nvPr/>
        </p:nvSpPr>
        <p:spPr>
          <a:xfrm>
            <a:off x="1298520" y="1523880"/>
            <a:ext cx="2557440" cy="1068480"/>
          </a:xfrm>
          <a:prstGeom prst="rect">
            <a:avLst/>
          </a:prstGeom>
          <a:solidFill>
            <a:srgbClr val="90908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ntinuant: 3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419800" y="1528920"/>
            <a:ext cx="2509920" cy="1063440"/>
          </a:xfrm>
          <a:prstGeom prst="rect">
            <a:avLst/>
          </a:prstGeom>
          <a:solidFill>
            <a:srgbClr val="90908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ccurrent: 4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04920" y="3033720"/>
            <a:ext cx="1989000" cy="817560"/>
          </a:xfrm>
          <a:prstGeom prst="rect">
            <a:avLst/>
          </a:prstGeom>
          <a:solidFill>
            <a:srgbClr val="90908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depend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ntinu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687760" y="3033720"/>
            <a:ext cx="1633320" cy="817560"/>
          </a:xfrm>
          <a:prstGeom prst="rect">
            <a:avLst/>
          </a:prstGeom>
          <a:solidFill>
            <a:srgbClr val="90908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epend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ntinu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801720" y="4352760"/>
            <a:ext cx="1563480" cy="817560"/>
          </a:xfrm>
          <a:prstGeom prst="rect">
            <a:avLst/>
          </a:prstGeom>
          <a:solidFill>
            <a:srgbClr val="90908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Qua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2575080" y="4363920"/>
            <a:ext cx="1565280" cy="817560"/>
          </a:xfrm>
          <a:prstGeom prst="rect">
            <a:avLst/>
          </a:prstGeom>
          <a:solidFill>
            <a:srgbClr val="90908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un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4324320" y="4356000"/>
            <a:ext cx="1492200" cy="817560"/>
          </a:xfrm>
          <a:prstGeom prst="rect">
            <a:avLst/>
          </a:prstGeom>
          <a:solidFill>
            <a:srgbClr val="90908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patial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g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4700520" y="3033720"/>
            <a:ext cx="1989360" cy="817560"/>
          </a:xfrm>
          <a:prstGeom prst="rect">
            <a:avLst/>
          </a:prstGeom>
          <a:solidFill>
            <a:srgbClr val="90908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unctio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910560" y="3033720"/>
            <a:ext cx="1776240" cy="1257120"/>
          </a:xfrm>
          <a:prstGeom prst="rect">
            <a:avLst/>
          </a:prstGeom>
          <a:solidFill>
            <a:srgbClr val="90908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ide-Effect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tochastic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ocess, 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83" name=""/>
          <p:cNvCxnSpPr>
            <a:stCxn id="374" idx="2"/>
            <a:endCxn id="376" idx="0"/>
          </p:cNvCxnSpPr>
          <p:nvPr/>
        </p:nvCxnSpPr>
        <p:spPr>
          <a:xfrm flipH="1">
            <a:off x="1298160" y="2592360"/>
            <a:ext cx="1280160" cy="4420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384" name=""/>
          <p:cNvCxnSpPr>
            <a:stCxn id="374" idx="2"/>
            <a:endCxn id="377" idx="0"/>
          </p:cNvCxnSpPr>
          <p:nvPr/>
        </p:nvCxnSpPr>
        <p:spPr>
          <a:xfrm>
            <a:off x="2577600" y="2592360"/>
            <a:ext cx="926280" cy="4420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385" name=""/>
          <p:cNvCxnSpPr>
            <a:stCxn id="375" idx="2"/>
            <a:endCxn id="381" idx="0"/>
          </p:cNvCxnSpPr>
          <p:nvPr/>
        </p:nvCxnSpPr>
        <p:spPr>
          <a:xfrm flipH="1">
            <a:off x="5694120" y="2592360"/>
            <a:ext cx="979920" cy="4420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386" name=""/>
          <p:cNvCxnSpPr>
            <a:stCxn id="375" idx="2"/>
            <a:endCxn id="382" idx="0"/>
          </p:cNvCxnSpPr>
          <p:nvPr/>
        </p:nvCxnSpPr>
        <p:spPr>
          <a:xfrm>
            <a:off x="6673320" y="2592360"/>
            <a:ext cx="1126440" cy="4420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387" name=""/>
          <p:cNvCxnSpPr>
            <a:stCxn id="377" idx="2"/>
            <a:endCxn id="378" idx="0"/>
          </p:cNvCxnSpPr>
          <p:nvPr/>
        </p:nvCxnSpPr>
        <p:spPr>
          <a:xfrm flipH="1">
            <a:off x="1582200" y="3850920"/>
            <a:ext cx="1921680" cy="50184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388" name=""/>
          <p:cNvCxnSpPr>
            <a:stCxn id="377" idx="2"/>
            <a:endCxn id="379" idx="0"/>
          </p:cNvCxnSpPr>
          <p:nvPr/>
        </p:nvCxnSpPr>
        <p:spPr>
          <a:xfrm flipH="1">
            <a:off x="3357000" y="3851280"/>
            <a:ext cx="146520" cy="51336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389" name=""/>
          <p:cNvCxnSpPr>
            <a:stCxn id="377" idx="2"/>
            <a:endCxn id="380" idx="0"/>
          </p:cNvCxnSpPr>
          <p:nvPr/>
        </p:nvCxnSpPr>
        <p:spPr>
          <a:xfrm>
            <a:off x="3503160" y="3851280"/>
            <a:ext cx="1567800" cy="50544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390" name=""/>
          <p:cNvSpPr/>
          <p:nvPr/>
        </p:nvSpPr>
        <p:spPr>
          <a:xfrm>
            <a:off x="0" y="5486400"/>
            <a:ext cx="9448920" cy="0"/>
          </a:xfrm>
          <a:prstGeom prst="line">
            <a:avLst/>
          </a:prstGeom>
          <a:ln w="57240">
            <a:solidFill>
              <a:srgbClr val="ff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457200" y="5791320"/>
            <a:ext cx="8137440" cy="215280"/>
            <a:chOff x="457200" y="5791320"/>
            <a:chExt cx="8137440" cy="215280"/>
          </a:xfrm>
        </p:grpSpPr>
        <p:sp>
          <p:nvSpPr>
            <p:cNvPr id="392" name=""/>
            <p:cNvSpPr/>
            <p:nvPr/>
          </p:nvSpPr>
          <p:spPr>
            <a:xfrm>
              <a:off x="457200" y="5791320"/>
              <a:ext cx="152280" cy="151920"/>
            </a:xfrm>
            <a:prstGeom prst="plus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657360" y="5791320"/>
              <a:ext cx="152280" cy="151920"/>
            </a:xfrm>
            <a:prstGeom prst="plus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882720" y="5794200"/>
              <a:ext cx="152280" cy="151920"/>
            </a:xfrm>
            <a:prstGeom prst="plus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095480" y="5797440"/>
              <a:ext cx="152280" cy="151920"/>
            </a:xfrm>
            <a:prstGeom prst="plus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324080" y="5794200"/>
              <a:ext cx="152280" cy="151920"/>
            </a:xfrm>
            <a:prstGeom prst="plus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539720" y="5800320"/>
              <a:ext cx="152640" cy="152280"/>
            </a:xfrm>
            <a:prstGeom prst="plus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739880" y="5800320"/>
              <a:ext cx="152280" cy="152280"/>
            </a:xfrm>
            <a:prstGeom prst="plus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965240" y="5803560"/>
              <a:ext cx="152640" cy="152280"/>
            </a:xfrm>
            <a:prstGeom prst="plus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2178000" y="5806800"/>
              <a:ext cx="152280" cy="151920"/>
            </a:xfrm>
            <a:prstGeom prst="plus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2454120" y="5816520"/>
              <a:ext cx="152640" cy="151920"/>
            </a:xfrm>
            <a:prstGeom prst="plus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654280" y="5816520"/>
              <a:ext cx="152280" cy="151920"/>
            </a:xfrm>
            <a:prstGeom prst="plus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79640" y="5819400"/>
              <a:ext cx="152640" cy="152280"/>
            </a:xfrm>
            <a:prstGeom prst="plus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092400" y="5822640"/>
              <a:ext cx="152280" cy="152280"/>
            </a:xfrm>
            <a:prstGeom prst="plus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3321000" y="5819400"/>
              <a:ext cx="152280" cy="152280"/>
            </a:xfrm>
            <a:prstGeom prst="plus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565440" y="5810040"/>
              <a:ext cx="152640" cy="151920"/>
            </a:xfrm>
            <a:prstGeom prst="plus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765600" y="5810040"/>
              <a:ext cx="152280" cy="151920"/>
            </a:xfrm>
            <a:prstGeom prst="plus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3990960" y="5813280"/>
              <a:ext cx="152280" cy="151920"/>
            </a:xfrm>
            <a:prstGeom prst="plus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4203720" y="5816520"/>
              <a:ext cx="152280" cy="151920"/>
            </a:xfrm>
            <a:prstGeom prst="plus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4432320" y="5813280"/>
              <a:ext cx="152280" cy="151920"/>
            </a:xfrm>
            <a:prstGeom prst="plus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4648320" y="5819400"/>
              <a:ext cx="152280" cy="152280"/>
            </a:xfrm>
            <a:prstGeom prst="plus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848120" y="5819400"/>
              <a:ext cx="152640" cy="152280"/>
            </a:xfrm>
            <a:prstGeom prst="plus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5073480" y="5822640"/>
              <a:ext cx="152640" cy="152280"/>
            </a:xfrm>
            <a:prstGeom prst="plus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286240" y="5825880"/>
              <a:ext cx="152640" cy="151920"/>
            </a:xfrm>
            <a:prstGeom prst="plus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562720" y="5835240"/>
              <a:ext cx="152280" cy="152280"/>
            </a:xfrm>
            <a:prstGeom prst="plus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762520" y="5835240"/>
              <a:ext cx="152640" cy="152280"/>
            </a:xfrm>
            <a:prstGeom prst="plus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5987880" y="5838480"/>
              <a:ext cx="152640" cy="152280"/>
            </a:xfrm>
            <a:prstGeom prst="plus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6200640" y="5841720"/>
              <a:ext cx="152640" cy="151920"/>
            </a:xfrm>
            <a:prstGeom prst="plus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6429240" y="5838480"/>
              <a:ext cx="152640" cy="152280"/>
            </a:xfrm>
            <a:prstGeom prst="plus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6721560" y="5838480"/>
              <a:ext cx="152280" cy="152280"/>
            </a:xfrm>
            <a:prstGeom prst="plus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6921360" y="5838480"/>
              <a:ext cx="152640" cy="152280"/>
            </a:xfrm>
            <a:prstGeom prst="plus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7147080" y="5841720"/>
              <a:ext cx="152280" cy="151920"/>
            </a:xfrm>
            <a:prstGeom prst="plus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7359480" y="5844960"/>
              <a:ext cx="152640" cy="151920"/>
            </a:xfrm>
            <a:prstGeom prst="plus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7588080" y="5841720"/>
              <a:ext cx="152640" cy="151920"/>
            </a:xfrm>
            <a:prstGeom prst="plus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7804080" y="5848200"/>
              <a:ext cx="152640" cy="151920"/>
            </a:xfrm>
            <a:prstGeom prst="plus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8004240" y="5848200"/>
              <a:ext cx="152280" cy="151920"/>
            </a:xfrm>
            <a:prstGeom prst="plus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8229600" y="5851440"/>
              <a:ext cx="152280" cy="151920"/>
            </a:xfrm>
            <a:prstGeom prst="plus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8442360" y="5854320"/>
              <a:ext cx="152280" cy="152280"/>
            </a:xfrm>
            <a:prstGeom prst="plus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29" name=""/>
          <p:cNvSpPr/>
          <p:nvPr/>
        </p:nvSpPr>
        <p:spPr>
          <a:xfrm>
            <a:off x="1143000" y="5943600"/>
            <a:ext cx="63244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instances (in space and time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" dur="2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" descr=""/>
          <p:cNvPicPr/>
          <p:nvPr/>
        </p:nvPicPr>
        <p:blipFill>
          <a:blip r:embed="rId1"/>
          <a:stretch/>
        </p:blipFill>
        <p:spPr>
          <a:xfrm>
            <a:off x="915840" y="1652760"/>
            <a:ext cx="7313760" cy="82440"/>
          </a:xfrm>
          <a:prstGeom prst="rect">
            <a:avLst/>
          </a:prstGeom>
          <a:ln w="0">
            <a:noFill/>
          </a:ln>
        </p:spPr>
      </p:pic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entury Gothic"/>
              </a:rPr>
              <a:t>How to create an ontology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Part 2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The technical aspects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96440" y="6091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entury Gothic"/>
              </a:rPr>
              <a:t>Separate the Database from the Ontology 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or extensibility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or generality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or reasonability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or interoperability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entury Gothic"/>
              </a:rPr>
              <a:t>Why ontologies are worth it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Minimize database maintenance costs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Communication between researchers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As well as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Better query facilities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Ability to draw inferences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Detect correlations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Facilitate computational interpretation of text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And more…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Century Gothic"/>
              </a:rPr>
              <a:t>Before: domain knowledge is embedded in the db </a:t>
            </a:r>
            <a:r>
              <a:rPr b="0" lang="en-US" sz="4000" spc="-1" strike="noStrike">
                <a:solidFill>
                  <a:srgbClr val="ffff00"/>
                </a:solidFill>
                <a:latin typeface="Century Gothic"/>
              </a:rPr>
              <a:t>schema</a:t>
            </a:r>
            <a:endParaRPr b="0" lang="en-US" sz="4000" spc="-1" strike="noStrike">
              <a:solidFill>
                <a:srgbClr val="ffcc66"/>
              </a:solidFill>
              <a:latin typeface="Century Gothic"/>
            </a:endParaRPr>
          </a:p>
        </p:txBody>
      </p:sp>
      <p:pic>
        <p:nvPicPr>
          <p:cNvPr id="438" name="" descr=""/>
          <p:cNvPicPr/>
          <p:nvPr/>
        </p:nvPicPr>
        <p:blipFill>
          <a:blip r:embed="rId1"/>
          <a:stretch/>
        </p:blipFill>
        <p:spPr>
          <a:xfrm>
            <a:off x="2352600" y="1981080"/>
            <a:ext cx="4438800" cy="4114800"/>
          </a:xfrm>
          <a:prstGeom prst="rect">
            <a:avLst/>
          </a:prstGeom>
          <a:ln w="0">
            <a:noFill/>
          </a:ln>
        </p:spPr>
      </p:pic>
      <p:sp>
        <p:nvSpPr>
          <p:cNvPr id="439" name=""/>
          <p:cNvSpPr/>
          <p:nvPr/>
        </p:nvSpPr>
        <p:spPr>
          <a:xfrm>
            <a:off x="4309560" y="2133720"/>
            <a:ext cx="942840" cy="703800"/>
          </a:xfrm>
          <a:prstGeom prst="rect">
            <a:avLst/>
          </a:prstGeom>
          <a:solidFill>
            <a:srgbClr val="9090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entury Gothic"/>
              </a:rPr>
              <a:t>Ge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entury Gothic"/>
              </a:rPr>
              <a:t>tab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4345200" y="3859200"/>
            <a:ext cx="942840" cy="703800"/>
          </a:xfrm>
          <a:prstGeom prst="rect">
            <a:avLst/>
          </a:prstGeom>
          <a:solidFill>
            <a:srgbClr val="9090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entury Gothic"/>
              </a:rPr>
              <a:t>RN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entury Gothic"/>
              </a:rPr>
              <a:t>tab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5259600" y="2868480"/>
            <a:ext cx="942840" cy="703800"/>
          </a:xfrm>
          <a:prstGeom prst="rect">
            <a:avLst/>
          </a:prstGeom>
          <a:solidFill>
            <a:srgbClr val="9090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entury Gothic"/>
              </a:rPr>
              <a:t>Ex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entury Gothic"/>
              </a:rPr>
              <a:t>tab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4162680" y="4925880"/>
            <a:ext cx="1247400" cy="703800"/>
          </a:xfrm>
          <a:prstGeom prst="rect">
            <a:avLst/>
          </a:prstGeom>
          <a:solidFill>
            <a:srgbClr val="9090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entury Gothic"/>
              </a:rPr>
              <a:t>Protei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entury Gothic"/>
              </a:rPr>
              <a:t>tab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864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Century Gothic"/>
              </a:rPr>
              <a:t>Embedding domain knowledge in the db schema is expensive</a:t>
            </a:r>
            <a:endParaRPr b="0" lang="en-US" sz="40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601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The logical description and the physical database description of the biology are co-mingled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Therefore new biological knowledge will force: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chema changes: e.g. new tables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Query changes: that explicitly refer to tables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Middleware changes: to retrieve and form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GUI changes: to display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440" y="277920"/>
            <a:ext cx="9144000" cy="630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Century Gothic"/>
              </a:rPr>
              <a:t>After: domain knowledge is embedded in the </a:t>
            </a:r>
            <a:r>
              <a:rPr b="0" lang="en-US" sz="4000" spc="-1" strike="noStrike">
                <a:solidFill>
                  <a:srgbClr val="ffff00"/>
                </a:solidFill>
                <a:latin typeface="Century Gothic"/>
              </a:rPr>
              <a:t>ontology</a:t>
            </a:r>
            <a:endParaRPr b="0" lang="en-US" sz="4000" spc="-1" strike="noStrike">
              <a:solidFill>
                <a:srgbClr val="ffcc66"/>
              </a:solidFill>
              <a:latin typeface="Century Gothic"/>
            </a:endParaRPr>
          </a:p>
        </p:txBody>
      </p:sp>
      <p:pic>
        <p:nvPicPr>
          <p:cNvPr id="446" name="" descr=""/>
          <p:cNvPicPr/>
          <p:nvPr/>
        </p:nvPicPr>
        <p:blipFill>
          <a:blip r:embed="rId1"/>
          <a:stretch/>
        </p:blipFill>
        <p:spPr>
          <a:xfrm>
            <a:off x="0" y="1981080"/>
            <a:ext cx="5130720" cy="4114800"/>
          </a:xfrm>
          <a:prstGeom prst="rect">
            <a:avLst/>
          </a:prstGeom>
          <a:ln w="0">
            <a:noFill/>
          </a:ln>
        </p:spPr>
      </p:pic>
      <p:sp>
        <p:nvSpPr>
          <p:cNvPr id="447" name=""/>
          <p:cNvSpPr/>
          <p:nvPr/>
        </p:nvSpPr>
        <p:spPr>
          <a:xfrm>
            <a:off x="1895760" y="3260880"/>
            <a:ext cx="1247400" cy="703800"/>
          </a:xfrm>
          <a:prstGeom prst="rect">
            <a:avLst/>
          </a:prstGeom>
          <a:solidFill>
            <a:srgbClr val="9090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entury Gothic"/>
              </a:rPr>
              <a:t>featu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entury Gothic"/>
              </a:rPr>
              <a:t>tab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8" name="" descr=""/>
          <p:cNvPicPr/>
          <p:nvPr/>
        </p:nvPicPr>
        <p:blipFill>
          <a:blip r:embed="rId2"/>
          <a:srcRect l="12006" t="0" r="19199" b="0"/>
          <a:stretch/>
        </p:blipFill>
        <p:spPr>
          <a:xfrm>
            <a:off x="4564080" y="2352600"/>
            <a:ext cx="4579920" cy="4505400"/>
          </a:xfrm>
          <a:prstGeom prst="rect">
            <a:avLst/>
          </a:prstGeom>
          <a:ln w="0">
            <a:noFill/>
          </a:ln>
        </p:spPr>
      </p:pic>
      <p:sp>
        <p:nvSpPr>
          <p:cNvPr id="449" name=""/>
          <p:cNvSpPr/>
          <p:nvPr/>
        </p:nvSpPr>
        <p:spPr>
          <a:xfrm>
            <a:off x="5456160" y="2438280"/>
            <a:ext cx="792360" cy="432000"/>
          </a:xfrm>
          <a:prstGeom prst="ellipse">
            <a:avLst/>
          </a:prstGeom>
          <a:noFill/>
          <a:ln w="381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5861160" y="3449520"/>
            <a:ext cx="1225440" cy="360360"/>
          </a:xfrm>
          <a:prstGeom prst="ellipse">
            <a:avLst/>
          </a:prstGeom>
          <a:noFill/>
          <a:ln w="381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6294600" y="4513320"/>
            <a:ext cx="792000" cy="287280"/>
          </a:xfrm>
          <a:prstGeom prst="ellipse">
            <a:avLst/>
          </a:prstGeom>
          <a:noFill/>
          <a:ln w="381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52" name=""/>
          <p:cNvCxnSpPr>
            <a:stCxn id="447" idx="3"/>
            <a:endCxn id="449" idx="3"/>
          </p:cNvCxnSpPr>
          <p:nvPr/>
        </p:nvCxnSpPr>
        <p:spPr>
          <a:xfrm flipV="1">
            <a:off x="3047760" y="2824920"/>
            <a:ext cx="2524680" cy="786600"/>
          </a:xfrm>
          <a:prstGeom prst="curvedConnector2">
            <a:avLst/>
          </a:prstGeom>
          <a:ln w="38160">
            <a:solidFill>
              <a:srgbClr val="ffcc66"/>
            </a:solidFill>
            <a:miter/>
            <a:tailEnd len="med" type="triangle" w="med"/>
          </a:ln>
        </p:spPr>
      </p:cxnSp>
      <p:cxnSp>
        <p:nvCxnSpPr>
          <p:cNvPr id="453" name=""/>
          <p:cNvCxnSpPr>
            <a:stCxn id="447" idx="3"/>
            <a:endCxn id="450" idx="3"/>
          </p:cNvCxnSpPr>
          <p:nvPr/>
        </p:nvCxnSpPr>
        <p:spPr>
          <a:xfrm>
            <a:off x="3048120" y="3611160"/>
            <a:ext cx="2993040" cy="165960"/>
          </a:xfrm>
          <a:prstGeom prst="curvedConnector5">
            <a:avLst>
              <a:gd name="adj1" fmla="val 46998"/>
              <a:gd name="adj2" fmla="val 129130"/>
              <a:gd name="adj3" fmla="val 46998"/>
            </a:avLst>
          </a:prstGeom>
          <a:ln w="38160">
            <a:solidFill>
              <a:srgbClr val="ffcc66"/>
            </a:solidFill>
            <a:miter/>
            <a:tailEnd len="med" type="triangle" w="med"/>
          </a:ln>
        </p:spPr>
      </p:cxnSp>
      <p:cxnSp>
        <p:nvCxnSpPr>
          <p:cNvPr id="454" name=""/>
          <p:cNvCxnSpPr>
            <a:stCxn id="447" idx="3"/>
            <a:endCxn id="451" idx="3"/>
          </p:cNvCxnSpPr>
          <p:nvPr/>
        </p:nvCxnSpPr>
        <p:spPr>
          <a:xfrm>
            <a:off x="3047760" y="3611160"/>
            <a:ext cx="3362760" cy="1166040"/>
          </a:xfrm>
          <a:prstGeom prst="curvedConnector5">
            <a:avLst>
              <a:gd name="adj1" fmla="val 48244"/>
              <a:gd name="adj2" fmla="val 60809"/>
              <a:gd name="adj3" fmla="val 48244"/>
            </a:avLst>
          </a:prstGeom>
          <a:ln w="38160">
            <a:solidFill>
              <a:srgbClr val="ffcc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864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Century Gothic"/>
              </a:rPr>
              <a:t>Ontology driven db schema is less expensive to maintain</a:t>
            </a:r>
            <a:endParaRPr b="0" lang="en-US" sz="40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The logical description and the physical database description of the biology are developed independently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Therefore new biological knowledge will only require: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Ontology changes: e.g. new terms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GUI changes: display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entury Gothic"/>
              </a:rPr>
              <a:t>No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 schema changes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entury Gothic"/>
              </a:rPr>
              <a:t>No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 query changes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entury Gothic"/>
              </a:rPr>
              <a:t>No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 middleware changes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7" name="" descr=""/>
          <p:cNvPicPr/>
          <p:nvPr/>
        </p:nvPicPr>
        <p:blipFill>
          <a:blip r:embed="rId1"/>
          <a:stretch/>
        </p:blipFill>
        <p:spPr>
          <a:xfrm>
            <a:off x="638280" y="509760"/>
            <a:ext cx="2836800" cy="2814480"/>
          </a:xfrm>
          <a:prstGeom prst="rect">
            <a:avLst/>
          </a:prstGeom>
          <a:ln w="0">
            <a:noFill/>
          </a:ln>
        </p:spPr>
      </p:pic>
      <p:sp>
        <p:nvSpPr>
          <p:cNvPr id="458" name=""/>
          <p:cNvSpPr/>
          <p:nvPr/>
        </p:nvSpPr>
        <p:spPr>
          <a:xfrm>
            <a:off x="5105520" y="509760"/>
            <a:ext cx="365760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Gothic"/>
              </a:rPr>
              <a:t>Reality: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Gothic"/>
              </a:rPr>
              <a:t>ultimately this is what the ontology must reflec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9" name="" descr=""/>
          <p:cNvPicPr/>
          <p:nvPr/>
        </p:nvPicPr>
        <p:blipFill>
          <a:blip r:embed="rId1"/>
          <a:stretch/>
        </p:blipFill>
        <p:spPr>
          <a:xfrm>
            <a:off x="4114800" y="647640"/>
            <a:ext cx="4390920" cy="5562720"/>
          </a:xfrm>
          <a:prstGeom prst="rect">
            <a:avLst/>
          </a:prstGeom>
          <a:ln w="0">
            <a:noFill/>
          </a:ln>
        </p:spPr>
      </p:pic>
      <p:pic>
        <p:nvPicPr>
          <p:cNvPr id="460" name="" descr=""/>
          <p:cNvPicPr/>
          <p:nvPr/>
        </p:nvPicPr>
        <p:blipFill>
          <a:blip r:embed="rId2"/>
          <a:stretch/>
        </p:blipFill>
        <p:spPr>
          <a:xfrm>
            <a:off x="638280" y="509760"/>
            <a:ext cx="2836800" cy="2814480"/>
          </a:xfrm>
          <a:prstGeom prst="rect">
            <a:avLst/>
          </a:prstGeom>
          <a:ln w="0">
            <a:noFill/>
          </a:ln>
        </p:spPr>
      </p:pic>
      <p:cxnSp>
        <p:nvCxnSpPr>
          <p:cNvPr id="461" name=""/>
          <p:cNvCxnSpPr>
            <a:stCxn id="460" idx="0"/>
            <a:endCxn id="459" idx="0"/>
          </p:cNvCxnSpPr>
          <p:nvPr/>
        </p:nvCxnSpPr>
        <p:spPr>
          <a:xfrm flipH="1" rot="16200000">
            <a:off x="4114800" y="-1549080"/>
            <a:ext cx="138600" cy="4253760"/>
          </a:xfrm>
          <a:prstGeom prst="curvedConnector5">
            <a:avLst>
              <a:gd name="adj1" fmla="val -165364"/>
              <a:gd name="adj2" fmla="val 49995"/>
              <a:gd name="adj3" fmla="val -165364"/>
            </a:avLst>
          </a:prstGeom>
          <a:ln w="38160">
            <a:solidFill>
              <a:srgbClr val="ffcc66"/>
            </a:solidFill>
            <a:miter/>
            <a:headEnd len="med" type="stealth" w="med"/>
            <a:tailEnd len="med" type="stealth" w="med"/>
          </a:ln>
        </p:spPr>
      </p:cxnSp>
      <p:sp>
        <p:nvSpPr>
          <p:cNvPr id="462" name=""/>
          <p:cNvSpPr/>
          <p:nvPr/>
        </p:nvSpPr>
        <p:spPr>
          <a:xfrm>
            <a:off x="5486400" y="685800"/>
            <a:ext cx="3048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09082"/>
                </a:solidFill>
                <a:latin typeface="Century Gothic"/>
              </a:rPr>
              <a:t>Step 1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09082"/>
                </a:solidFill>
                <a:latin typeface="Century Gothic"/>
              </a:rPr>
              <a:t>Build an ontology that reflects rea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/>
          <p:nvPr/>
        </p:nvSpPr>
        <p:spPr>
          <a:xfrm>
            <a:off x="912960" y="3833640"/>
            <a:ext cx="2286000" cy="2514600"/>
          </a:xfrm>
          <a:prstGeom prst="flowChartMagneticDisk">
            <a:avLst/>
          </a:prstGeom>
          <a:solidFill>
            <a:srgbClr val="90908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Databas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UIDs serv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as proxies f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instanc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4" name="" descr=""/>
          <p:cNvPicPr/>
          <p:nvPr/>
        </p:nvPicPr>
        <p:blipFill>
          <a:blip r:embed="rId1"/>
          <a:stretch/>
        </p:blipFill>
        <p:spPr>
          <a:xfrm>
            <a:off x="638280" y="509760"/>
            <a:ext cx="2836800" cy="2814480"/>
          </a:xfrm>
          <a:prstGeom prst="rect">
            <a:avLst/>
          </a:prstGeom>
          <a:ln w="0">
            <a:noFill/>
          </a:ln>
        </p:spPr>
      </p:pic>
      <p:sp>
        <p:nvSpPr>
          <p:cNvPr id="465" name=""/>
          <p:cNvSpPr/>
          <p:nvPr/>
        </p:nvSpPr>
        <p:spPr>
          <a:xfrm>
            <a:off x="4038480" y="509760"/>
            <a:ext cx="47246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Gothic"/>
              </a:rPr>
              <a:t>Observations and experiment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4114800" y="4038480"/>
            <a:ext cx="4724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Patient I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Sequence access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Genetic strain I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67" name=""/>
          <p:cNvCxnSpPr>
            <a:stCxn id="464" idx="1"/>
            <a:endCxn id="463" idx="2"/>
          </p:cNvCxnSpPr>
          <p:nvPr/>
        </p:nvCxnSpPr>
        <p:spPr>
          <a:xfrm flipH="1" flipV="1" rot="10800000">
            <a:off x="637200" y="1916640"/>
            <a:ext cx="275400" cy="3174120"/>
          </a:xfrm>
          <a:prstGeom prst="curvedConnector5">
            <a:avLst>
              <a:gd name="adj1" fmla="val -160602"/>
              <a:gd name="adj2" fmla="val 50000"/>
              <a:gd name="adj3" fmla="val -160602"/>
            </a:avLst>
          </a:prstGeom>
          <a:ln w="38160">
            <a:solidFill>
              <a:srgbClr val="ffcc66"/>
            </a:solidFill>
            <a:miter/>
            <a:headEnd len="med" type="stealth" w="med"/>
            <a:tailEnd len="med" type="stealth" w="med"/>
          </a:ln>
        </p:spPr>
      </p:cxnSp>
      <p:sp>
        <p:nvSpPr>
          <p:cNvPr id="468" name=""/>
          <p:cNvSpPr/>
          <p:nvPr/>
        </p:nvSpPr>
        <p:spPr>
          <a:xfrm>
            <a:off x="380880" y="3352680"/>
            <a:ext cx="327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Step 2: Data capt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12960" y="3833640"/>
            <a:ext cx="2286000" cy="2514600"/>
          </a:xfrm>
          <a:prstGeom prst="flowChartMagneticDisk">
            <a:avLst/>
          </a:prstGeom>
          <a:solidFill>
            <a:srgbClr val="90908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Databas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UIDs serv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as proxies f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instanc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0" name="" descr=""/>
          <p:cNvPicPr/>
          <p:nvPr/>
        </p:nvPicPr>
        <p:blipFill>
          <a:blip r:embed="rId1"/>
          <a:stretch/>
        </p:blipFill>
        <p:spPr>
          <a:xfrm>
            <a:off x="4114800" y="647640"/>
            <a:ext cx="4390920" cy="5562720"/>
          </a:xfrm>
          <a:prstGeom prst="rect">
            <a:avLst/>
          </a:prstGeom>
          <a:ln w="0">
            <a:noFill/>
          </a:ln>
        </p:spPr>
      </p:pic>
      <p:pic>
        <p:nvPicPr>
          <p:cNvPr id="471" name="" descr=""/>
          <p:cNvPicPr/>
          <p:nvPr/>
        </p:nvPicPr>
        <p:blipFill>
          <a:blip r:embed="rId2"/>
          <a:stretch/>
        </p:blipFill>
        <p:spPr>
          <a:xfrm>
            <a:off x="638280" y="509760"/>
            <a:ext cx="2836800" cy="2814480"/>
          </a:xfrm>
          <a:prstGeom prst="rect">
            <a:avLst/>
          </a:prstGeom>
          <a:ln w="0">
            <a:noFill/>
          </a:ln>
        </p:spPr>
      </p:pic>
      <p:cxnSp>
        <p:nvCxnSpPr>
          <p:cNvPr id="472" name=""/>
          <p:cNvCxnSpPr>
            <a:stCxn id="471" idx="1"/>
            <a:endCxn id="469" idx="2"/>
          </p:cNvCxnSpPr>
          <p:nvPr/>
        </p:nvCxnSpPr>
        <p:spPr>
          <a:xfrm flipH="1" flipV="1" rot="10800000">
            <a:off x="637200" y="1916640"/>
            <a:ext cx="275400" cy="3174120"/>
          </a:xfrm>
          <a:prstGeom prst="curvedConnector5">
            <a:avLst>
              <a:gd name="adj1" fmla="val -176832"/>
              <a:gd name="adj2" fmla="val 50000"/>
              <a:gd name="adj3" fmla="val -176832"/>
            </a:avLst>
          </a:prstGeom>
          <a:ln w="38160">
            <a:solidFill>
              <a:srgbClr val="ffcc66"/>
            </a:solidFill>
            <a:miter/>
            <a:headEnd len="med" type="stealth" w="med"/>
            <a:tailEnd len="med" type="stealth" w="med"/>
          </a:ln>
        </p:spPr>
      </p:cxnSp>
      <p:cxnSp>
        <p:nvCxnSpPr>
          <p:cNvPr id="473" name=""/>
          <p:cNvCxnSpPr>
            <a:stCxn id="471" idx="0"/>
            <a:endCxn id="470" idx="0"/>
          </p:cNvCxnSpPr>
          <p:nvPr/>
        </p:nvCxnSpPr>
        <p:spPr>
          <a:xfrm flipH="1" rot="16200000">
            <a:off x="4114800" y="-1549080"/>
            <a:ext cx="138600" cy="4253760"/>
          </a:xfrm>
          <a:prstGeom prst="curvedConnector5">
            <a:avLst>
              <a:gd name="adj1" fmla="val -165364"/>
              <a:gd name="adj2" fmla="val 49995"/>
              <a:gd name="adj3" fmla="val -165364"/>
            </a:avLst>
          </a:prstGeom>
          <a:ln w="38160">
            <a:solidFill>
              <a:srgbClr val="ffcc66"/>
            </a:solidFill>
            <a:miter/>
            <a:headEnd len="med" type="stealth" w="med"/>
            <a:tailEnd len="med" type="stealth" w="med"/>
          </a:ln>
        </p:spPr>
      </p:cxnSp>
      <p:cxnSp>
        <p:nvCxnSpPr>
          <p:cNvPr id="474" name=""/>
          <p:cNvCxnSpPr>
            <a:stCxn id="469" idx="4"/>
            <a:endCxn id="470" idx="1"/>
          </p:cNvCxnSpPr>
          <p:nvPr/>
        </p:nvCxnSpPr>
        <p:spPr>
          <a:xfrm flipV="1">
            <a:off x="3198960" y="3428280"/>
            <a:ext cx="916560" cy="1662840"/>
          </a:xfrm>
          <a:prstGeom prst="curvedConnector5">
            <a:avLst>
              <a:gd name="adj1" fmla="val 49901"/>
              <a:gd name="adj2" fmla="val 50000"/>
              <a:gd name="adj3" fmla="val 49901"/>
            </a:avLst>
          </a:prstGeom>
          <a:ln w="38160">
            <a:solidFill>
              <a:srgbClr val="ffcc66"/>
            </a:solidFill>
            <a:miter/>
            <a:headEnd len="med" type="stealth" w="med"/>
            <a:tailEnd len="med" type="stealth" w="med"/>
          </a:ln>
        </p:spPr>
      </p:cxnSp>
      <p:sp>
        <p:nvSpPr>
          <p:cNvPr id="475" name=""/>
          <p:cNvSpPr/>
          <p:nvPr/>
        </p:nvSpPr>
        <p:spPr>
          <a:xfrm>
            <a:off x="5486400" y="685800"/>
            <a:ext cx="3048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09082"/>
                </a:solidFill>
                <a:latin typeface="Century Gothic"/>
              </a:rPr>
              <a:t>Step 1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09082"/>
                </a:solidFill>
                <a:latin typeface="Century Gothic"/>
              </a:rPr>
              <a:t>Build an ontology that reflects rea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380880" y="3352680"/>
            <a:ext cx="327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Step 2: Data capt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4038480" y="3629160"/>
            <a:ext cx="2286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09082"/>
                </a:solidFill>
                <a:latin typeface="Century Gothic"/>
              </a:rPr>
              <a:t>Step 3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09082"/>
                </a:solidFill>
                <a:latin typeface="Century Gothic"/>
              </a:rPr>
              <a:t>Classify data using the ontolog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entury Gothic"/>
              </a:rPr>
              <a:t>Ontology is a contract between researchers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601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A common language that allows us to share knowledge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Researchers have a stake in it: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Every individual will benefit by being able to </a:t>
            </a:r>
            <a:r>
              <a:rPr b="1" lang="en-US" sz="2400" spc="-1" strike="noStrike">
                <a:solidFill>
                  <a:srgbClr val="80ff00"/>
                </a:solidFill>
                <a:latin typeface="Century Gothic"/>
              </a:rPr>
              <a:t>accurately</a:t>
            </a: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 interpret someone else’s data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No more pre-scrubbing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No more time spent translating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entury Gothic"/>
              </a:rPr>
              <a:t>Rules on types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Don’t confuse types with instances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Don’t confuse instances with leaf nodes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Don’t confuse types with ideas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Don’t confuse types with ways of getting to know types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Don’t confuse types with ways of talking about types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Don’t confuse types with data about types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7240" y="23799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entury Gothic"/>
              </a:rPr>
              <a:t>An astronomy ontology should not include 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Century Gothic"/>
              </a:rPr>
              <a:t>'Buzz Aldrin'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entury Gothic"/>
              </a:rPr>
              <a:t>Rules on terms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Terms should be in the singular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Avoid abbreviations even when it is clear in context what they mean (‘breast’ for ‘breast tumor’)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Think of each term ‘A ’ in an ontology is shorthand for a term of the form: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‘</a:t>
            </a: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the type A ’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440" y="171360"/>
            <a:ext cx="9144000" cy="65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entury Gothic"/>
              </a:rPr>
              <a:t>Rules on Definitions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The terms used in a definition should be simpler (more intelligible) than the term to be defined; otherwise the definition provides no assistance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Definitions should be intelligible to both machines and humans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to human understanding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2" marL="1028520" indent="-205560">
              <a:lnSpc>
                <a:spcPct val="90000"/>
              </a:lnSpc>
              <a:spcBef>
                <a:spcPts val="499"/>
              </a:spcBef>
              <a:buClr>
                <a:srgbClr val="ccff6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Humans need clarity and modularity</a:t>
            </a: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to machine processing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2" marL="1028520" indent="-205560">
              <a:lnSpc>
                <a:spcPct val="90000"/>
              </a:lnSpc>
              <a:spcBef>
                <a:spcPts val="499"/>
              </a:spcBef>
              <a:buClr>
                <a:srgbClr val="ccff6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Machines can cope with the full formal representation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entury Gothic"/>
              </a:rPr>
              <a:t>Confusing non-useful definitions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Swimming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wimming is healthy and has 8 letters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Poland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e name of Poland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entury Gothic"/>
              </a:rPr>
              <a:t>When defining terms use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Century Gothic"/>
              </a:rPr>
              <a:t> Aristotelian definitions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The definition of ‘A’ takes the form: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an </a:t>
            </a:r>
            <a:r>
              <a:rPr b="0" lang="en-US" sz="2800" spc="-1" strike="noStrike">
                <a:solidFill>
                  <a:srgbClr val="80ff00"/>
                </a:solidFill>
                <a:latin typeface="Courier New"/>
              </a:rPr>
              <a:t>A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 =def. is a </a:t>
            </a:r>
            <a:r>
              <a:rPr b="0" lang="en-US" sz="2800" spc="-1" strike="noStrike">
                <a:solidFill>
                  <a:srgbClr val="80ff00"/>
                </a:solidFill>
                <a:latin typeface="Courier New"/>
              </a:rPr>
              <a:t>B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 which ..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where </a:t>
            </a:r>
            <a:r>
              <a:rPr b="0" lang="en-US" sz="2400" spc="-1" strike="noStrike">
                <a:solidFill>
                  <a:srgbClr val="80ff00"/>
                </a:solidFill>
                <a:latin typeface="Century Gothic"/>
              </a:rPr>
              <a:t>B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 is </a:t>
            </a:r>
            <a:r>
              <a:rPr b="0" lang="en-US" sz="2400" spc="-1" strike="noStrike">
                <a:solidFill>
                  <a:srgbClr val="80ff00"/>
                </a:solidFill>
                <a:latin typeface="Century Gothic"/>
              </a:rPr>
              <a:t>A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’s parent in the hierarchy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A human being =def. an </a:t>
            </a:r>
            <a:r>
              <a:rPr b="0" lang="en-US" sz="2800" spc="-1" strike="noStrike">
                <a:solidFill>
                  <a:srgbClr val="80ff00"/>
                </a:solidFill>
                <a:latin typeface="Century Gothic"/>
              </a:rPr>
              <a:t>animal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2800" spc="-1" strike="noStrike">
                <a:solidFill>
                  <a:srgbClr val="80ff00"/>
                </a:solidFill>
                <a:latin typeface="Century Gothic"/>
              </a:rPr>
              <a:t>which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 is rational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A helicase =def. an </a:t>
            </a:r>
            <a:r>
              <a:rPr b="0" lang="en-US" sz="2800" spc="-1" strike="noStrike">
                <a:solidFill>
                  <a:srgbClr val="80ff00"/>
                </a:solidFill>
                <a:latin typeface="Century Gothic"/>
              </a:rPr>
              <a:t>enzyme which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 catalyzes the hydrolysis of ATP to unwind the DNA helix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entury Gothic"/>
              </a:rPr>
              <a:t>Use of Aristotelian definitions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09480" y="198072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Makes defining terms easier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Each definition encapsulates in modular form the entire parentage of the defined term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The entire information content of the FMA’s term hierarchy and definitions can be translated very cleanly into a computer representation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Now accepted by GO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entury Gothic"/>
              </a:rPr>
              <a:t>Summary: How to build your ontology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Keep It Simple: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727920" indent="-280080">
              <a:spcBef>
                <a:spcPts val="601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lowest possible barrier to entry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35880" indent="-335880">
              <a:spcBef>
                <a:spcPts val="700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Technology independence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35880" indent="-335880">
              <a:spcBef>
                <a:spcPts val="700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Clarity of definitions and scope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35880" indent="-335880">
              <a:spcBef>
                <a:spcPts val="700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With new data, we change our minds”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727920" indent="-280080">
              <a:spcBef>
                <a:spcPts val="601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An ontology must adapt to reflect current understanding of reality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727920" indent="-280080">
              <a:spcBef>
                <a:spcPts val="601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Mechanisms to support change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" descr=""/>
          <p:cNvPicPr/>
          <p:nvPr/>
        </p:nvPicPr>
        <p:blipFill>
          <a:blip r:embed="rId1"/>
          <a:stretch/>
        </p:blipFill>
        <p:spPr>
          <a:xfrm>
            <a:off x="915840" y="1652760"/>
            <a:ext cx="7313760" cy="82440"/>
          </a:xfrm>
          <a:prstGeom prst="rect">
            <a:avLst/>
          </a:prstGeom>
          <a:ln w="0">
            <a:noFill/>
          </a:ln>
        </p:spPr>
      </p:pic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entury Gothic"/>
              </a:rPr>
              <a:t>How to build an ontology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Part 3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The sociology and organizational aspects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/>
          <p:nvPr/>
        </p:nvSpPr>
        <p:spPr>
          <a:xfrm>
            <a:off x="4440960" y="6269040"/>
            <a:ext cx="476784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entury Gothic"/>
              </a:rPr>
              <a:t>Adopted from “Open Source Menu for Success”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entury Gothic"/>
              </a:rPr>
              <a:t>Elements for Success: GO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A Community with a common vision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A pool of talented and motivated developers/scientists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A mix of academic and commercial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An organized, light weight approach to product development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A leadership structure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Communication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A well-defined scope, (our “business”)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501" name="" descr=""/>
          <p:cNvPicPr/>
          <p:nvPr/>
        </p:nvPicPr>
        <p:blipFill>
          <a:blip r:embed="rId1"/>
          <a:stretch/>
        </p:blipFill>
        <p:spPr>
          <a:xfrm>
            <a:off x="915840" y="1652760"/>
            <a:ext cx="7313760" cy="8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entury Gothic"/>
              </a:rPr>
              <a:t>Gene Ontology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ommunity annotation production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25800" indent="-325800">
              <a:spcBef>
                <a:spcPts val="799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Extreme Programming” techniques to distributed ontology generation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1" marL="705600" indent="-271440">
              <a:spcBef>
                <a:spcPts val="700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Revision control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705600" indent="-271440">
              <a:spcBef>
                <a:spcPts val="700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Nightly conflict resolution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705600" indent="-271440">
              <a:spcBef>
                <a:spcPts val="700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Users are integral to the team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705600" indent="-271440">
              <a:spcBef>
                <a:spcPts val="700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Rapid iterations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04" name=""/>
          <p:cNvCxnSpPr>
            <a:stCxn id="505" idx="2"/>
            <a:endCxn id="506" idx="0"/>
          </p:cNvCxnSpPr>
          <p:nvPr/>
        </p:nvCxnSpPr>
        <p:spPr>
          <a:xfrm flipV="1" rot="10800000">
            <a:off x="7187400" y="4633560"/>
            <a:ext cx="1080" cy="616680"/>
          </a:xfrm>
          <a:prstGeom prst="bentConnector2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507" name=""/>
          <p:cNvSpPr/>
          <p:nvPr/>
        </p:nvSpPr>
        <p:spPr>
          <a:xfrm>
            <a:off x="976320" y="200880"/>
            <a:ext cx="637920" cy="368280"/>
          </a:xfrm>
          <a:prstGeom prst="rect">
            <a:avLst/>
          </a:prstGeom>
          <a:solidFill>
            <a:srgbClr val="e9dc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366000" y="200880"/>
            <a:ext cx="891000" cy="368280"/>
          </a:xfrm>
          <a:prstGeom prst="rect">
            <a:avLst/>
          </a:prstGeom>
          <a:solidFill>
            <a:srgbClr val="e9dc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rve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6311880" y="5253840"/>
            <a:ext cx="1752480" cy="368280"/>
          </a:xfrm>
          <a:prstGeom prst="rect">
            <a:avLst/>
          </a:prstGeom>
          <a:solidFill>
            <a:srgbClr val="e9dc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2746440" y="644760"/>
            <a:ext cx="2130480" cy="1832760"/>
          </a:xfrm>
          <a:prstGeom prst="flowChartDecision">
            <a:avLst/>
          </a:prstGeom>
          <a:solidFill>
            <a:srgbClr val="e9dc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main covered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765000" y="1741680"/>
            <a:ext cx="1825920" cy="1284840"/>
          </a:xfrm>
          <a:prstGeom prst="flowChartDecision">
            <a:avLst/>
          </a:prstGeom>
          <a:solidFill>
            <a:srgbClr val="e9dc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blic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2898720" y="2884680"/>
            <a:ext cx="1825560" cy="1284840"/>
          </a:xfrm>
          <a:prstGeom prst="flowChartDecision">
            <a:avLst/>
          </a:prstGeom>
          <a:solidFill>
            <a:srgbClr val="e9dc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tiv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2822400" y="4332600"/>
            <a:ext cx="1978200" cy="1284840"/>
          </a:xfrm>
          <a:prstGeom prst="flowChartDecision">
            <a:avLst/>
          </a:prstGeom>
          <a:solidFill>
            <a:srgbClr val="e9dc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ied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715000" y="2860560"/>
            <a:ext cx="2948040" cy="736200"/>
          </a:xfrm>
          <a:prstGeom prst="flowChartDecision">
            <a:avLst/>
          </a:prstGeom>
          <a:solidFill>
            <a:srgbClr val="e9dc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unity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6311880" y="4261680"/>
            <a:ext cx="1752480" cy="368280"/>
          </a:xfrm>
          <a:prstGeom prst="rect">
            <a:avLst/>
          </a:prstGeom>
          <a:solidFill>
            <a:srgbClr val="e9dc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elo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791640" y="4025160"/>
            <a:ext cx="1003680" cy="368280"/>
          </a:xfrm>
          <a:prstGeom prst="rect">
            <a:avLst/>
          </a:prstGeom>
          <a:solidFill>
            <a:srgbClr val="e9dc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lva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5992920" y="6195240"/>
            <a:ext cx="2390760" cy="368280"/>
          </a:xfrm>
          <a:prstGeom prst="rect">
            <a:avLst/>
          </a:prstGeom>
          <a:solidFill>
            <a:srgbClr val="e9dc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aborate &amp; Lear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16" name=""/>
          <p:cNvCxnSpPr>
            <a:stCxn id="507" idx="3"/>
            <a:endCxn id="508" idx="1"/>
          </p:cNvCxnSpPr>
          <p:nvPr/>
        </p:nvCxnSpPr>
        <p:spPr>
          <a:xfrm>
            <a:off x="1620360" y="385560"/>
            <a:ext cx="1739160" cy="1080"/>
          </a:xfrm>
          <a:prstGeom prst="bentConnector2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517" name=""/>
          <p:cNvCxnSpPr>
            <a:stCxn id="508" idx="2"/>
            <a:endCxn id="509" idx="0"/>
          </p:cNvCxnSpPr>
          <p:nvPr/>
        </p:nvCxnSpPr>
        <p:spPr>
          <a:xfrm flipV="1" rot="10800000">
            <a:off x="3810960" y="572760"/>
            <a:ext cx="1080" cy="388080"/>
          </a:xfrm>
          <a:prstGeom prst="bentConnector2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518" name=""/>
          <p:cNvCxnSpPr/>
          <p:nvPr/>
        </p:nvCxnSpPr>
        <p:spPr>
          <a:xfrm flipV="1" rot="10800000">
            <a:off x="1677240" y="1522800"/>
            <a:ext cx="1069200" cy="497880"/>
          </a:xfrm>
          <a:prstGeom prst="bentConnector2">
            <a:avLst/>
          </a:prstGeom>
          <a:ln w="38160">
            <a:solidFill>
              <a:srgbClr val="80ff00"/>
            </a:solidFill>
            <a:prstDash val="dash"/>
            <a:miter/>
            <a:tailEnd len="med" type="triangle" w="med"/>
          </a:ln>
        </p:spPr>
      </p:cxnSp>
      <p:cxnSp>
        <p:nvCxnSpPr>
          <p:cNvPr id="519" name=""/>
          <p:cNvCxnSpPr>
            <a:stCxn id="510" idx="3"/>
            <a:endCxn id="513" idx="0"/>
          </p:cNvCxnSpPr>
          <p:nvPr/>
        </p:nvCxnSpPr>
        <p:spPr>
          <a:xfrm>
            <a:off x="2590560" y="2384280"/>
            <a:ext cx="4599720" cy="518400"/>
          </a:xfrm>
          <a:prstGeom prst="bentConnector2">
            <a:avLst/>
          </a:prstGeom>
          <a:ln cap="rnd" w="38160">
            <a:solidFill>
              <a:srgbClr val="ffff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520" name=""/>
          <p:cNvCxnSpPr>
            <a:stCxn id="509" idx="3"/>
            <a:endCxn id="513" idx="0"/>
          </p:cNvCxnSpPr>
          <p:nvPr/>
        </p:nvCxnSpPr>
        <p:spPr>
          <a:xfrm>
            <a:off x="4876560" y="1560600"/>
            <a:ext cx="2313720" cy="1342080"/>
          </a:xfrm>
          <a:prstGeom prst="bentConnector2">
            <a:avLst/>
          </a:prstGeom>
          <a:ln cap="rnd" w="38160">
            <a:solidFill>
              <a:srgbClr val="ffff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521" name=""/>
          <p:cNvCxnSpPr/>
          <p:nvPr/>
        </p:nvCxnSpPr>
        <p:spPr>
          <a:xfrm flipH="1" rot="16200000">
            <a:off x="2498400" y="1851480"/>
            <a:ext cx="491400" cy="2134440"/>
          </a:xfrm>
          <a:prstGeom prst="bentConnector3">
            <a:avLst>
              <a:gd name="adj1" fmla="val 49780"/>
            </a:avLst>
          </a:prstGeom>
          <a:ln w="38160">
            <a:solidFill>
              <a:srgbClr val="80ff00"/>
            </a:solidFill>
            <a:prstDash val="dash"/>
            <a:miter/>
            <a:tailEnd len="med" type="triangle" w="med"/>
          </a:ln>
        </p:spPr>
      </p:cxnSp>
      <p:cxnSp>
        <p:nvCxnSpPr>
          <p:cNvPr id="522" name=""/>
          <p:cNvCxnSpPr>
            <a:stCxn id="511" idx="2"/>
            <a:endCxn id="512" idx="0"/>
          </p:cNvCxnSpPr>
          <p:nvPr/>
        </p:nvCxnSpPr>
        <p:spPr>
          <a:xfrm flipV="1" rot="10800000">
            <a:off x="3810960" y="3852360"/>
            <a:ext cx="1080" cy="796320"/>
          </a:xfrm>
          <a:prstGeom prst="bentConnector2">
            <a:avLst/>
          </a:prstGeom>
          <a:ln w="38160">
            <a:solidFill>
              <a:srgbClr val="80ff00"/>
            </a:solidFill>
            <a:prstDash val="dash"/>
            <a:miter/>
            <a:tailEnd len="med" type="triangle" w="med"/>
          </a:ln>
        </p:spPr>
      </p:cxnSp>
      <p:cxnSp>
        <p:nvCxnSpPr>
          <p:cNvPr id="523" name=""/>
          <p:cNvCxnSpPr>
            <a:stCxn id="511" idx="1"/>
            <a:endCxn id="514" idx="3"/>
          </p:cNvCxnSpPr>
          <p:nvPr/>
        </p:nvCxnSpPr>
        <p:spPr>
          <a:xfrm flipV="1" rot="10800000">
            <a:off x="1802520" y="3526200"/>
            <a:ext cx="1096200" cy="683640"/>
          </a:xfrm>
          <a:prstGeom prst="bentConnector3">
            <a:avLst>
              <a:gd name="adj1" fmla="val 50000"/>
            </a:avLst>
          </a:prstGeom>
          <a:ln cap="rnd" w="38160">
            <a:solidFill>
              <a:srgbClr val="ffff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524" name=""/>
          <p:cNvCxnSpPr>
            <a:stCxn id="514" idx="1"/>
            <a:endCxn id="509" idx="0"/>
          </p:cNvCxnSpPr>
          <p:nvPr/>
        </p:nvCxnSpPr>
        <p:spPr>
          <a:xfrm flipH="1" rot="10800000">
            <a:off x="783720" y="959760"/>
            <a:ext cx="3028320" cy="3250440"/>
          </a:xfrm>
          <a:prstGeom prst="bentConnector4">
            <a:avLst>
              <a:gd name="adj1" fmla="val -7549"/>
              <a:gd name="adj2" fmla="val 107022"/>
            </a:avLst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525" name=""/>
          <p:cNvCxnSpPr>
            <a:stCxn id="512" idx="1"/>
            <a:endCxn id="514" idx="3"/>
          </p:cNvCxnSpPr>
          <p:nvPr/>
        </p:nvCxnSpPr>
        <p:spPr>
          <a:xfrm rot="10800000">
            <a:off x="1802520" y="4209480"/>
            <a:ext cx="1019880" cy="765720"/>
          </a:xfrm>
          <a:prstGeom prst="bentConnector3">
            <a:avLst>
              <a:gd name="adj1" fmla="val 50000"/>
            </a:avLst>
          </a:prstGeom>
          <a:ln cap="rnd" w="38160">
            <a:solidFill>
              <a:srgbClr val="ffff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526" name=""/>
          <p:cNvCxnSpPr>
            <a:stCxn id="512" idx="3"/>
            <a:endCxn id="506" idx="0"/>
          </p:cNvCxnSpPr>
          <p:nvPr/>
        </p:nvCxnSpPr>
        <p:spPr>
          <a:xfrm>
            <a:off x="4800600" y="4974840"/>
            <a:ext cx="2388240" cy="275400"/>
          </a:xfrm>
          <a:prstGeom prst="bentConnector2">
            <a:avLst/>
          </a:prstGeom>
          <a:ln w="38160">
            <a:solidFill>
              <a:srgbClr val="80ff00"/>
            </a:solidFill>
            <a:prstDash val="dash"/>
            <a:miter/>
            <a:tailEnd len="med" type="triangle" w="med"/>
          </a:ln>
        </p:spPr>
      </p:cxnSp>
      <p:cxnSp>
        <p:nvCxnSpPr>
          <p:cNvPr id="527" name=""/>
          <p:cNvCxnSpPr>
            <a:stCxn id="513" idx="3"/>
            <a:endCxn id="508" idx="3"/>
          </p:cNvCxnSpPr>
          <p:nvPr/>
        </p:nvCxnSpPr>
        <p:spPr>
          <a:xfrm flipH="1" flipV="1">
            <a:off x="4263480" y="385200"/>
            <a:ext cx="4399560" cy="2843640"/>
          </a:xfrm>
          <a:prstGeom prst="bentConnector3">
            <a:avLst>
              <a:gd name="adj1" fmla="val -5188"/>
            </a:avLst>
          </a:prstGeom>
          <a:ln cap="rnd" w="38160">
            <a:solidFill>
              <a:srgbClr val="ffff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528" name=""/>
          <p:cNvCxnSpPr>
            <a:stCxn id="513" idx="2"/>
            <a:endCxn id="505" idx="0"/>
          </p:cNvCxnSpPr>
          <p:nvPr/>
        </p:nvCxnSpPr>
        <p:spPr>
          <a:xfrm rot="5400000">
            <a:off x="6836400" y="3904920"/>
            <a:ext cx="704160" cy="2520"/>
          </a:xfrm>
          <a:prstGeom prst="bentConnector3">
            <a:avLst>
              <a:gd name="adj1" fmla="val 49872"/>
            </a:avLst>
          </a:prstGeom>
          <a:ln w="38160">
            <a:solidFill>
              <a:srgbClr val="80ff00"/>
            </a:solidFill>
            <a:prstDash val="dash"/>
            <a:miter/>
            <a:tailEnd len="med" type="triangle" w="med"/>
          </a:ln>
        </p:spPr>
      </p:cxnSp>
      <p:cxnSp>
        <p:nvCxnSpPr>
          <p:cNvPr id="529" name=""/>
          <p:cNvCxnSpPr>
            <a:stCxn id="506" idx="2"/>
            <a:endCxn id="515" idx="0"/>
          </p:cNvCxnSpPr>
          <p:nvPr/>
        </p:nvCxnSpPr>
        <p:spPr>
          <a:xfrm flipV="1" rot="10800000">
            <a:off x="7187400" y="5625720"/>
            <a:ext cx="1080" cy="565920"/>
          </a:xfrm>
          <a:prstGeom prst="bentConnector2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530" name=""/>
          <p:cNvSpPr/>
          <p:nvPr/>
        </p:nvSpPr>
        <p:spPr>
          <a:xfrm>
            <a:off x="687600" y="5324400"/>
            <a:ext cx="53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ff00"/>
                </a:solidFill>
                <a:latin typeface="Arial"/>
              </a:rPr>
              <a:t>y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687960" y="571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n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32" name=""/>
          <p:cNvCxnSpPr>
            <a:stCxn id="515" idx="3"/>
            <a:endCxn id="506" idx="3"/>
          </p:cNvCxnSpPr>
          <p:nvPr/>
        </p:nvCxnSpPr>
        <p:spPr>
          <a:xfrm flipH="1" flipV="1">
            <a:off x="8063640" y="5438160"/>
            <a:ext cx="320040" cy="942120"/>
          </a:xfrm>
          <a:prstGeom prst="bentConnector3">
            <a:avLst>
              <a:gd name="adj1" fmla="val -71621"/>
            </a:avLst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80880" y="747360"/>
            <a:ext cx="838224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entury Gothic"/>
              </a:rPr>
              <a:t>Is your domain covered?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Century Gothic"/>
              </a:rPr>
              <a:t>Due diligence &amp; background research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685800" y="3603240"/>
            <a:ext cx="7772400" cy="343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tep 1: Learn what is out there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The most comprehensive list is on the OBO site. </a:t>
            </a:r>
            <a:r>
              <a:rPr b="0" lang="en-US" sz="2800" spc="-1" strike="noStrike" u="sng">
                <a:solidFill>
                  <a:srgbClr val="ffcc66"/>
                </a:solidFill>
                <a:uFillTx/>
                <a:latin typeface="Century Gothic"/>
                <a:hlinkClick r:id="rId1"/>
              </a:rPr>
              <a:t>http://obo.sourceforge.net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39480" indent="-339480">
              <a:spcBef>
                <a:spcPts val="799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Assess ontologies critically and realistically.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440" y="306360"/>
            <a:ext cx="9144000" cy="625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800" y="-939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entury Gothic"/>
              </a:rPr>
              <a:t>It is privately held?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Century Gothic"/>
              </a:rPr>
              <a:t>Ontologies must be shared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77400" y="1919160"/>
            <a:ext cx="8991720" cy="581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Communities form scientific theories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that seek to explain all of the existing evidence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and can be used for prediction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These communities are all directed to the same biological reality, but have their own perspective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The computable representation must be shared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Ontology development is inherently collaborative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Open ontologies become connected to instance data &amp; this feeds back on ontology development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0" y="699840"/>
            <a:ext cx="91440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entury Gothic"/>
              </a:rPr>
              <a:t>Is it active?</a:t>
            </a:r>
            <a:r>
              <a:rPr b="0" lang="en-US" sz="4400" spc="-1" strike="noStrike">
                <a:solidFill>
                  <a:srgbClr val="ff0000"/>
                </a:solidFill>
                <a:latin typeface="Century Gothic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Century Gothic"/>
              </a:rPr>
              <a:t>Pragmatic assessment of an ontology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685800" y="3505320"/>
            <a:ext cx="7772400" cy="314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Is there access to help, e.g.: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help-me@weird.ontology.net ?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39480" indent="-339480">
              <a:spcBef>
                <a:spcPts val="799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Does a warm body answer help mail within a ‘reasonable’ time—say 2 working days ?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96440" y="6091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entury Gothic"/>
              </a:rPr>
              <a:t>Is it applied?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Century Gothic"/>
              </a:rPr>
              <a:t>Toy ontologies are not useful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Every ontology improves when it is applied to actual instances of data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It improves even more when these data are used to answer research questions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There will be fewer problems in the ontology and more commitment to fixing remaining problems when important research data is involved that scientists depend upon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Be very wary of ontologies that have never been applied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entury Gothic"/>
              </a:rPr>
              <a:t>Work with that community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To improve (if you found one)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To develop (if you did not)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ff00"/>
                </a:solidFill>
                <a:latin typeface="Century Gothic"/>
              </a:rPr>
              <a:t>How?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3" name=""/>
          <p:cNvSpPr/>
          <p:nvPr/>
        </p:nvSpPr>
        <p:spPr>
          <a:xfrm>
            <a:off x="6400800" y="3051720"/>
            <a:ext cx="1752480" cy="581400"/>
          </a:xfrm>
          <a:prstGeom prst="rect">
            <a:avLst/>
          </a:prstGeom>
          <a:solidFill>
            <a:srgbClr val="bbe0e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mpro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6081840" y="4680360"/>
            <a:ext cx="2390760" cy="1068840"/>
          </a:xfrm>
          <a:prstGeom prst="rect">
            <a:avLst/>
          </a:prstGeom>
          <a:solidFill>
            <a:srgbClr val="bbe0e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ollaborate and Lea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45" name=""/>
          <p:cNvCxnSpPr>
            <a:stCxn id="543" idx="2"/>
            <a:endCxn id="544" idx="0"/>
          </p:cNvCxnSpPr>
          <p:nvPr/>
        </p:nvCxnSpPr>
        <p:spPr>
          <a:xfrm flipV="1" rot="10800000">
            <a:off x="7276320" y="3636720"/>
            <a:ext cx="1080" cy="1040400"/>
          </a:xfrm>
          <a:prstGeom prst="bentConnector2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546" name=""/>
          <p:cNvCxnSpPr>
            <a:stCxn id="544" idx="2"/>
            <a:endCxn id="543" idx="1"/>
          </p:cNvCxnSpPr>
          <p:nvPr/>
        </p:nvCxnSpPr>
        <p:spPr>
          <a:xfrm flipV="1" rot="16200000">
            <a:off x="5633640" y="4109400"/>
            <a:ext cx="2410560" cy="876960"/>
          </a:xfrm>
          <a:prstGeom prst="bentConnector4">
            <a:avLst>
              <a:gd name="adj1" fmla="val -25556"/>
              <a:gd name="adj2" fmla="val 263203"/>
            </a:avLst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entury Gothic"/>
              </a:rPr>
              <a:t>Community vs. Committee ?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Many people have (understandably) reservations about collaborative development, because it can easily be confused with design-by-committee projects.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Members of a committee represent themselves.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Members of a community represent their community.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entury Gothic"/>
              </a:rPr>
              <a:t>Design for purpose - not in abstract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Who will use it?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If no one is interested, then go back to bed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What will they use it for?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Define the domain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Who will maintain it?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Be pragmatic and modest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864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entury Gothic"/>
              </a:rPr>
              <a:t>Start with a concrete proposal —not a blank slate.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But do not commit your ego to it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Distribute to a small group you respect: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With a shared commitment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With broad domain knowledge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Who will engage in vigorous debate without engaging their egos (or, at least not too much)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Who will do concrete work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entury Gothic"/>
              </a:rPr>
              <a:t>Step 1: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Alpha0: the first proposal - broad in breadth but shallow in depth. By one person with broad domain knowledge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Distribute to a small group (&lt;6)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Get together for two days and engage in vigorous discussion. Be open and frank. Argue, but do not be dogmatic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Reiterate over a period of months. Do as much as possible face-to-face, rather than by phone/email. Meet for 2 days every 3 months or so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entury Gothic"/>
              </a:rPr>
              <a:t>Step 2: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Distribute Alpha1 to your group.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18960" indent="-318960">
              <a:spcBef>
                <a:spcPts val="799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All now test this Alpha1 in real life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1" marL="690840" indent="-265680">
              <a:spcBef>
                <a:spcPts val="700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By classifying representations of instances with these types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18960" indent="-318960">
              <a:spcBef>
                <a:spcPts val="799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Do not worry that (at this stage) you if do not have tools.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entury Gothic"/>
              </a:rPr>
              <a:t>Step 3: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Reconvene as a group for two days.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22200" indent="-322200">
              <a:spcBef>
                <a:spcPts val="799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hare experiences from implementation: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1" marL="698400" indent="-268560">
              <a:spcBef>
                <a:spcPts val="700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Can your Alpha1 be implemented in a useful way ?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698400" indent="-268560">
              <a:spcBef>
                <a:spcPts val="700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What are the conceptual problems ?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698400" indent="-268560">
              <a:spcBef>
                <a:spcPts val="700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What are the structural problems ?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34880" y="5029200"/>
            <a:ext cx="82724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Microarray data from Figure 2K of Eisen et al. (1998).  Cluster analysis and display of genome-wide expression patterns, </a:t>
            </a:r>
            <a:r>
              <a:rPr b="0" i="1" lang="en-US" sz="1800" spc="-1" strike="noStrike">
                <a:solidFill>
                  <a:srgbClr val="ffffff"/>
                </a:solidFill>
                <a:latin typeface="Century Gothic"/>
              </a:rPr>
              <a:t>Proc. Natl. Acad. Sci</a:t>
            </a: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. </a:t>
            </a:r>
            <a:r>
              <a:rPr b="1" lang="en-US" sz="1800" spc="-1" strike="noStrike">
                <a:solidFill>
                  <a:srgbClr val="ffffff"/>
                </a:solidFill>
                <a:latin typeface="Century Gothic"/>
              </a:rPr>
              <a:t>95 </a:t>
            </a: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(25): 14863-14868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44600" y="1295280"/>
            <a:ext cx="1155600" cy="76212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118800"/>
            <a:ext cx="91440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entury Gothic"/>
              </a:rPr>
              <a:t>Annotation of Yeast Microarray Clusters Using GO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990720" y="2209680"/>
          <a:ext cx="8153280" cy="4587840"/>
        </p:xfrm>
        <a:graphic>
          <a:graphicData uri="http://schemas.openxmlformats.org/drawingml/2006/table">
            <a:tbl>
              <a:tblPr/>
              <a:tblGrid>
                <a:gridCol w="761760"/>
                <a:gridCol w="2133720"/>
                <a:gridCol w="2743200"/>
                <a:gridCol w="2514600"/>
              </a:tblGrid>
              <a:tr h="182880"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Osaka"/>
                        </a:rPr>
                        <a:t>GENE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Osaka"/>
                        </a:rPr>
                        <a:t>PROCES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Osaka"/>
                        </a:rPr>
                        <a:t>FUN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Osaka"/>
                        </a:rPr>
                        <a:t>CELLULAR COMPONENT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45800"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4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Osaka"/>
                        </a:rPr>
                        <a:t>SDH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4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Osaka"/>
                        </a:rPr>
                        <a:t>tricarboxylic acid cycl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4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Osaka"/>
                        </a:rPr>
                        <a:t>succinate dehydrogenas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4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Osaka"/>
                        </a:rPr>
                        <a:t>mitochondrial inner membran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5400"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Osaka"/>
                        </a:rPr>
                        <a:t>NDI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Osaka"/>
                        </a:rPr>
                        <a:t>oxidative phosphoryla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Osaka"/>
                        </a:rPr>
                        <a:t>NADH dehydrogenas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Osaka"/>
                        </a:rPr>
                        <a:t>mitochondrial inner membran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5400"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Osaka"/>
                        </a:rPr>
                        <a:t>QCR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Osaka"/>
                        </a:rPr>
                        <a:t>electron transport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Osaka"/>
                        </a:rPr>
                        <a:t>ubiquinol--cytochrome-c reductas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Osaka"/>
                        </a:rPr>
                        <a:t>mitochondrial inner membran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5400"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Osaka"/>
                        </a:rPr>
                        <a:t>COX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Osaka"/>
                        </a:rPr>
                        <a:t>oxidative phosphoryla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Osaka"/>
                        </a:rPr>
                        <a:t>cytochrome-c oxidas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Osaka"/>
                        </a:rPr>
                        <a:t>mitochondrial inner membran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5400"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Osaka"/>
                        </a:rPr>
                        <a:t>RIP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Osaka"/>
                        </a:rPr>
                        <a:t>electron transport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Osaka"/>
                        </a:rPr>
                        <a:t>Rieske Fe-S protei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Osaka"/>
                        </a:rPr>
                        <a:t>mitochondrial inner membran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5400"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Osaka"/>
                        </a:rPr>
                        <a:t>COX1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Osaka"/>
                        </a:rPr>
                        <a:t>oxidative phosphoryla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Osaka"/>
                        </a:rPr>
                        <a:t>cytochrome-c oxidas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Osaka"/>
                        </a:rPr>
                        <a:t>mitochondrial inner membran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5400"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Osaka"/>
                        </a:rPr>
                        <a:t>CYT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Osaka"/>
                        </a:rPr>
                        <a:t>electron transport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Osaka"/>
                        </a:rPr>
                        <a:t>cytochrome-c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Osaka"/>
                        </a:rPr>
                        <a:t>mitochondrial inner membran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5400"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Osaka"/>
                        </a:rPr>
                        <a:t>COR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Osaka"/>
                        </a:rPr>
                        <a:t>electron transport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Osaka"/>
                        </a:rPr>
                        <a:t>ubiquinol--cytochrome-c reductas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Osaka"/>
                        </a:rPr>
                        <a:t>mitochondrial inner membran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5400"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Osaka"/>
                        </a:rPr>
                        <a:t>SDH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Osaka"/>
                        </a:rPr>
                        <a:t>tricarboxylic acid cycl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Osaka"/>
                        </a:rPr>
                        <a:t>succinate dehydrogenase subunit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Osaka"/>
                        </a:rPr>
                        <a:t>mitochondrial inner membran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5400"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Osaka"/>
                        </a:rPr>
                        <a:t>SDH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Osaka"/>
                        </a:rPr>
                        <a:t>tricarboxylic acid cycl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Osaka"/>
                        </a:rPr>
                        <a:t>succinate dehydrogenase subunit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Osaka"/>
                        </a:rPr>
                        <a:t>mitochondrial inner membran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5400"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Osaka"/>
                        </a:rPr>
                        <a:t>SDH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Osaka"/>
                        </a:rPr>
                        <a:t>tricarboxylic acid cycl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Osaka"/>
                        </a:rPr>
                        <a:t>succinate dehydrogenase subunit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Osaka"/>
                        </a:rPr>
                        <a:t>mitochondrial inner membran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5400"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Osaka"/>
                        </a:rPr>
                        <a:t>MDH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Osaka"/>
                        </a:rPr>
                        <a:t>tricarboxylic acid cycl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Osaka"/>
                        </a:rPr>
                        <a:t>malate dehydrogenas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Osaka"/>
                        </a:rPr>
                        <a:t>mitochondrial matri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5400"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Osaka"/>
                        </a:rPr>
                        <a:t>QCR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Osaka"/>
                        </a:rPr>
                        <a:t>electron transport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Osaka"/>
                        </a:rPr>
                        <a:t>ubiquinol--cytochrome-c reductas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Osaka"/>
                        </a:rPr>
                        <a:t>mitochondrial inner membran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5400"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Osaka"/>
                        </a:rPr>
                        <a:t>CYT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Osaka"/>
                        </a:rPr>
                        <a:t>electron transport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Osaka"/>
                        </a:rPr>
                        <a:t>cytochrome-c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Osaka"/>
                        </a:rPr>
                        <a:t>mitochondrial inner membran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9" name=""/>
          <p:cNvGraphicFramePr/>
          <p:nvPr/>
        </p:nvGraphicFramePr>
        <p:xfrm>
          <a:off x="2951280" y="2495520"/>
          <a:ext cx="3078000" cy="192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951280" y="2495520"/>
                    <a:ext cx="3078000" cy="19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" name=""/>
          <p:cNvGraphicFramePr/>
          <p:nvPr/>
        </p:nvGraphicFramePr>
        <p:xfrm>
          <a:off x="2951280" y="2828880"/>
          <a:ext cx="3243240" cy="1476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951280" y="2828880"/>
                    <a:ext cx="3243240" cy="14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"/>
          <p:cNvSpPr/>
          <p:nvPr/>
        </p:nvSpPr>
        <p:spPr>
          <a:xfrm>
            <a:off x="3206880" y="2552760"/>
            <a:ext cx="139680" cy="0"/>
          </a:xfrm>
          <a:prstGeom prst="line">
            <a:avLst/>
          </a:prstGeom>
          <a:ln w="12600">
            <a:solidFill>
              <a:srgbClr val="4141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06880" y="4029120"/>
            <a:ext cx="139680" cy="0"/>
          </a:xfrm>
          <a:prstGeom prst="line">
            <a:avLst/>
          </a:prstGeom>
          <a:ln w="12600">
            <a:solidFill>
              <a:srgbClr val="4141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867280" y="2590920"/>
            <a:ext cx="457200" cy="1981080"/>
          </a:xfrm>
          <a:prstGeom prst="ellipse">
            <a:avLst/>
          </a:prstGeom>
          <a:noFill/>
          <a:ln w="572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entury Gothic"/>
              </a:rPr>
              <a:t>Step 4: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Establish a mechanism for change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Use CVS or Subversion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Limit the number of editors with write permission (ideally to one person)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Unique stable identifiers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History tracking of changes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Release a Beta1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Seriously implement Beta1 in real life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Build the ontology in depth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entury Gothic"/>
              </a:rPr>
              <a:t>Step 5: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After about 6 months reconvene and evaluate.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Is the ontology suited to its purpose ?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Is it, in practice, usable ?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Are we happy about its broad structure and content ?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entury Gothic"/>
              </a:rPr>
              <a:t>Step 6: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Go public.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Release ontology to community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Release the products of the annotations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Invite broad community input and establish a mechanism for this (e.g. SourceForge)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entury Gothic"/>
              </a:rPr>
              <a:t>Step 7: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Proselytize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Publish in  a high profile journal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Engage new user groups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Emphasize openness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Write a gran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entury Gothic"/>
              </a:rPr>
              <a:t>Step 8: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86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Iterate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Improvements come in two forms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It is impossible to get it right the 1st (or 2nd, or 3rd, …) time.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What we know about reality is continually growing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grpSp>
        <p:nvGrpSpPr>
          <p:cNvPr id="569" name=""/>
          <p:cNvGrpSpPr/>
          <p:nvPr/>
        </p:nvGrpSpPr>
        <p:grpSpPr>
          <a:xfrm>
            <a:off x="4969800" y="2689560"/>
            <a:ext cx="3502800" cy="3317400"/>
            <a:chOff x="4969800" y="2689560"/>
            <a:chExt cx="3502800" cy="3317400"/>
          </a:xfrm>
        </p:grpSpPr>
        <p:sp>
          <p:nvSpPr>
            <p:cNvPr id="570" name=""/>
            <p:cNvSpPr/>
            <p:nvPr/>
          </p:nvSpPr>
          <p:spPr>
            <a:xfrm>
              <a:off x="6400800" y="2689560"/>
              <a:ext cx="1752480" cy="581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00"/>
                  </a:solidFill>
                  <a:latin typeface="Arial"/>
                </a:rPr>
                <a:t>Improve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6081840" y="4318200"/>
              <a:ext cx="2390760" cy="10688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00"/>
                  </a:solidFill>
                  <a:latin typeface="Arial"/>
                </a:rPr>
                <a:t>Collaborate and Learn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572" name=""/>
            <p:cNvCxnSpPr>
              <a:stCxn id="570" idx="2"/>
              <a:endCxn id="571" idx="0"/>
            </p:cNvCxnSpPr>
            <p:nvPr/>
          </p:nvCxnSpPr>
          <p:spPr>
            <a:xfrm flipV="1" rot="10800000">
              <a:off x="7276320" y="3274560"/>
              <a:ext cx="1080" cy="1040400"/>
            </a:xfrm>
            <a:prstGeom prst="bentConnector2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73" name=""/>
            <p:cNvCxnSpPr>
              <a:stCxn id="571" idx="2"/>
              <a:endCxn id="570" idx="1"/>
            </p:cNvCxnSpPr>
            <p:nvPr/>
          </p:nvCxnSpPr>
          <p:spPr>
            <a:xfrm flipV="1" rot="16200000">
              <a:off x="5633640" y="3747240"/>
              <a:ext cx="2410560" cy="876960"/>
            </a:xfrm>
            <a:prstGeom prst="bentConnector4">
              <a:avLst>
                <a:gd name="adj1" fmla="val -25556"/>
                <a:gd name="adj2" fmla="val 263203"/>
              </a:avLst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entury Gothic"/>
              </a:rPr>
              <a:t>Step 9: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685800" y="13748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200" spc="-1" strike="noStrike">
                <a:solidFill>
                  <a:srgbClr val="ffffff"/>
                </a:solidFill>
                <a:latin typeface="Bradley Hand ITC TT-Bold"/>
              </a:rPr>
              <a:t>Bon appetit</a:t>
            </a:r>
            <a:endParaRPr b="0" lang="en-US" sz="7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115560" y="6091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entury Gothic"/>
              </a:rPr>
              <a:t>Use the power of 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Century Gothic"/>
              </a:rPr>
              <a:t>combination and collaboration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as far as possible don’t reinvent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35880" indent="-335880">
              <a:spcBef>
                <a:spcPts val="700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ontologies are like telephones: they are valuable only to the degree that they are used and networked with other ontologies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35880" indent="-335880">
              <a:spcBef>
                <a:spcPts val="700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but choose working telephones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35880" indent="-335880">
              <a:spcBef>
                <a:spcPts val="700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most telephones were broken when the technology was first being developed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"/>
          <p:cNvSpPr/>
          <p:nvPr/>
        </p:nvSpPr>
        <p:spPr>
          <a:xfrm>
            <a:off x="96696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entury Gothic"/>
              </a:rPr>
              <a:t>The National Center for Biomedical Ontology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tanford – Berkeley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Mayo – Victoria – Buffalo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UCSF – Oregon – Cambridge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94760" cy="7140600"/>
          </a:xfrm>
          <a:prstGeom prst="rect">
            <a:avLst/>
          </a:prstGeom>
          <a:ln w="0">
            <a:noFill/>
          </a:ln>
        </p:spPr>
      </p:pic>
      <p:sp>
        <p:nvSpPr>
          <p:cNvPr id="582" name=""/>
          <p:cNvSpPr/>
          <p:nvPr/>
        </p:nvSpPr>
        <p:spPr>
          <a:xfrm>
            <a:off x="1981080" y="3048120"/>
            <a:ext cx="2667240" cy="685800"/>
          </a:xfrm>
          <a:prstGeom prst="ellipse">
            <a:avLst/>
          </a:prstGeom>
          <a:noFill/>
          <a:ln w="7632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-2449800" y="3021480"/>
            <a:ext cx="14048280" cy="821880"/>
          </a:xfrm>
          <a:prstGeom prst="ellipse">
            <a:avLst/>
          </a:prstGeom>
          <a:noFill/>
          <a:ln w="7632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9ea8"/>
                </a:solidFill>
                <a:latin typeface="Century Gothic"/>
              </a:rPr>
              <a:t>Bioinformatics and Computational B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4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entury Gothic"/>
              </a:rPr>
              <a:t>National Centers for Biomedical Computing—2005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-591120">
              <a:spcBef>
                <a:spcPts val="799"/>
              </a:spcBef>
              <a:buClr>
                <a:srgbClr val="66ffcc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National Center for Integrative Biomedical Informatics (Michigan)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591120" indent="-591120">
              <a:spcBef>
                <a:spcPts val="799"/>
              </a:spcBef>
              <a:buClr>
                <a:srgbClr val="66ffcc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National Center for Multi-Scale Study of Cellular Networks (Columbia)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591120" indent="-591120">
              <a:spcBef>
                <a:spcPts val="799"/>
              </a:spcBef>
              <a:buClr>
                <a:srgbClr val="66ffcc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</a:rPr>
              <a:t>National Center for Biomedical Ontology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6T18:01:42Z</dcterms:created>
  <dc:creator>Suzanna Lewis</dc:creator>
  <dc:description/>
  <dc:language>en-US</dc:language>
  <cp:lastModifiedBy>Suzanna Lewis</cp:lastModifiedBy>
  <dcterms:modified xsi:type="dcterms:W3CDTF">2006-04-20T18:55:34Z</dcterms:modified>
  <cp:revision>167</cp:revision>
  <dc:subject/>
  <dc:title>The Joy of Ontology</dc:title>
</cp:coreProperties>
</file>